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72E-3798-4CB0-BD42-4BBA5B63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CB7-F4C7-4547-9F9A-4DF3D7DA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F29-C73B-4BE4-8C7F-B3F42D4E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3E6-178F-45EE-80C5-280F377B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036-9F54-4BF5-B976-7CA156DE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A7D-B811-436A-B475-381B862C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82B-F292-460C-BD57-F17F5F8E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B3B-12CC-401E-B200-E97967F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C9D-3F56-45FA-9F5B-75846B32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714-A98C-4587-B39B-1DED419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863-EE6C-4E84-8CB6-81F160B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969-C611-4184-A9E5-9B3AEA3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7DA7-FF1C-4B7F-BCAE-617B16BBBCC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Hacer un análisis de las nuevas (mejores) prácticas deseables en el proceso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fatizar en las partes del proceso en donde se identificaron las principales prácticas. 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Análisis de prácticas propuestas para rediseñ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57160" y="3143160"/>
          <a:ext cx="7810560" cy="1482840"/>
        </p:xfrm>
        <a:graphic>
          <a:graphicData uri="http://schemas.openxmlformats.org/drawingml/2006/table">
            <a:tbl>
              <a:tblPr/>
              <a:tblGrid>
                <a:gridCol w="2603520"/>
                <a:gridCol w="2603520"/>
                <a:gridCol w="2603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les Activ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Actu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Propue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Realizar simulación (Arena) y mostrar análisis cuantitativo (comparativo) que justifique el re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2" descr=""/>
          <p:cNvPicPr/>
          <p:nvPr/>
        </p:nvPicPr>
        <p:blipFill>
          <a:blip r:embed="rId13"/>
          <a:stretch/>
        </p:blipFill>
        <p:spPr>
          <a:xfrm>
            <a:off x="857160" y="2643120"/>
            <a:ext cx="7640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3T18:19:19Z</dcterms:modified>
  <cp:revision>64</cp:revision>
  <dc:subject/>
  <dc:title>Diapositiva 1</dc:title>
</cp:coreProperties>
</file>