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5866-A9F9-4D2A-AC2D-BCB929CE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080-F29F-4BEB-8F9D-E930F7BB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3118-00FA-49D8-BB9A-A2B8636A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7C78-16F2-42C4-83D0-E932EE3F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1B9-0B46-4F7D-BB22-D5C3575A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E17-3023-4F90-89F7-C29DA138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5894-8FE7-4824-A08A-4C309D06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29A-EBBC-4FBB-B6C3-76A2E36B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323-B32F-4A32-8F35-4D2DC81E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31CA-C43B-4F91-BA18-B723A383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8505-9913-4955-AD68-1DEAE30C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6C9-804C-4B9C-B2C0-BBC4F12B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60B4-8D1E-4FF2-974B-956E8461070F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2414520"/>
            <a:ext cx="9156960" cy="231624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 Imagen" descr="dii.jpg"/>
          <p:cNvPicPr/>
          <p:nvPr/>
        </p:nvPicPr>
        <p:blipFill>
          <a:blip r:embed="rId2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Hacer un análisis de las nuevas (mejores) prácticas deseables en el proceso en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Enfatizar en las partes del proceso en donde se identificaron las principales prácticas. (clase anter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6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75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1f497d"/>
                </a:solidFill>
                <a:latin typeface="Calibri"/>
              </a:rPr>
              <a:t>Análisis de prácticas propuestas para rediseñ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857160" y="3143160"/>
          <a:ext cx="7810560" cy="1482840"/>
        </p:xfrm>
        <a:graphic>
          <a:graphicData uri="http://schemas.openxmlformats.org/drawingml/2006/table">
            <a:tbl>
              <a:tblPr/>
              <a:tblGrid>
                <a:gridCol w="2603520"/>
                <a:gridCol w="2603520"/>
                <a:gridCol w="2603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ncipales Activida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ácticas Actu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ácticas Propues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78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9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3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4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91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1f497d"/>
                </a:solidFill>
                <a:latin typeface="Calibri"/>
              </a:rPr>
              <a:t>Realizar simulación (Arena) y mostrar análisis cuantitativo (comparativo) que justifique el re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2" descr=""/>
          <p:cNvPicPr/>
          <p:nvPr/>
        </p:nvPicPr>
        <p:blipFill>
          <a:blip r:embed="rId13"/>
          <a:stretch/>
        </p:blipFill>
        <p:spPr>
          <a:xfrm>
            <a:off x="857160" y="2643120"/>
            <a:ext cx="7640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9-04-23T18:19:19Z</dcterms:modified>
  <cp:revision>64</cp:revision>
  <dc:subject/>
  <dc:title>Diapositiva 1</dc:title>
</cp:coreProperties>
</file>