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B34-9772-4E4E-B230-E82E5FAA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64B-9014-4176-91E2-F647156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C6C-DC90-4311-9D47-8F3097B4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C71-0C2F-4BC0-B3CE-EC9C3FD9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AF0-ABF8-46AA-A8DE-62067A93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8FA-FAB5-424C-A647-13F03B18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B47-EA74-44AD-9C6C-EC7DF48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8EC-A435-4A9B-B571-842B8725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556-DF6E-4DF7-BB61-3405A4BF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CEF-44CE-4FF9-9647-B7A7B67C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0F5-B132-4DBD-B2CC-9FFDBF48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B98-036C-4067-AD2D-8633D1D9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D7E-CBF7-4E99-B1B7-3E897EAE1BA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Hacer un análisis de las nuevas (mejores) prácticas deseables en el proceso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fatizar en las partes del proceso en donde se identificaron las principales prácticas. 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Análisis de prácticas propuestas para rediseñ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3143160"/>
          <a:ext cx="7810560" cy="1482840"/>
        </p:xfrm>
        <a:graphic>
          <a:graphicData uri="http://schemas.openxmlformats.org/drawingml/2006/table">
            <a:tbl>
              <a:tblPr/>
              <a:tblGrid>
                <a:gridCol w="2603520"/>
                <a:gridCol w="2603520"/>
                <a:gridCol w="2603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les Activ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Actu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Propue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Realizar simulación (Arena) y mostrar análisis cuantitativo (comparativo) que justifique el re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3"/>
          <a:stretch/>
        </p:blipFill>
        <p:spPr>
          <a:xfrm>
            <a:off x="857160" y="2643120"/>
            <a:ext cx="7640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3T18:19:19Z</dcterms:modified>
  <cp:revision>64</cp:revision>
  <dc:subject/>
  <dc:title>Diapositiva 1</dc:title>
</cp:coreProperties>
</file>