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491-7D95-4FE1-9794-E2D4D247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686-71DB-434B-8BF6-D7B8D4A8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790E-17EC-47C3-B829-CBD7BADD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A22-B91D-42E6-A3E3-95EE5EBC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C40-A750-4889-95A9-8778C8D9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0E9-31E8-4E79-99CA-1F8C7585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D2F-FB90-4204-8B12-9245593F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6A3-3387-4C1B-862F-E1549E15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B43-F710-476B-9A26-FC10DD3E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521-67B5-4C05-AD98-5C6E3343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2D2-3743-4F49-9484-B57B9E7B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503-D23F-428D-86F6-DD7A4040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3057-A8AB-4E41-A480-F294000D4EEA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Hacer un análisis de las nuevas (mejores) prácticas deseables en el proceso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Enfatizar en las partes del proceso en donde se identificaron las principales prácticas. (clase ant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1f497d"/>
                </a:solidFill>
                <a:latin typeface="Calibri"/>
              </a:rPr>
              <a:t>Análisis de prácticas propuestas para rediseñ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57160" y="3143160"/>
          <a:ext cx="7810560" cy="1482840"/>
        </p:xfrm>
        <a:graphic>
          <a:graphicData uri="http://schemas.openxmlformats.org/drawingml/2006/table">
            <a:tbl>
              <a:tblPr/>
              <a:tblGrid>
                <a:gridCol w="2603520"/>
                <a:gridCol w="2603520"/>
                <a:gridCol w="2603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ales Activida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s Actu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s Propue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8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3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4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1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1f497d"/>
                </a:solidFill>
                <a:latin typeface="Calibri"/>
              </a:rPr>
              <a:t>Realizar simulación (Arena) y mostrar análisis cuantitativo (comparativo) que justifique el re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2" descr=""/>
          <p:cNvPicPr/>
          <p:nvPr/>
        </p:nvPicPr>
        <p:blipFill>
          <a:blip r:embed="rId13"/>
          <a:stretch/>
        </p:blipFill>
        <p:spPr>
          <a:xfrm>
            <a:off x="857160" y="2643120"/>
            <a:ext cx="76406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4-23T18:19:19Z</dcterms:modified>
  <cp:revision>64</cp:revision>
  <dc:subject/>
  <dc:title>Diapositiva 1</dc:title>
</cp:coreProperties>
</file>