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4FB-DB0B-4BEE-852D-C60B6287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C7A-8E66-4BE4-A9DD-DE1771E1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77F-EE05-47E9-A232-1AE27D67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380-EC54-463D-84EC-53F26938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4D5-EE7A-43D5-95CF-2151F603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DBD-D044-4DAC-812D-AA540392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F78-E8C0-4F94-A2BE-719B4C32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4C9-945D-4807-9B99-59EE9F74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C66-6756-4113-B49F-1C5C655D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AAF-8880-4C24-BBE5-74BC15D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E96-8D65-4D33-852B-6F406F93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2D6-5E63-4930-B3DE-8F455138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F6EA-D0C1-4C05-AD27-EB7D2A11BAB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prácticas actuale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Precauciones con la cultura, las personas, los procesos, factibilidad y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etodología pro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on pros y contras de las prácticas encontradas y con las prácticas que pudiesen involucrarse o cambiar en y el proce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se realizan llenando un formulario en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tienen tareas duplic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unificando la información se agilicen los proce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si se modifica el orden de la etapas en el proceso se pueda obtener una mejor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medidas de ef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Obtener parámetros de estas medidas de efectividad y simular en arena para obtener las actuales métrica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 idea es simular el sistema actual para “jugar” con los parámetros y ver cosas que a simple vista no son evid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quito los tiempos muertos mejora la velocidad del proceso? ¿Encuentro cuellos de botella? ¿Puedo mejorarl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Existen procesos en serie que puedan realizarse en paralel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reasigno tareas puedo obtener mejores resultados? ¿Tengo factib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Identificar práct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practicas actu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nuevas práct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Simulación en Arena y Análisis Cuantita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Wingdings"/>
                <a:ea typeface="Wingdings"/>
              </a:rPr>
              <a:t></a:t>
            </a: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Estos son los resultados que hoy se tien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264312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28800" y="35719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09T23:43:07Z</dcterms:modified>
  <cp:revision>57</cp:revision>
  <dc:subject/>
  <dc:title>Diapositiva 1</dc:title>
</cp:coreProperties>
</file>