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438-9901-49EC-B660-C5CBC243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BE1-18BA-41FB-AD3B-67DE1B8A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B5E-B74D-4296-8582-B476D076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868-06DE-4E98-ADF6-06874DC3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286-ADC0-44EA-83CF-C9E4DB23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119-B929-41D4-B6F2-7D70A602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E9D-7D04-44D3-9FF5-D0DB5D91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6FE-34AE-4080-9F65-D4C3F458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C2F-AD34-4254-BBB8-445DF7D7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8E65-99F6-47B8-A446-A9BB093C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E394-E483-422C-BC4F-1061FA2C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209-0A42-4975-8263-CCDFE04C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C4D1-B307-4656-B1F6-4843DF8075F5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prácticas actuale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Precauciones con la cultura, las personas, los procesos, factibilidad y tecnologías utiliz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etodología propuest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on pros y contras de las prácticas encontradas y con las prácticas que pudiesen involucrarse o cambiar en y el proces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7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se realizan llenando un formulario en pap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s labores tienen tareas duplica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unificando la información se agilicen los proces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Quizás si se modifica el orden de la etapas en el proceso se pueda obtener una mejor respues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9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Definir medidas de efectiv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Obtener parámetros de estas medidas de efectividad y simular en arena para obtener las actuales métricas del proces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La idea es simular el sistema actual para “jugar” con los parámetros y ver cosas que a simple vista no son eviden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05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quito los tiempos muertos mejora la velocidad del proceso? ¿Encuentro cuellos de botella? ¿Puedo mejorarl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Existen procesos en serie que puedan realizarse en paralel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¿Si reasigno tareas puedo obtener mejores resultados? ¿Tengo factibilida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Identificar práct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practicas actua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Matriz Cualitativa para las nuevas práctic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Simulación en Arena y Análisis Cuantita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Wingdings"/>
                <a:ea typeface="Wingdings"/>
              </a:rPr>
              <a:t></a:t>
            </a:r>
            <a:r>
              <a:rPr b="0" lang="es-CL" sz="3000" spc="-1" strike="noStrike">
                <a:solidFill>
                  <a:srgbClr val="1f497d"/>
                </a:solidFill>
                <a:latin typeface="Calibri"/>
              </a:rPr>
              <a:t>Estos son los resultados que hoy se tien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28800" y="2643120"/>
          <a:ext cx="6095880" cy="3715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928800" y="3571920"/>
          <a:ext cx="6095880" cy="3715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á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ct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8-09-09T23:43:07Z</dcterms:modified>
  <cp:revision>57</cp:revision>
  <dc:subject/>
  <dc:title>Diapositiva 1</dc:title>
</cp:coreProperties>
</file>