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778-57ED-47CF-A04D-950B8F96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4C2F-4C39-406C-9940-8E3A4D1E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DF3-721C-4883-847D-1FEA0D5A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3336-962F-4BA0-95DB-5A698FBB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CFF4-0198-4807-B8CE-AB8ADC7D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57D1-A5CC-4F86-B51E-9894815F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D618-D1D6-4AC2-AA08-FD0C8BA4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2700-A36C-4E33-BF4B-1BC199D7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DF8E-CF86-4579-92CD-3138D984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328-996D-489C-A46C-73CC9827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A71-7C05-4E67-9BD9-7231BFA5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1BF-89EA-4CF6-A5FF-50CA6F4C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0877-44FE-43C6-ACCD-39624139E08F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304812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Definir prácticas actuales del proce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Precauciones con la cultura, las personas, los procesos, factibilidad y tecnologías utiliz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etodología propues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on pros y contras de las prácticas encontradas y con las prácticas que pudiesen involucrarse o cambiar en y el proces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75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s labores se realizan llenando un formulario en pap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s labores tienen tareas duplic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Quizás unificando la información se agilicen los proces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Quizás si se modifica el orden de la etapas en el proceso se pueda obtener una mejor respues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7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9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Definir medidas de efe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Obtener parámetros de estas medidas de efectividad y simular en arena para obtener las actuales métricas del proce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 idea es simular el sistema actual para “jugar” con los parámetros y ver cosas que a simple vista no son eviden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9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05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Si quito los tiempos muertos mejora la velocidad del proceso? ¿Encuentro cuellos de botella? ¿Puedo mejorarl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Existen procesos en serie que puedan realizarse en paralel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Si reasigno tareas puedo obtener mejores resultados? ¿Tengo factibilida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0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0" name="2 Marcador de contenido"/>
          <p:cNvSpPr/>
          <p:nvPr/>
        </p:nvSpPr>
        <p:spPr>
          <a:xfrm>
            <a:off x="428760" y="1714680"/>
            <a:ext cx="82152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Identificar práctic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ualitativa para las practicas actua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ualitativa para las nuevas práct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Simulación en Arena y Análisis Cuantita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Wingdings"/>
                <a:ea typeface="Wingdings"/>
              </a:rPr>
              <a:t></a:t>
            </a: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Estos son los resultados que hoy se tien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28800" y="2643120"/>
          <a:ext cx="6095880" cy="3715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928800" y="3571920"/>
          <a:ext cx="6095880" cy="3715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ti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8-09-09T23:43:07Z</dcterms:modified>
  <cp:revision>57</cp:revision>
  <dc:subject/>
  <dc:title>Diapositiva 1</dc:title>
</cp:coreProperties>
</file>