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780840" y="1320480"/>
            <a:ext cx="4089240" cy="306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hdr"/>
          </p:nvPr>
        </p:nvSpPr>
        <p:spPr>
          <a:xfrm>
            <a:off x="63000" y="9303840"/>
            <a:ext cx="3549960" cy="3430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232920" y="-360"/>
            <a:ext cx="2846520" cy="3445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4296960" y="-360"/>
            <a:ext cx="3019320" cy="3445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stern"/>
          <p:cNvPicPr/>
          <p:nvPr/>
        </p:nvPicPr>
        <p:blipFill>
          <a:blip r:embed="rId2"/>
          <a:stretch/>
        </p:blipFill>
        <p:spPr>
          <a:xfrm>
            <a:off x="6046920" y="9228240"/>
            <a:ext cx="1209600" cy="311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../slides/slide11.xml"/><Relationship Id="rId3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../slides/slide13.xml"/><Relationship Id="rId3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../slides/slide16.xml"/><Relationship Id="rId3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../slides/slide20.xml"/><Relationship Id="rId3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" Target="../slides/slide22.xml"/><Relationship Id="rId4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" Target="../slides/slide24.xml"/><Relationship Id="rId4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470" name="Picture 3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71" name="Group 4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472" name="Text Box 5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Text Box 6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7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8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9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10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11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12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3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4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15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16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17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8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19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20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21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22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23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24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25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26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27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28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29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Line 30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645" name="Picture 4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46" name="Group 5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647" name="Text Box 6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Text Box 7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8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9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0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1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3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4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5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6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7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8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9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20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21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22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23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24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25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Line 26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27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28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29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Line 30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Line 31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680" name="Picture 4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81" name="Group 5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682" name="Text Box 6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Text Box 7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8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Line 9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10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11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12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13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14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15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16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7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18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Line 19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Line 20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21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Line 22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Line 23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Line 24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25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Line 26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Line 27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28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29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30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31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720" name="Picture 4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21" name="Group 5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722" name="Text Box 6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7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8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9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0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1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2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3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4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5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6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Line 17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Line 18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19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20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21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22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23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24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25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26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27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28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29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30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31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752" name="Picture 3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53" name="Group 4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754" name="Text Box 5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6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Line 7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8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Line 9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Line 10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Line 11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12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13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14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15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16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17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18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19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20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Line 21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22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Line 23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Line 24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Line 25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26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Line 27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28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29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30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792" name="Picture 4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93" name="Group 5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794" name="Text Box 6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Text Box 7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8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9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10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11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Line 12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13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14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15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16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17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18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19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Line 20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21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22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23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24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Line 25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26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Line 27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Line 28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29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30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31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8" name="Picture 5" descr=""/>
          <p:cNvPicPr/>
          <p:nvPr/>
        </p:nvPicPr>
        <p:blipFill>
          <a:blip r:embed="rId1"/>
          <a:stretch/>
        </p:blipFill>
        <p:spPr>
          <a:xfrm>
            <a:off x="2670120" y="132084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829" name="Group 6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830" name="Text Box 7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8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9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10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11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12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13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Line 14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5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16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Line 17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Line 18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19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20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21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22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Line 23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Line 24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Line 25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Line 26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Line 27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Line 28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Line 29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30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31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Line 32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6" name="Picture 36" descr=""/>
          <p:cNvPicPr/>
          <p:nvPr/>
        </p:nvPicPr>
        <p:blipFill>
          <a:blip r:embed="rId2"/>
          <a:stretch/>
        </p:blipFill>
        <p:spPr>
          <a:xfrm>
            <a:off x="2670120" y="5473800"/>
            <a:ext cx="4140360" cy="306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3" name="Picture 2" descr=""/>
          <p:cNvPicPr/>
          <p:nvPr/>
        </p:nvPicPr>
        <p:blipFill>
          <a:blip r:embed="rId1"/>
          <a:stretch/>
        </p:blipFill>
        <p:spPr>
          <a:xfrm>
            <a:off x="762120" y="132084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864" name="Group 3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865" name="Text Box 4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Text Box 5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6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Line 7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8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Line 9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10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Line 11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12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13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14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15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Line 16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Line 17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Line 18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Line 19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Line 20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Line 21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Line 22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Line 23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Line 24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25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Line 26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Line 27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28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Line 29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1" name="Picture 30" descr=""/>
          <p:cNvPicPr/>
          <p:nvPr/>
        </p:nvPicPr>
        <p:blipFill>
          <a:blip r:embed="rId2"/>
          <a:stretch/>
        </p:blipFill>
        <p:spPr>
          <a:xfrm>
            <a:off x="762120" y="5473800"/>
            <a:ext cx="4132080" cy="306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06" name="Group 32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507" name="Text Box 33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34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Line 35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36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37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38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39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40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41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42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43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44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45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46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47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48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49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50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51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52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53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54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55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56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Line 57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58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540" name="Picture 4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41" name="Group 5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542" name="Text Box 6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Text Box 7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8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10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11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12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13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14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5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16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7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18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19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20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21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22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23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24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25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26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27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28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29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30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31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575" name="Picture 4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76" name="Group 5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577" name="Text Box 6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Text Box 7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8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9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10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11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12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Line 13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14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15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16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17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18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19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20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21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22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23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24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25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Line 26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27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28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29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30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31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610" name="Picture 4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11" name="Group 5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612" name="Text Box 6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Text Box 7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8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9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Line 10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11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12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13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14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15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Line 16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7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8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19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20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21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22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23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24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25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26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27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28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29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30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31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C2C3-3A89-4863-963F-1A0DEEC3B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856E-6947-4FDF-AC65-477887BB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4FB0-B99E-4C8B-85D1-FB7C68399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2656-808B-4299-A3ED-7A0DE4DD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15F8-43A2-4F69-ABCC-A6BDB70C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B531-651F-4F4D-825F-E4C9A35D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63C8-4134-45B2-A050-48B67B06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D8FD-5829-4C9D-8FBD-DB4B4698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4CF7-47F6-4495-8C37-5255D8D0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A249-CF62-476C-B1F4-D924EB5A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351B-4ED5-4D62-AE50-92534DE4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E101-F209-444C-9180-90F814F4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DEB6-E5BB-4384-960A-D706CEB25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304920" y="6477120"/>
            <a:ext cx="525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Palatino Linotype"/>
              </a:rPr>
              <a:t>Análisis de Proceso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9" descr=""/>
          <p:cNvPicPr/>
          <p:nvPr/>
        </p:nvPicPr>
        <p:blipFill>
          <a:blip r:embed="rId2"/>
          <a:stretch/>
        </p:blipFill>
        <p:spPr>
          <a:xfrm>
            <a:off x="6981840" y="6299280"/>
            <a:ext cx="216216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17480"/>
            <a:ext cx="7772400" cy="1737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818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s-CL" sz="5400" spc="-1" strike="noStrike">
                <a:solidFill>
                  <a:srgbClr val="ffffff"/>
                </a:solidFill>
                <a:latin typeface="Georgia"/>
              </a:rPr>
              <a:t>Análisis de Proceso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8" descr="cha83930_1604"/>
          <p:cNvPicPr/>
          <p:nvPr/>
        </p:nvPicPr>
        <p:blipFill>
          <a:blip r:embed="rId1"/>
          <a:stretch/>
        </p:blipFill>
        <p:spPr>
          <a:xfrm>
            <a:off x="685800" y="2819520"/>
            <a:ext cx="792468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317520" y="152280"/>
            <a:ext cx="6845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onceptos &amp; Definicion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3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30120" y="107964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Ciclo</a:t>
            </a:r>
            <a:r>
              <a:rPr b="0" lang="es-CL" sz="2400" spc="-1" strike="noStrike">
                <a:solidFill>
                  <a:srgbClr val="3333cc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promedi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entre la producción de dos unidades  consecutivas en un procesos que produce continuament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apacidad</a:t>
            </a:r>
            <a:r>
              <a:rPr b="0" lang="es-CL" sz="2400" spc="-1" strike="noStrike">
                <a:solidFill>
                  <a:srgbClr val="3333cc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Producción 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promedi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por unidad de tiempo cuando el proceso produce continuament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Utilización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Producción / Capacida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Fluj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= Tiempo que una unidad pasa en el sistema (incluyendo tiempos de espera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2019600" y="3022560"/>
            <a:ext cx="566100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Capacidad = 1/ (Tiempo de Ciclo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301680" y="5019840"/>
            <a:ext cx="8702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Observacion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Las medidas tiempo de ciclo, capacidad, utilización, tiempo de flujo pueden aplicarse a cada proceso o al sistema completo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Tiempo de Flujo de un proceso no coincide necesariamente con Tiempo de Ciclo. Porqué?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17520" y="152280"/>
            <a:ext cx="6616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Mas Conceptos &amp; Definicion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380880" y="1130400"/>
            <a:ext cx="8534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Proceso en Batc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Varias unidades son procesada simultáneamente. El número de unidades procesadas simultáneamente se conoce como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amaño de Lote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Batch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uello de Botella (CB)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Operación/Recurso que limita la produccion total de un proceso: usualmente es la operación/recurso con menor capacida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apacidad del Sistema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Capacidad del C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Ciclo del Sistema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de Ciclo del C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Ocios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durante el cual una operación/recursos no está produciend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982800" y="2438280"/>
            <a:ext cx="737568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Tiempo de Flujo = Tiempo de Ciclo </a:t>
            </a:r>
            <a:r>
              <a:rPr b="0" lang="es-CL" sz="24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 Batc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3816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Análisis de Proceso con un Horn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3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43080" y="1270080"/>
          <a:ext cx="8420040" cy="4700520"/>
        </p:xfrm>
        <a:graphic>
          <a:graphicData uri="http://schemas.openxmlformats.org/drawingml/2006/table">
            <a:tbl>
              <a:tblPr/>
              <a:tblGrid>
                <a:gridCol w="1126800"/>
                <a:gridCol w="1019160"/>
                <a:gridCol w="1320840"/>
                <a:gridCol w="1219320"/>
                <a:gridCol w="1066680"/>
                <a:gridCol w="1295640"/>
                <a:gridCol w="1371600"/>
              </a:tblGrid>
              <a:tr h="578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Tamaño Orden = 1 dz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Tamaño Orden = 2 dz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ida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den)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ida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den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zcla 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iad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orn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2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friad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init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init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mpaq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ega y Pag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h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h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mi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Text Box 413"/>
          <p:cNvSpPr/>
          <p:nvPr/>
        </p:nvSpPr>
        <p:spPr>
          <a:xfrm>
            <a:off x="1066680" y="59436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Georgia"/>
              </a:rPr>
              <a:t>Ver transparencias que  siguen con la discusión de estos valore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469800" y="152280"/>
            <a:ext cx="5676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arta Gant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92120" y="1171440"/>
            <a:ext cx="842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anto tiempo toma producir 1 dz. con un solo horno? 2 dzs? 3 dzs?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93"/>
          <p:cNvGrpSpPr/>
          <p:nvPr/>
        </p:nvGrpSpPr>
        <p:grpSpPr>
          <a:xfrm>
            <a:off x="1609560" y="5102280"/>
            <a:ext cx="6791400" cy="680040"/>
            <a:chOff x="1609560" y="5102280"/>
            <a:chExt cx="6791400" cy="680040"/>
          </a:xfrm>
        </p:grpSpPr>
        <p:sp>
          <p:nvSpPr>
            <p:cNvPr id="188" name="Line 80"/>
            <p:cNvSpPr/>
            <p:nvPr/>
          </p:nvSpPr>
          <p:spPr>
            <a:xfrm>
              <a:off x="1609560" y="5416560"/>
              <a:ext cx="38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81"/>
            <p:cNvSpPr/>
            <p:nvPr/>
          </p:nvSpPr>
          <p:spPr>
            <a:xfrm>
              <a:off x="161928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82"/>
            <p:cNvSpPr/>
            <p:nvPr/>
          </p:nvSpPr>
          <p:spPr>
            <a:xfrm>
              <a:off x="5457960" y="5102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83"/>
            <p:cNvSpPr/>
            <p:nvPr/>
          </p:nvSpPr>
          <p:spPr>
            <a:xfrm>
              <a:off x="693432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84"/>
            <p:cNvSpPr/>
            <p:nvPr/>
          </p:nvSpPr>
          <p:spPr>
            <a:xfrm>
              <a:off x="840096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85"/>
            <p:cNvSpPr/>
            <p:nvPr/>
          </p:nvSpPr>
          <p:spPr>
            <a:xfrm>
              <a:off x="5472000" y="5416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86"/>
            <p:cNvSpPr/>
            <p:nvPr/>
          </p:nvSpPr>
          <p:spPr>
            <a:xfrm>
              <a:off x="6939000" y="5416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87"/>
            <p:cNvSpPr/>
            <p:nvPr/>
          </p:nvSpPr>
          <p:spPr>
            <a:xfrm>
              <a:off x="3001320" y="538344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1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r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88"/>
            <p:cNvSpPr/>
            <p:nvPr/>
          </p:nvSpPr>
          <p:spPr>
            <a:xfrm>
              <a:off x="3057480" y="512136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26 mi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89"/>
            <p:cNvSpPr/>
            <p:nvPr/>
          </p:nvSpPr>
          <p:spPr>
            <a:xfrm>
              <a:off x="5796000" y="5381640"/>
              <a:ext cx="81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2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d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90"/>
            <p:cNvSpPr/>
            <p:nvPr/>
          </p:nvSpPr>
          <p:spPr>
            <a:xfrm>
              <a:off x="5818320" y="511992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10 mi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91"/>
            <p:cNvSpPr/>
            <p:nvPr/>
          </p:nvSpPr>
          <p:spPr>
            <a:xfrm>
              <a:off x="7290720" y="537372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3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r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92"/>
            <p:cNvSpPr/>
            <p:nvPr/>
          </p:nvSpPr>
          <p:spPr>
            <a:xfrm>
              <a:off x="7313760" y="511200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10 mi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Text Box 96"/>
          <p:cNvSpPr/>
          <p:nvPr/>
        </p:nvSpPr>
        <p:spPr>
          <a:xfrm>
            <a:off x="493200" y="5970600"/>
            <a:ext cx="636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Qué pasa con otros recursos como Bandejas y Trabajo?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275"/>
          <p:cNvGrpSpPr/>
          <p:nvPr/>
        </p:nvGrpSpPr>
        <p:grpSpPr>
          <a:xfrm>
            <a:off x="346680" y="2286000"/>
            <a:ext cx="8670240" cy="2838600"/>
            <a:chOff x="346680" y="2286000"/>
            <a:chExt cx="8670240" cy="2838600"/>
          </a:xfrm>
        </p:grpSpPr>
        <p:sp>
          <p:nvSpPr>
            <p:cNvPr id="203" name="AutoShape 97"/>
            <p:cNvSpPr/>
            <p:nvPr/>
          </p:nvSpPr>
          <p:spPr>
            <a:xfrm>
              <a:off x="425160" y="2286000"/>
              <a:ext cx="8585280" cy="28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99"/>
            <p:cNvSpPr/>
            <p:nvPr/>
          </p:nvSpPr>
          <p:spPr>
            <a:xfrm>
              <a:off x="431640" y="3124080"/>
              <a:ext cx="8574120" cy="98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100"/>
            <p:cNvSpPr/>
            <p:nvPr/>
          </p:nvSpPr>
          <p:spPr>
            <a:xfrm>
              <a:off x="431640" y="3521160"/>
              <a:ext cx="8574120" cy="9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101"/>
            <p:cNvSpPr/>
            <p:nvPr/>
          </p:nvSpPr>
          <p:spPr>
            <a:xfrm>
              <a:off x="431640" y="3919680"/>
              <a:ext cx="8574120" cy="96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102"/>
            <p:cNvSpPr/>
            <p:nvPr/>
          </p:nvSpPr>
          <p:spPr>
            <a:xfrm>
              <a:off x="431640" y="4316400"/>
              <a:ext cx="8574120" cy="9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103"/>
            <p:cNvSpPr/>
            <p:nvPr/>
          </p:nvSpPr>
          <p:spPr>
            <a:xfrm>
              <a:off x="431640" y="4713120"/>
              <a:ext cx="8574120" cy="98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104"/>
            <p:cNvSpPr/>
            <p:nvPr/>
          </p:nvSpPr>
          <p:spPr>
            <a:xfrm>
              <a:off x="706320" y="2913120"/>
              <a:ext cx="70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Proceso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105"/>
            <p:cNvSpPr/>
            <p:nvPr/>
          </p:nvSpPr>
          <p:spPr>
            <a:xfrm>
              <a:off x="175536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106"/>
            <p:cNvSpPr/>
            <p:nvPr/>
          </p:nvSpPr>
          <p:spPr>
            <a:xfrm>
              <a:off x="205056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07"/>
            <p:cNvSpPr/>
            <p:nvPr/>
          </p:nvSpPr>
          <p:spPr>
            <a:xfrm>
              <a:off x="234432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108"/>
            <p:cNvSpPr/>
            <p:nvPr/>
          </p:nvSpPr>
          <p:spPr>
            <a:xfrm>
              <a:off x="263952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109"/>
            <p:cNvSpPr/>
            <p:nvPr/>
          </p:nvSpPr>
          <p:spPr>
            <a:xfrm>
              <a:off x="28933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110"/>
            <p:cNvSpPr/>
            <p:nvPr/>
          </p:nvSpPr>
          <p:spPr>
            <a:xfrm>
              <a:off x="31888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111"/>
            <p:cNvSpPr/>
            <p:nvPr/>
          </p:nvSpPr>
          <p:spPr>
            <a:xfrm>
              <a:off x="34822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112"/>
            <p:cNvSpPr/>
            <p:nvPr/>
          </p:nvSpPr>
          <p:spPr>
            <a:xfrm>
              <a:off x="37778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113"/>
            <p:cNvSpPr/>
            <p:nvPr/>
          </p:nvSpPr>
          <p:spPr>
            <a:xfrm>
              <a:off x="40712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114"/>
            <p:cNvSpPr/>
            <p:nvPr/>
          </p:nvSpPr>
          <p:spPr>
            <a:xfrm>
              <a:off x="43668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115"/>
            <p:cNvSpPr/>
            <p:nvPr/>
          </p:nvSpPr>
          <p:spPr>
            <a:xfrm>
              <a:off x="46602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116"/>
            <p:cNvSpPr/>
            <p:nvPr/>
          </p:nvSpPr>
          <p:spPr>
            <a:xfrm>
              <a:off x="49557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117"/>
            <p:cNvSpPr/>
            <p:nvPr/>
          </p:nvSpPr>
          <p:spPr>
            <a:xfrm>
              <a:off x="52491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118"/>
            <p:cNvSpPr/>
            <p:nvPr/>
          </p:nvSpPr>
          <p:spPr>
            <a:xfrm>
              <a:off x="55447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119"/>
            <p:cNvSpPr/>
            <p:nvPr/>
          </p:nvSpPr>
          <p:spPr>
            <a:xfrm>
              <a:off x="58381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120"/>
            <p:cNvSpPr/>
            <p:nvPr/>
          </p:nvSpPr>
          <p:spPr>
            <a:xfrm>
              <a:off x="61336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121"/>
            <p:cNvSpPr/>
            <p:nvPr/>
          </p:nvSpPr>
          <p:spPr>
            <a:xfrm>
              <a:off x="64270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122"/>
            <p:cNvSpPr/>
            <p:nvPr/>
          </p:nvSpPr>
          <p:spPr>
            <a:xfrm>
              <a:off x="67226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Rectangle 123"/>
            <p:cNvSpPr/>
            <p:nvPr/>
          </p:nvSpPr>
          <p:spPr>
            <a:xfrm>
              <a:off x="70160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124"/>
            <p:cNvSpPr/>
            <p:nvPr/>
          </p:nvSpPr>
          <p:spPr>
            <a:xfrm>
              <a:off x="73098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125"/>
            <p:cNvSpPr/>
            <p:nvPr/>
          </p:nvSpPr>
          <p:spPr>
            <a:xfrm>
              <a:off x="76050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126"/>
            <p:cNvSpPr/>
            <p:nvPr/>
          </p:nvSpPr>
          <p:spPr>
            <a:xfrm>
              <a:off x="78987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127"/>
            <p:cNvSpPr/>
            <p:nvPr/>
          </p:nvSpPr>
          <p:spPr>
            <a:xfrm>
              <a:off x="81943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128"/>
            <p:cNvSpPr/>
            <p:nvPr/>
          </p:nvSpPr>
          <p:spPr>
            <a:xfrm>
              <a:off x="84877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129"/>
            <p:cNvSpPr/>
            <p:nvPr/>
          </p:nvSpPr>
          <p:spPr>
            <a:xfrm>
              <a:off x="87832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130"/>
            <p:cNvSpPr/>
            <p:nvPr/>
          </p:nvSpPr>
          <p:spPr>
            <a:xfrm>
              <a:off x="346680" y="3273480"/>
              <a:ext cx="103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         </a:t>
              </a: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Mezcla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131"/>
            <p:cNvSpPr/>
            <p:nvPr/>
          </p:nvSpPr>
          <p:spPr>
            <a:xfrm>
              <a:off x="835920" y="3670200"/>
              <a:ext cx="52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993300"/>
                  </a:solidFill>
                  <a:latin typeface="Arial"/>
                </a:rPr>
                <a:t>Horno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132"/>
            <p:cNvSpPr/>
            <p:nvPr/>
          </p:nvSpPr>
          <p:spPr>
            <a:xfrm>
              <a:off x="690120" y="4068720"/>
              <a:ext cx="72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nfriado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133"/>
            <p:cNvSpPr/>
            <p:nvPr/>
          </p:nvSpPr>
          <p:spPr>
            <a:xfrm>
              <a:off x="703440" y="4465800"/>
              <a:ext cx="80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mpaque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134"/>
            <p:cNvSpPr/>
            <p:nvPr/>
          </p:nvSpPr>
          <p:spPr>
            <a:xfrm>
              <a:off x="562320" y="4863960"/>
              <a:ext cx="100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nt. &amp; Pago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135"/>
            <p:cNvSpPr/>
            <p:nvPr/>
          </p:nvSpPr>
          <p:spPr>
            <a:xfrm>
              <a:off x="5054040" y="2708280"/>
              <a:ext cx="54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minutos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136"/>
            <p:cNvSpPr/>
            <p:nvPr/>
          </p:nvSpPr>
          <p:spPr>
            <a:xfrm>
              <a:off x="1775520" y="2301840"/>
              <a:ext cx="5624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800000"/>
                  </a:solidFill>
                  <a:latin typeface="Arial"/>
                </a:rPr>
                <a:t>Carta Gantt Chart con un Horno (Orden = 1 dz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137"/>
            <p:cNvSpPr/>
            <p:nvPr/>
          </p:nvSpPr>
          <p:spPr>
            <a:xfrm>
              <a:off x="19303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138"/>
            <p:cNvSpPr/>
            <p:nvPr/>
          </p:nvSpPr>
          <p:spPr>
            <a:xfrm>
              <a:off x="193032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139"/>
            <p:cNvSpPr/>
            <p:nvPr/>
          </p:nvSpPr>
          <p:spPr>
            <a:xfrm>
              <a:off x="22237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140"/>
            <p:cNvSpPr/>
            <p:nvPr/>
          </p:nvSpPr>
          <p:spPr>
            <a:xfrm>
              <a:off x="22237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141"/>
            <p:cNvSpPr/>
            <p:nvPr/>
          </p:nvSpPr>
          <p:spPr>
            <a:xfrm>
              <a:off x="25192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142"/>
            <p:cNvSpPr/>
            <p:nvPr/>
          </p:nvSpPr>
          <p:spPr>
            <a:xfrm>
              <a:off x="251928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143"/>
            <p:cNvSpPr/>
            <p:nvPr/>
          </p:nvSpPr>
          <p:spPr>
            <a:xfrm>
              <a:off x="28126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144"/>
            <p:cNvSpPr/>
            <p:nvPr/>
          </p:nvSpPr>
          <p:spPr>
            <a:xfrm>
              <a:off x="28126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145"/>
            <p:cNvSpPr/>
            <p:nvPr/>
          </p:nvSpPr>
          <p:spPr>
            <a:xfrm>
              <a:off x="31082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146"/>
            <p:cNvSpPr/>
            <p:nvPr/>
          </p:nvSpPr>
          <p:spPr>
            <a:xfrm>
              <a:off x="310824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147"/>
            <p:cNvSpPr/>
            <p:nvPr/>
          </p:nvSpPr>
          <p:spPr>
            <a:xfrm>
              <a:off x="34016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148"/>
            <p:cNvSpPr/>
            <p:nvPr/>
          </p:nvSpPr>
          <p:spPr>
            <a:xfrm>
              <a:off x="340164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149"/>
            <p:cNvSpPr/>
            <p:nvPr/>
          </p:nvSpPr>
          <p:spPr>
            <a:xfrm>
              <a:off x="36972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150"/>
            <p:cNvSpPr/>
            <p:nvPr/>
          </p:nvSpPr>
          <p:spPr>
            <a:xfrm>
              <a:off x="369720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51"/>
            <p:cNvSpPr/>
            <p:nvPr/>
          </p:nvSpPr>
          <p:spPr>
            <a:xfrm>
              <a:off x="39906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152"/>
            <p:cNvSpPr/>
            <p:nvPr/>
          </p:nvSpPr>
          <p:spPr>
            <a:xfrm>
              <a:off x="399060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153"/>
            <p:cNvSpPr/>
            <p:nvPr/>
          </p:nvSpPr>
          <p:spPr>
            <a:xfrm>
              <a:off x="42861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154"/>
            <p:cNvSpPr/>
            <p:nvPr/>
          </p:nvSpPr>
          <p:spPr>
            <a:xfrm>
              <a:off x="428616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55"/>
            <p:cNvSpPr/>
            <p:nvPr/>
          </p:nvSpPr>
          <p:spPr>
            <a:xfrm>
              <a:off x="45795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156"/>
            <p:cNvSpPr/>
            <p:nvPr/>
          </p:nvSpPr>
          <p:spPr>
            <a:xfrm>
              <a:off x="45795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57"/>
            <p:cNvSpPr/>
            <p:nvPr/>
          </p:nvSpPr>
          <p:spPr>
            <a:xfrm>
              <a:off x="48751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158"/>
            <p:cNvSpPr/>
            <p:nvPr/>
          </p:nvSpPr>
          <p:spPr>
            <a:xfrm>
              <a:off x="487512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59"/>
            <p:cNvSpPr/>
            <p:nvPr/>
          </p:nvSpPr>
          <p:spPr>
            <a:xfrm>
              <a:off x="51685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160"/>
            <p:cNvSpPr/>
            <p:nvPr/>
          </p:nvSpPr>
          <p:spPr>
            <a:xfrm>
              <a:off x="51685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161"/>
            <p:cNvSpPr/>
            <p:nvPr/>
          </p:nvSpPr>
          <p:spPr>
            <a:xfrm>
              <a:off x="54640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162"/>
            <p:cNvSpPr/>
            <p:nvPr/>
          </p:nvSpPr>
          <p:spPr>
            <a:xfrm>
              <a:off x="546408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163"/>
            <p:cNvSpPr/>
            <p:nvPr/>
          </p:nvSpPr>
          <p:spPr>
            <a:xfrm>
              <a:off x="57574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164"/>
            <p:cNvSpPr/>
            <p:nvPr/>
          </p:nvSpPr>
          <p:spPr>
            <a:xfrm>
              <a:off x="57574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165"/>
            <p:cNvSpPr/>
            <p:nvPr/>
          </p:nvSpPr>
          <p:spPr>
            <a:xfrm>
              <a:off x="60530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166"/>
            <p:cNvSpPr/>
            <p:nvPr/>
          </p:nvSpPr>
          <p:spPr>
            <a:xfrm>
              <a:off x="605304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167"/>
            <p:cNvSpPr/>
            <p:nvPr/>
          </p:nvSpPr>
          <p:spPr>
            <a:xfrm>
              <a:off x="63464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168"/>
            <p:cNvSpPr/>
            <p:nvPr/>
          </p:nvSpPr>
          <p:spPr>
            <a:xfrm>
              <a:off x="634644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169"/>
            <p:cNvSpPr/>
            <p:nvPr/>
          </p:nvSpPr>
          <p:spPr>
            <a:xfrm>
              <a:off x="66420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170"/>
            <p:cNvSpPr/>
            <p:nvPr/>
          </p:nvSpPr>
          <p:spPr>
            <a:xfrm>
              <a:off x="664200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71"/>
            <p:cNvSpPr/>
            <p:nvPr/>
          </p:nvSpPr>
          <p:spPr>
            <a:xfrm>
              <a:off x="69354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172"/>
            <p:cNvSpPr/>
            <p:nvPr/>
          </p:nvSpPr>
          <p:spPr>
            <a:xfrm>
              <a:off x="693540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173"/>
            <p:cNvSpPr/>
            <p:nvPr/>
          </p:nvSpPr>
          <p:spPr>
            <a:xfrm>
              <a:off x="72291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174"/>
            <p:cNvSpPr/>
            <p:nvPr/>
          </p:nvSpPr>
          <p:spPr>
            <a:xfrm>
              <a:off x="72291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175"/>
            <p:cNvSpPr/>
            <p:nvPr/>
          </p:nvSpPr>
          <p:spPr>
            <a:xfrm>
              <a:off x="75243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Rectangle 176"/>
            <p:cNvSpPr/>
            <p:nvPr/>
          </p:nvSpPr>
          <p:spPr>
            <a:xfrm>
              <a:off x="75243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77"/>
            <p:cNvSpPr/>
            <p:nvPr/>
          </p:nvSpPr>
          <p:spPr>
            <a:xfrm>
              <a:off x="78181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78"/>
            <p:cNvSpPr/>
            <p:nvPr/>
          </p:nvSpPr>
          <p:spPr>
            <a:xfrm>
              <a:off x="78181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179"/>
            <p:cNvSpPr/>
            <p:nvPr/>
          </p:nvSpPr>
          <p:spPr>
            <a:xfrm>
              <a:off x="81133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180"/>
            <p:cNvSpPr/>
            <p:nvPr/>
          </p:nvSpPr>
          <p:spPr>
            <a:xfrm>
              <a:off x="81133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181"/>
            <p:cNvSpPr/>
            <p:nvPr/>
          </p:nvSpPr>
          <p:spPr>
            <a:xfrm>
              <a:off x="84070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182"/>
            <p:cNvSpPr/>
            <p:nvPr/>
          </p:nvSpPr>
          <p:spPr>
            <a:xfrm>
              <a:off x="84070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83"/>
            <p:cNvSpPr/>
            <p:nvPr/>
          </p:nvSpPr>
          <p:spPr>
            <a:xfrm>
              <a:off x="87022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184"/>
            <p:cNvSpPr/>
            <p:nvPr/>
          </p:nvSpPr>
          <p:spPr>
            <a:xfrm>
              <a:off x="87022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185"/>
            <p:cNvSpPr/>
            <p:nvPr/>
          </p:nvSpPr>
          <p:spPr>
            <a:xfrm>
              <a:off x="445680" y="32130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Rectangle 186"/>
            <p:cNvSpPr/>
            <p:nvPr/>
          </p:nvSpPr>
          <p:spPr>
            <a:xfrm>
              <a:off x="445680" y="321300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187"/>
            <p:cNvSpPr/>
            <p:nvPr/>
          </p:nvSpPr>
          <p:spPr>
            <a:xfrm>
              <a:off x="445680" y="351468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188"/>
            <p:cNvSpPr/>
            <p:nvPr/>
          </p:nvSpPr>
          <p:spPr>
            <a:xfrm>
              <a:off x="445680" y="351468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189"/>
            <p:cNvSpPr/>
            <p:nvPr/>
          </p:nvSpPr>
          <p:spPr>
            <a:xfrm>
              <a:off x="445680" y="36115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Rectangle 190"/>
            <p:cNvSpPr/>
            <p:nvPr/>
          </p:nvSpPr>
          <p:spPr>
            <a:xfrm>
              <a:off x="445680" y="3611520"/>
              <a:ext cx="118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191"/>
            <p:cNvSpPr/>
            <p:nvPr/>
          </p:nvSpPr>
          <p:spPr>
            <a:xfrm>
              <a:off x="445680" y="391176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192"/>
            <p:cNvSpPr/>
            <p:nvPr/>
          </p:nvSpPr>
          <p:spPr>
            <a:xfrm>
              <a:off x="445680" y="3911760"/>
              <a:ext cx="118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193"/>
            <p:cNvSpPr/>
            <p:nvPr/>
          </p:nvSpPr>
          <p:spPr>
            <a:xfrm>
              <a:off x="445680" y="40086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194"/>
            <p:cNvSpPr/>
            <p:nvPr/>
          </p:nvSpPr>
          <p:spPr>
            <a:xfrm>
              <a:off x="445680" y="4008600"/>
              <a:ext cx="118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195"/>
            <p:cNvSpPr/>
            <p:nvPr/>
          </p:nvSpPr>
          <p:spPr>
            <a:xfrm>
              <a:off x="445680" y="43099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196"/>
            <p:cNvSpPr/>
            <p:nvPr/>
          </p:nvSpPr>
          <p:spPr>
            <a:xfrm>
              <a:off x="445680" y="4309920"/>
              <a:ext cx="11829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197"/>
            <p:cNvSpPr/>
            <p:nvPr/>
          </p:nvSpPr>
          <p:spPr>
            <a:xfrm>
              <a:off x="445680" y="44053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198"/>
            <p:cNvSpPr/>
            <p:nvPr/>
          </p:nvSpPr>
          <p:spPr>
            <a:xfrm>
              <a:off x="445680" y="440532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199"/>
            <p:cNvSpPr/>
            <p:nvPr/>
          </p:nvSpPr>
          <p:spPr>
            <a:xfrm>
              <a:off x="445680" y="47070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200"/>
            <p:cNvSpPr/>
            <p:nvPr/>
          </p:nvSpPr>
          <p:spPr>
            <a:xfrm>
              <a:off x="445680" y="470700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201"/>
            <p:cNvSpPr/>
            <p:nvPr/>
          </p:nvSpPr>
          <p:spPr>
            <a:xfrm>
              <a:off x="445680" y="480384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202"/>
            <p:cNvSpPr/>
            <p:nvPr/>
          </p:nvSpPr>
          <p:spPr>
            <a:xfrm>
              <a:off x="445680" y="4803840"/>
              <a:ext cx="118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203"/>
            <p:cNvSpPr/>
            <p:nvPr/>
          </p:nvSpPr>
          <p:spPr>
            <a:xfrm>
              <a:off x="419040" y="2881440"/>
              <a:ext cx="26640" cy="22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204"/>
            <p:cNvSpPr/>
            <p:nvPr/>
          </p:nvSpPr>
          <p:spPr>
            <a:xfrm>
              <a:off x="1628640" y="2908440"/>
              <a:ext cx="28440" cy="2216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205"/>
            <p:cNvSpPr/>
            <p:nvPr/>
          </p:nvSpPr>
          <p:spPr>
            <a:xfrm>
              <a:off x="19303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206"/>
            <p:cNvSpPr/>
            <p:nvPr/>
          </p:nvSpPr>
          <p:spPr>
            <a:xfrm>
              <a:off x="193032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207"/>
            <p:cNvSpPr/>
            <p:nvPr/>
          </p:nvSpPr>
          <p:spPr>
            <a:xfrm>
              <a:off x="22237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208"/>
            <p:cNvSpPr/>
            <p:nvPr/>
          </p:nvSpPr>
          <p:spPr>
            <a:xfrm>
              <a:off x="22237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209"/>
            <p:cNvSpPr/>
            <p:nvPr/>
          </p:nvSpPr>
          <p:spPr>
            <a:xfrm>
              <a:off x="25192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210"/>
            <p:cNvSpPr/>
            <p:nvPr/>
          </p:nvSpPr>
          <p:spPr>
            <a:xfrm>
              <a:off x="251928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211"/>
            <p:cNvSpPr/>
            <p:nvPr/>
          </p:nvSpPr>
          <p:spPr>
            <a:xfrm>
              <a:off x="28126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212"/>
            <p:cNvSpPr/>
            <p:nvPr/>
          </p:nvSpPr>
          <p:spPr>
            <a:xfrm>
              <a:off x="28126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213"/>
            <p:cNvSpPr/>
            <p:nvPr/>
          </p:nvSpPr>
          <p:spPr>
            <a:xfrm>
              <a:off x="31082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214"/>
            <p:cNvSpPr/>
            <p:nvPr/>
          </p:nvSpPr>
          <p:spPr>
            <a:xfrm>
              <a:off x="310824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215"/>
            <p:cNvSpPr/>
            <p:nvPr/>
          </p:nvSpPr>
          <p:spPr>
            <a:xfrm>
              <a:off x="34016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216"/>
            <p:cNvSpPr/>
            <p:nvPr/>
          </p:nvSpPr>
          <p:spPr>
            <a:xfrm>
              <a:off x="340164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217"/>
            <p:cNvSpPr/>
            <p:nvPr/>
          </p:nvSpPr>
          <p:spPr>
            <a:xfrm>
              <a:off x="36972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218"/>
            <p:cNvSpPr/>
            <p:nvPr/>
          </p:nvSpPr>
          <p:spPr>
            <a:xfrm>
              <a:off x="369720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219"/>
            <p:cNvSpPr/>
            <p:nvPr/>
          </p:nvSpPr>
          <p:spPr>
            <a:xfrm>
              <a:off x="39906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220"/>
            <p:cNvSpPr/>
            <p:nvPr/>
          </p:nvSpPr>
          <p:spPr>
            <a:xfrm>
              <a:off x="399060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221"/>
            <p:cNvSpPr/>
            <p:nvPr/>
          </p:nvSpPr>
          <p:spPr>
            <a:xfrm>
              <a:off x="42861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222"/>
            <p:cNvSpPr/>
            <p:nvPr/>
          </p:nvSpPr>
          <p:spPr>
            <a:xfrm>
              <a:off x="428616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223"/>
            <p:cNvSpPr/>
            <p:nvPr/>
          </p:nvSpPr>
          <p:spPr>
            <a:xfrm>
              <a:off x="45795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224"/>
            <p:cNvSpPr/>
            <p:nvPr/>
          </p:nvSpPr>
          <p:spPr>
            <a:xfrm>
              <a:off x="45795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225"/>
            <p:cNvSpPr/>
            <p:nvPr/>
          </p:nvSpPr>
          <p:spPr>
            <a:xfrm>
              <a:off x="48751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226"/>
            <p:cNvSpPr/>
            <p:nvPr/>
          </p:nvSpPr>
          <p:spPr>
            <a:xfrm>
              <a:off x="487512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227"/>
            <p:cNvSpPr/>
            <p:nvPr/>
          </p:nvSpPr>
          <p:spPr>
            <a:xfrm>
              <a:off x="51685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228"/>
            <p:cNvSpPr/>
            <p:nvPr/>
          </p:nvSpPr>
          <p:spPr>
            <a:xfrm>
              <a:off x="51685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229"/>
            <p:cNvSpPr/>
            <p:nvPr/>
          </p:nvSpPr>
          <p:spPr>
            <a:xfrm>
              <a:off x="54640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230"/>
            <p:cNvSpPr/>
            <p:nvPr/>
          </p:nvSpPr>
          <p:spPr>
            <a:xfrm>
              <a:off x="546408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231"/>
            <p:cNvSpPr/>
            <p:nvPr/>
          </p:nvSpPr>
          <p:spPr>
            <a:xfrm>
              <a:off x="57574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232"/>
            <p:cNvSpPr/>
            <p:nvPr/>
          </p:nvSpPr>
          <p:spPr>
            <a:xfrm>
              <a:off x="57574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233"/>
            <p:cNvSpPr/>
            <p:nvPr/>
          </p:nvSpPr>
          <p:spPr>
            <a:xfrm>
              <a:off x="60530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234"/>
            <p:cNvSpPr/>
            <p:nvPr/>
          </p:nvSpPr>
          <p:spPr>
            <a:xfrm>
              <a:off x="605304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235"/>
            <p:cNvSpPr/>
            <p:nvPr/>
          </p:nvSpPr>
          <p:spPr>
            <a:xfrm>
              <a:off x="63464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Rectangle 236"/>
            <p:cNvSpPr/>
            <p:nvPr/>
          </p:nvSpPr>
          <p:spPr>
            <a:xfrm>
              <a:off x="634644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237"/>
            <p:cNvSpPr/>
            <p:nvPr/>
          </p:nvSpPr>
          <p:spPr>
            <a:xfrm>
              <a:off x="66420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238"/>
            <p:cNvSpPr/>
            <p:nvPr/>
          </p:nvSpPr>
          <p:spPr>
            <a:xfrm>
              <a:off x="664200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239"/>
            <p:cNvSpPr/>
            <p:nvPr/>
          </p:nvSpPr>
          <p:spPr>
            <a:xfrm>
              <a:off x="69354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Rectangle 240"/>
            <p:cNvSpPr/>
            <p:nvPr/>
          </p:nvSpPr>
          <p:spPr>
            <a:xfrm>
              <a:off x="693540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241"/>
            <p:cNvSpPr/>
            <p:nvPr/>
          </p:nvSpPr>
          <p:spPr>
            <a:xfrm>
              <a:off x="72291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242"/>
            <p:cNvSpPr/>
            <p:nvPr/>
          </p:nvSpPr>
          <p:spPr>
            <a:xfrm>
              <a:off x="72291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243"/>
            <p:cNvSpPr/>
            <p:nvPr/>
          </p:nvSpPr>
          <p:spPr>
            <a:xfrm>
              <a:off x="75243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244"/>
            <p:cNvSpPr/>
            <p:nvPr/>
          </p:nvSpPr>
          <p:spPr>
            <a:xfrm>
              <a:off x="75243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245"/>
            <p:cNvSpPr/>
            <p:nvPr/>
          </p:nvSpPr>
          <p:spPr>
            <a:xfrm>
              <a:off x="78181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246"/>
            <p:cNvSpPr/>
            <p:nvPr/>
          </p:nvSpPr>
          <p:spPr>
            <a:xfrm>
              <a:off x="78181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247"/>
            <p:cNvSpPr/>
            <p:nvPr/>
          </p:nvSpPr>
          <p:spPr>
            <a:xfrm>
              <a:off x="81133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248"/>
            <p:cNvSpPr/>
            <p:nvPr/>
          </p:nvSpPr>
          <p:spPr>
            <a:xfrm>
              <a:off x="81133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249"/>
            <p:cNvSpPr/>
            <p:nvPr/>
          </p:nvSpPr>
          <p:spPr>
            <a:xfrm>
              <a:off x="84070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250"/>
            <p:cNvSpPr/>
            <p:nvPr/>
          </p:nvSpPr>
          <p:spPr>
            <a:xfrm>
              <a:off x="84070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251"/>
            <p:cNvSpPr/>
            <p:nvPr/>
          </p:nvSpPr>
          <p:spPr>
            <a:xfrm>
              <a:off x="87022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252"/>
            <p:cNvSpPr/>
            <p:nvPr/>
          </p:nvSpPr>
          <p:spPr>
            <a:xfrm>
              <a:off x="87022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253"/>
            <p:cNvSpPr/>
            <p:nvPr/>
          </p:nvSpPr>
          <p:spPr>
            <a:xfrm>
              <a:off x="8989920" y="2908440"/>
              <a:ext cx="27000" cy="2216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Rectangle 254"/>
            <p:cNvSpPr/>
            <p:nvPr/>
          </p:nvSpPr>
          <p:spPr>
            <a:xfrm>
              <a:off x="445680" y="2881440"/>
              <a:ext cx="857124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Rectangle 255"/>
            <p:cNvSpPr/>
            <p:nvPr/>
          </p:nvSpPr>
          <p:spPr>
            <a:xfrm>
              <a:off x="445680" y="3110040"/>
              <a:ext cx="85712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256"/>
            <p:cNvSpPr/>
            <p:nvPr/>
          </p:nvSpPr>
          <p:spPr>
            <a:xfrm>
              <a:off x="1657080" y="32130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257"/>
            <p:cNvSpPr/>
            <p:nvPr/>
          </p:nvSpPr>
          <p:spPr>
            <a:xfrm>
              <a:off x="1657080" y="321300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258"/>
            <p:cNvSpPr/>
            <p:nvPr/>
          </p:nvSpPr>
          <p:spPr>
            <a:xfrm>
              <a:off x="1657080" y="351468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259"/>
            <p:cNvSpPr/>
            <p:nvPr/>
          </p:nvSpPr>
          <p:spPr>
            <a:xfrm>
              <a:off x="1657080" y="351468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260"/>
            <p:cNvSpPr/>
            <p:nvPr/>
          </p:nvSpPr>
          <p:spPr>
            <a:xfrm>
              <a:off x="1657080" y="36115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261"/>
            <p:cNvSpPr/>
            <p:nvPr/>
          </p:nvSpPr>
          <p:spPr>
            <a:xfrm>
              <a:off x="1657080" y="3611520"/>
              <a:ext cx="73328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262"/>
            <p:cNvSpPr/>
            <p:nvPr/>
          </p:nvSpPr>
          <p:spPr>
            <a:xfrm>
              <a:off x="1657080" y="391176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263"/>
            <p:cNvSpPr/>
            <p:nvPr/>
          </p:nvSpPr>
          <p:spPr>
            <a:xfrm>
              <a:off x="1657080" y="3911760"/>
              <a:ext cx="7332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264"/>
            <p:cNvSpPr/>
            <p:nvPr/>
          </p:nvSpPr>
          <p:spPr>
            <a:xfrm>
              <a:off x="1657080" y="40086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265"/>
            <p:cNvSpPr/>
            <p:nvPr/>
          </p:nvSpPr>
          <p:spPr>
            <a:xfrm>
              <a:off x="1657080" y="4008600"/>
              <a:ext cx="7332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266"/>
            <p:cNvSpPr/>
            <p:nvPr/>
          </p:nvSpPr>
          <p:spPr>
            <a:xfrm>
              <a:off x="1657080" y="43099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267"/>
            <p:cNvSpPr/>
            <p:nvPr/>
          </p:nvSpPr>
          <p:spPr>
            <a:xfrm>
              <a:off x="1657080" y="4309920"/>
              <a:ext cx="733284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268"/>
            <p:cNvSpPr/>
            <p:nvPr/>
          </p:nvSpPr>
          <p:spPr>
            <a:xfrm>
              <a:off x="1657080" y="44053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269"/>
            <p:cNvSpPr/>
            <p:nvPr/>
          </p:nvSpPr>
          <p:spPr>
            <a:xfrm>
              <a:off x="1657080" y="440532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270"/>
            <p:cNvSpPr/>
            <p:nvPr/>
          </p:nvSpPr>
          <p:spPr>
            <a:xfrm>
              <a:off x="1657080" y="47070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Rectangle 271"/>
            <p:cNvSpPr/>
            <p:nvPr/>
          </p:nvSpPr>
          <p:spPr>
            <a:xfrm>
              <a:off x="1657080" y="470700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272"/>
            <p:cNvSpPr/>
            <p:nvPr/>
          </p:nvSpPr>
          <p:spPr>
            <a:xfrm>
              <a:off x="1657080" y="480384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273"/>
            <p:cNvSpPr/>
            <p:nvPr/>
          </p:nvSpPr>
          <p:spPr>
            <a:xfrm>
              <a:off x="1657080" y="4803840"/>
              <a:ext cx="73328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274"/>
            <p:cNvSpPr/>
            <p:nvPr/>
          </p:nvSpPr>
          <p:spPr>
            <a:xfrm>
              <a:off x="445680" y="5097600"/>
              <a:ext cx="857124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Group 24"/>
          <p:cNvGrpSpPr/>
          <p:nvPr/>
        </p:nvGrpSpPr>
        <p:grpSpPr>
          <a:xfrm>
            <a:off x="2828880" y="3600360"/>
            <a:ext cx="1449000" cy="337320"/>
            <a:chOff x="2828880" y="3600360"/>
            <a:chExt cx="1449000" cy="337320"/>
          </a:xfrm>
        </p:grpSpPr>
        <p:sp>
          <p:nvSpPr>
            <p:cNvPr id="381" name="Freeform 20"/>
            <p:cNvSpPr/>
            <p:nvPr/>
          </p:nvSpPr>
          <p:spPr>
            <a:xfrm>
              <a:off x="2828880" y="3622680"/>
              <a:ext cx="1449000" cy="28584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Text Box 21"/>
            <p:cNvSpPr/>
            <p:nvPr/>
          </p:nvSpPr>
          <p:spPr>
            <a:xfrm>
              <a:off x="2854800" y="3600360"/>
              <a:ext cx="139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Group 25"/>
          <p:cNvGrpSpPr/>
          <p:nvPr/>
        </p:nvGrpSpPr>
        <p:grpSpPr>
          <a:xfrm>
            <a:off x="4282920" y="4000680"/>
            <a:ext cx="744840" cy="337320"/>
            <a:chOff x="4282920" y="4000680"/>
            <a:chExt cx="744840" cy="337320"/>
          </a:xfrm>
        </p:grpSpPr>
        <p:sp>
          <p:nvSpPr>
            <p:cNvPr id="384" name="Freeform 26"/>
            <p:cNvSpPr/>
            <p:nvPr/>
          </p:nvSpPr>
          <p:spPr>
            <a:xfrm>
              <a:off x="4282920" y="4022640"/>
              <a:ext cx="744840" cy="28548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27"/>
            <p:cNvSpPr/>
            <p:nvPr/>
          </p:nvSpPr>
          <p:spPr>
            <a:xfrm>
              <a:off x="4296240" y="400068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28"/>
          <p:cNvGrpSpPr/>
          <p:nvPr/>
        </p:nvGrpSpPr>
        <p:grpSpPr>
          <a:xfrm>
            <a:off x="5018040" y="4397400"/>
            <a:ext cx="316080" cy="337320"/>
            <a:chOff x="5018040" y="4397400"/>
            <a:chExt cx="316080" cy="337320"/>
          </a:xfrm>
        </p:grpSpPr>
        <p:sp>
          <p:nvSpPr>
            <p:cNvPr id="387" name="Freeform 29"/>
            <p:cNvSpPr/>
            <p:nvPr/>
          </p:nvSpPr>
          <p:spPr>
            <a:xfrm>
              <a:off x="5018040" y="4419720"/>
              <a:ext cx="316080" cy="28584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Text Box 30"/>
            <p:cNvSpPr/>
            <p:nvPr/>
          </p:nvSpPr>
          <p:spPr>
            <a:xfrm>
              <a:off x="5023440" y="4397400"/>
              <a:ext cx="30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35"/>
          <p:cNvGrpSpPr/>
          <p:nvPr/>
        </p:nvGrpSpPr>
        <p:grpSpPr>
          <a:xfrm>
            <a:off x="5251320" y="4772160"/>
            <a:ext cx="244440" cy="368280"/>
            <a:chOff x="5251320" y="4772160"/>
            <a:chExt cx="244440" cy="368280"/>
          </a:xfrm>
        </p:grpSpPr>
        <p:sp>
          <p:nvSpPr>
            <p:cNvPr id="390" name="Freeform 32"/>
            <p:cNvSpPr/>
            <p:nvPr/>
          </p:nvSpPr>
          <p:spPr>
            <a:xfrm>
              <a:off x="5326200" y="4809960"/>
              <a:ext cx="136440" cy="29160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Text Box 34"/>
            <p:cNvSpPr/>
            <p:nvPr/>
          </p:nvSpPr>
          <p:spPr>
            <a:xfrm>
              <a:off x="5251320" y="4772160"/>
              <a:ext cx="2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Group 57"/>
          <p:cNvGrpSpPr/>
          <p:nvPr/>
        </p:nvGrpSpPr>
        <p:grpSpPr>
          <a:xfrm>
            <a:off x="3119400" y="3206880"/>
            <a:ext cx="3890880" cy="1935000"/>
            <a:chOff x="3119400" y="3206880"/>
            <a:chExt cx="3890880" cy="1935000"/>
          </a:xfrm>
        </p:grpSpPr>
        <p:grpSp>
          <p:nvGrpSpPr>
            <p:cNvPr id="393" name="Group 56"/>
            <p:cNvGrpSpPr/>
            <p:nvPr/>
          </p:nvGrpSpPr>
          <p:grpSpPr>
            <a:xfrm>
              <a:off x="3119400" y="3206880"/>
              <a:ext cx="1163520" cy="337320"/>
              <a:chOff x="3119400" y="3206880"/>
              <a:chExt cx="1163520" cy="337320"/>
            </a:xfrm>
          </p:grpSpPr>
          <p:sp>
            <p:nvSpPr>
              <p:cNvPr id="394" name="Freeform 41"/>
              <p:cNvSpPr/>
              <p:nvPr/>
            </p:nvSpPr>
            <p:spPr>
              <a:xfrm>
                <a:off x="3119400" y="3229200"/>
                <a:ext cx="1163520" cy="291960"/>
              </a:xfrm>
              <a:prstGeom prst="pie">
                <a:avLst/>
              </a:pr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Text Box 42"/>
              <p:cNvSpPr/>
              <p:nvPr/>
            </p:nvSpPr>
            <p:spPr>
              <a:xfrm>
                <a:off x="3146400" y="3206880"/>
                <a:ext cx="1123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Group 39"/>
            <p:cNvGrpSpPr/>
            <p:nvPr/>
          </p:nvGrpSpPr>
          <p:grpSpPr>
            <a:xfrm>
              <a:off x="4299120" y="3597480"/>
              <a:ext cx="1449360" cy="337320"/>
              <a:chOff x="4299120" y="3597480"/>
              <a:chExt cx="1449360" cy="337320"/>
            </a:xfrm>
          </p:grpSpPr>
          <p:sp>
            <p:nvSpPr>
              <p:cNvPr id="397" name="Freeform 37"/>
              <p:cNvSpPr/>
              <p:nvPr/>
            </p:nvSpPr>
            <p:spPr>
              <a:xfrm>
                <a:off x="4299120" y="3619800"/>
                <a:ext cx="1449360" cy="285480"/>
              </a:xfrm>
              <a:prstGeom prst="pie">
                <a:avLst/>
              </a:pr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Text Box 38"/>
              <p:cNvSpPr/>
              <p:nvPr/>
            </p:nvSpPr>
            <p:spPr>
              <a:xfrm>
                <a:off x="4324320" y="3597480"/>
                <a:ext cx="1400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47"/>
            <p:cNvGrpSpPr/>
            <p:nvPr/>
          </p:nvGrpSpPr>
          <p:grpSpPr>
            <a:xfrm>
              <a:off x="5761080" y="3997440"/>
              <a:ext cx="744480" cy="337320"/>
              <a:chOff x="5761080" y="3997440"/>
              <a:chExt cx="744480" cy="337320"/>
            </a:xfrm>
          </p:grpSpPr>
          <p:sp>
            <p:nvSpPr>
              <p:cNvPr id="400" name="Freeform 45"/>
              <p:cNvSpPr/>
              <p:nvPr/>
            </p:nvSpPr>
            <p:spPr>
              <a:xfrm>
                <a:off x="5761080" y="4019760"/>
                <a:ext cx="744480" cy="285840"/>
              </a:xfrm>
              <a:prstGeom prst="pie">
                <a:avLst/>
              </a:pr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Text Box 46"/>
              <p:cNvSpPr/>
              <p:nvPr/>
            </p:nvSpPr>
            <p:spPr>
              <a:xfrm>
                <a:off x="5773680" y="3997440"/>
                <a:ext cx="71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Group 51"/>
            <p:cNvGrpSpPr/>
            <p:nvPr/>
          </p:nvGrpSpPr>
          <p:grpSpPr>
            <a:xfrm>
              <a:off x="6494400" y="4399200"/>
              <a:ext cx="316080" cy="337320"/>
              <a:chOff x="6494400" y="4399200"/>
              <a:chExt cx="316080" cy="337320"/>
            </a:xfrm>
          </p:grpSpPr>
          <p:sp>
            <p:nvSpPr>
              <p:cNvPr id="403" name="Freeform 49"/>
              <p:cNvSpPr/>
              <p:nvPr/>
            </p:nvSpPr>
            <p:spPr>
              <a:xfrm>
                <a:off x="6494400" y="4421160"/>
                <a:ext cx="316080" cy="285840"/>
              </a:xfrm>
              <a:prstGeom prst="pie">
                <a:avLst/>
              </a:pr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Text Box 50"/>
              <p:cNvSpPr/>
              <p:nvPr/>
            </p:nvSpPr>
            <p:spPr>
              <a:xfrm>
                <a:off x="6500880" y="439920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Group 55"/>
            <p:cNvGrpSpPr/>
            <p:nvPr/>
          </p:nvGrpSpPr>
          <p:grpSpPr>
            <a:xfrm>
              <a:off x="6719760" y="4773600"/>
              <a:ext cx="290520" cy="368280"/>
              <a:chOff x="6719760" y="4773600"/>
              <a:chExt cx="290520" cy="368280"/>
            </a:xfrm>
          </p:grpSpPr>
          <p:sp>
            <p:nvSpPr>
              <p:cNvPr id="406" name="Freeform 53"/>
              <p:cNvSpPr/>
              <p:nvPr/>
            </p:nvSpPr>
            <p:spPr>
              <a:xfrm>
                <a:off x="6794640" y="4811760"/>
                <a:ext cx="136440" cy="292320"/>
              </a:xfrm>
              <a:prstGeom prst="pie">
                <a:avLst/>
              </a:pr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6719760" y="477360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8" name="Group 79"/>
          <p:cNvGrpSpPr/>
          <p:nvPr/>
        </p:nvGrpSpPr>
        <p:grpSpPr>
          <a:xfrm>
            <a:off x="4591080" y="3206880"/>
            <a:ext cx="3890880" cy="1935000"/>
            <a:chOff x="4591080" y="3206880"/>
            <a:chExt cx="3890880" cy="1935000"/>
          </a:xfrm>
        </p:grpSpPr>
        <p:grpSp>
          <p:nvGrpSpPr>
            <p:cNvPr id="409" name="Group 74"/>
            <p:cNvGrpSpPr/>
            <p:nvPr/>
          </p:nvGrpSpPr>
          <p:grpSpPr>
            <a:xfrm>
              <a:off x="4591080" y="3206880"/>
              <a:ext cx="1163520" cy="337320"/>
              <a:chOff x="4591080" y="3206880"/>
              <a:chExt cx="1163520" cy="337320"/>
            </a:xfrm>
          </p:grpSpPr>
          <p:sp>
            <p:nvSpPr>
              <p:cNvPr id="410" name="Freeform 60"/>
              <p:cNvSpPr/>
              <p:nvPr/>
            </p:nvSpPr>
            <p:spPr>
              <a:xfrm>
                <a:off x="4591080" y="3229200"/>
                <a:ext cx="1163520" cy="291960"/>
              </a:xfrm>
              <a:prstGeom prst="pie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Text Box 61"/>
              <p:cNvSpPr/>
              <p:nvPr/>
            </p:nvSpPr>
            <p:spPr>
              <a:xfrm>
                <a:off x="4618080" y="3206880"/>
                <a:ext cx="1123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75"/>
            <p:cNvGrpSpPr/>
            <p:nvPr/>
          </p:nvGrpSpPr>
          <p:grpSpPr>
            <a:xfrm>
              <a:off x="5770440" y="3597480"/>
              <a:ext cx="1449360" cy="337320"/>
              <a:chOff x="5770440" y="3597480"/>
              <a:chExt cx="1449360" cy="337320"/>
            </a:xfrm>
          </p:grpSpPr>
          <p:sp>
            <p:nvSpPr>
              <p:cNvPr id="413" name="Freeform 63"/>
              <p:cNvSpPr/>
              <p:nvPr/>
            </p:nvSpPr>
            <p:spPr>
              <a:xfrm>
                <a:off x="5770440" y="3619800"/>
                <a:ext cx="1449360" cy="285480"/>
              </a:xfrm>
              <a:prstGeom prst="pie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Text Box 64"/>
              <p:cNvSpPr/>
              <p:nvPr/>
            </p:nvSpPr>
            <p:spPr>
              <a:xfrm>
                <a:off x="5796000" y="3597480"/>
                <a:ext cx="1400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Group 76"/>
            <p:cNvGrpSpPr/>
            <p:nvPr/>
          </p:nvGrpSpPr>
          <p:grpSpPr>
            <a:xfrm>
              <a:off x="7232760" y="3997440"/>
              <a:ext cx="744480" cy="337320"/>
              <a:chOff x="7232760" y="3997440"/>
              <a:chExt cx="744480" cy="337320"/>
            </a:xfrm>
          </p:grpSpPr>
          <p:sp>
            <p:nvSpPr>
              <p:cNvPr id="416" name="Freeform 66"/>
              <p:cNvSpPr/>
              <p:nvPr/>
            </p:nvSpPr>
            <p:spPr>
              <a:xfrm>
                <a:off x="7232760" y="4019760"/>
                <a:ext cx="744480" cy="285840"/>
              </a:xfrm>
              <a:prstGeom prst="pie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Text Box 67"/>
              <p:cNvSpPr/>
              <p:nvPr/>
            </p:nvSpPr>
            <p:spPr>
              <a:xfrm>
                <a:off x="7245360" y="3997440"/>
                <a:ext cx="71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Group 77"/>
            <p:cNvGrpSpPr/>
            <p:nvPr/>
          </p:nvGrpSpPr>
          <p:grpSpPr>
            <a:xfrm>
              <a:off x="7966080" y="4399200"/>
              <a:ext cx="316080" cy="337320"/>
              <a:chOff x="7966080" y="4399200"/>
              <a:chExt cx="316080" cy="337320"/>
            </a:xfrm>
          </p:grpSpPr>
          <p:sp>
            <p:nvSpPr>
              <p:cNvPr id="419" name="Freeform 69"/>
              <p:cNvSpPr/>
              <p:nvPr/>
            </p:nvSpPr>
            <p:spPr>
              <a:xfrm>
                <a:off x="7966080" y="4421160"/>
                <a:ext cx="316080" cy="285840"/>
              </a:xfrm>
              <a:prstGeom prst="pie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Text Box 70"/>
              <p:cNvSpPr/>
              <p:nvPr/>
            </p:nvSpPr>
            <p:spPr>
              <a:xfrm>
                <a:off x="7972560" y="439920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Group 78"/>
            <p:cNvGrpSpPr/>
            <p:nvPr/>
          </p:nvGrpSpPr>
          <p:grpSpPr>
            <a:xfrm>
              <a:off x="8191440" y="4773600"/>
              <a:ext cx="290520" cy="368280"/>
              <a:chOff x="8191440" y="4773600"/>
              <a:chExt cx="290520" cy="368280"/>
            </a:xfrm>
          </p:grpSpPr>
          <p:sp>
            <p:nvSpPr>
              <p:cNvPr id="422" name="Freeform 72"/>
              <p:cNvSpPr/>
              <p:nvPr/>
            </p:nvSpPr>
            <p:spPr>
              <a:xfrm>
                <a:off x="8265960" y="4811760"/>
                <a:ext cx="136800" cy="292320"/>
              </a:xfrm>
              <a:prstGeom prst="pie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Text Box 73"/>
              <p:cNvSpPr/>
              <p:nvPr/>
            </p:nvSpPr>
            <p:spPr>
              <a:xfrm>
                <a:off x="8191440" y="477360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4" name="Group 18"/>
          <p:cNvGrpSpPr/>
          <p:nvPr/>
        </p:nvGrpSpPr>
        <p:grpSpPr>
          <a:xfrm>
            <a:off x="1649520" y="3206880"/>
            <a:ext cx="1163160" cy="337320"/>
            <a:chOff x="1649520" y="3206880"/>
            <a:chExt cx="1163160" cy="337320"/>
          </a:xfrm>
        </p:grpSpPr>
        <p:sp>
          <p:nvSpPr>
            <p:cNvPr id="425" name="Freeform 15"/>
            <p:cNvSpPr/>
            <p:nvPr/>
          </p:nvSpPr>
          <p:spPr>
            <a:xfrm>
              <a:off x="1649520" y="3229200"/>
              <a:ext cx="1163160" cy="29196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Text Box 16"/>
            <p:cNvSpPr/>
            <p:nvPr/>
          </p:nvSpPr>
          <p:spPr>
            <a:xfrm>
              <a:off x="1677240" y="3206880"/>
              <a:ext cx="112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3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492120" y="1400040"/>
            <a:ext cx="824544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ntas ordenes de 1 dz. Puede procesar Kristen en una hora?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ómo cambia la capacidad del proceso “Mezcla y Vaciado” si el tamaño de las ordenes aumenta de 1dz a 2 dzs y a 3 dzs?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ómo cambia la capacidad del proceso entero?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3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492120" y="1400040"/>
            <a:ext cx="824544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uántas ordenes de 1 dz. Puede procesar Kristen en una hora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6 ordenes/ hr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El Horno es el cuello de botell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ómo cambia la capacidad del proceso “Mezcla y Vaciado” si el tamaño de las ordenes aumenta de 1dz a 2 dzs y a 3 dz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La capacidad aumenta a 12 dz./hr para ordenes de 2dz., y a 15 dz./hr para ordenes de 3dz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Este aumento se debe a que el tiempo de setup de 6 minutos es distribuido en un número mayor de docena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ómo cambia la capacidad del proceso entero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No Cambia. El Horno sigue siendo el cuello de botella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2"/>
          <p:cNvSpPr/>
          <p:nvPr/>
        </p:nvSpPr>
        <p:spPr>
          <a:xfrm>
            <a:off x="507960" y="152280"/>
            <a:ext cx="8331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Análisis de Proceso con dos Horno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3"/>
          <p:cNvSpPr/>
          <p:nvPr/>
        </p:nvSpPr>
        <p:spPr>
          <a:xfrm>
            <a:off x="58428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304920" y="1359000"/>
          <a:ext cx="8458200" cy="4335480"/>
        </p:xfrm>
        <a:graphic>
          <a:graphicData uri="http://schemas.openxmlformats.org/drawingml/2006/table">
            <a:tbl>
              <a:tblPr/>
              <a:tblGrid>
                <a:gridCol w="1066680"/>
                <a:gridCol w="747720"/>
                <a:gridCol w="851040"/>
                <a:gridCol w="849240"/>
                <a:gridCol w="771480"/>
                <a:gridCol w="851040"/>
                <a:gridCol w="849240"/>
                <a:gridCol w="772920"/>
                <a:gridCol w="849240"/>
                <a:gridCol w="849600"/>
              </a:tblGrid>
              <a:tr h="579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1 dz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2 dz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3 dz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zcl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orn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friad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mpaq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ega 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g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507960" y="152280"/>
            <a:ext cx="8331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Análisis de Proceso con dos Horno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3"/>
          <p:cNvSpPr/>
          <p:nvPr/>
        </p:nvSpPr>
        <p:spPr>
          <a:xfrm>
            <a:off x="58428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04920" y="1359000"/>
          <a:ext cx="8458200" cy="4395600"/>
        </p:xfrm>
        <a:graphic>
          <a:graphicData uri="http://schemas.openxmlformats.org/drawingml/2006/table">
            <a:tbl>
              <a:tblPr/>
              <a:tblGrid>
                <a:gridCol w="1066680"/>
                <a:gridCol w="747720"/>
                <a:gridCol w="851040"/>
                <a:gridCol w="849240"/>
                <a:gridCol w="771480"/>
                <a:gridCol w="851040"/>
                <a:gridCol w="849240"/>
                <a:gridCol w="772920"/>
                <a:gridCol w="849240"/>
                <a:gridCol w="849600"/>
              </a:tblGrid>
              <a:tr h="578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1 dz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2 dz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3 dz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zcl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7.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orn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2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friad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mpaq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ega 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g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ord/h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ord/h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ord/h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3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492120" y="1400040"/>
            <a:ext cx="8245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el efecto de agregar un horno mas en la capacidad del sistema (para distintos tamaños de orden)?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la capacidad del sistema si Kristen trabaja sola? Asuma que hay un solo horno y las ordenes son por 1dz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3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228600" y="914400"/>
            <a:ext cx="8763120" cy="64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uál es el efecto de agregar un horno mas en la capacidad del sistema (para distintos tamaños de orden)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Capacidad aumenta de la siguiente forma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Orden = 1dz 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Capacidad aumenta de 6 a 7.5 dz./h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Orden = 2dz 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Capacidad aumenta de 6 a 12 dz./h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Orden = 3dz 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Capacidad aumenta de 6 a 12 dz./h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Cuello de Botella cambia dependiendo del tamaño de la orden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uál es la capacidad del sistema si Kristen trabaja sola? Asuma que hay un solo horno y las ordenes son por 1d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Contenido de trabajo de cada orden es = 12 min/dz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iempo de Ciclo que calculamos es = 10 min/dz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Luego si Kristen trabaja sola no puede mantener un tiempo de ciclo de 10 min/dz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Por lo tanto la capacidad del sistema </a:t>
            </a:r>
            <a:r>
              <a:rPr b="0" lang="es-CL" sz="2000" spc="-1" strike="noStrike">
                <a:solidFill>
                  <a:srgbClr val="990033"/>
                </a:solidFill>
                <a:latin typeface="Garamond"/>
              </a:rPr>
              <a:t>CAE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. El recurso Trabajo se convierte en el </a:t>
            </a:r>
            <a:r>
              <a:rPr b="0" lang="es-CL" sz="2000" spc="-1" strike="noStrike">
                <a:solidFill>
                  <a:srgbClr val="990033"/>
                </a:solidFill>
                <a:latin typeface="Garamond"/>
              </a:rPr>
              <a:t>Cuello de Botella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y la nueva capacidad es 5 dz./hr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Al menos </a:t>
            </a:r>
            <a:r>
              <a:rPr b="0" lang="es-CL" sz="2000" spc="-1" strike="noStrike">
                <a:solidFill>
                  <a:srgbClr val="990033"/>
                </a:solidFill>
                <a:latin typeface="Garamond"/>
              </a:rPr>
              <a:t>Dos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personas se necesitan para operar el sistema a plena capacida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09480" y="152280"/>
            <a:ext cx="2743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ontenid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3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06600" y="1247760"/>
            <a:ext cx="7940520" cy="63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Análisis de Procesos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Medidas de Desempeño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: Capacidad, Tiempo de Ciclo, Tiempos de Flujos, Cuellos de  Botella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Productividad y Eficiencia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: Como los cuellos de botella afectan la capacidad y los retornos de un sistema de producción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Efectos  de los Tiempos de Setup y  Tamaños del Lote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Discusión del caso “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Kristen’s Cookie Company</a:t>
            </a: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”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Producción Agregada y Sistemas MRP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3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492120" y="1400040"/>
            <a:ext cx="8245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la utilización de cada proceso? Asuma que hay 1 horno y las ordenes son por 1 dz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3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492120" y="1066680"/>
            <a:ext cx="8245440" cy="60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uál es la utilización de cada proceso? Asuma que hay 1 horno y las ordenes son por 1 d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Utilización de un proceso se defin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= Capacidad del sistema / Capacidad del proces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= Tiempo de Ciclo del proceso / Tiempo de Ciclo del sistem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Para el sistema manejado por Kriste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Mezcla &amp; Vaciado: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(8 min./dz.)/(10 min./dz.) = 8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Horno: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0 / 10 = 10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nfriado: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0/10 = 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mpaque: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2/10 = 2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ntrega y Pago: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/10 = 1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Recursos que No son CB pueden estar ociosos. Los CB tiene una utilización de l 100% si no hay variaciones aleatorias en el sistem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4"/>
          <p:cNvSpPr/>
          <p:nvPr/>
        </p:nvSpPr>
        <p:spPr>
          <a:xfrm>
            <a:off x="419040" y="152280"/>
            <a:ext cx="8496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Formas de Aumentar la Capacida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5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817560" y="1108080"/>
            <a:ext cx="7855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jorando la carga de trabajo en los C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eficientemente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mas rápid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aciendo el trabajo correcto la primera ve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igiendo el mix de productos adecuad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viendo trabajo del CB a otras estaciones que no son CB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incluso a 3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r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partes (outsourcing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r la disponibilidad del C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horas extra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ndo la escala (inversiones de capital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ndo el tamaño del batch (economías de escala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iminando desperdicios (producción ajustada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152280" y="1219320"/>
            <a:ext cx="6553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uál es el margen asociado a ordenes de distinto tamaño? Asuma el trabajo cuesta $10/hr, los costos variables (insumos) son de $0.7/dz y el precio de venta es $3/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12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2/60 Trabajo = $2.70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0.30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2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8.5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8.5/60 Trabajo = $2.12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0.88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3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7.33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7.33/60 Trabajo = $1.92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1.08/dz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que hemos ignorado el tiempo ocioso del trabajo. Cuál sería el margen si no ignoramos el tiempo ocios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181080" y="152280"/>
            <a:ext cx="5381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 Adiciona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4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6781680" y="1981080"/>
          <a:ext cx="2186280" cy="192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1981080"/>
                    <a:ext cx="218628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5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5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Line 3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457200" y="11080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533520" y="1095480"/>
            <a:ext cx="80769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ál es el mayor descuento que Kristen podría hacer para incentivar ordenes de 2dz en lugar de 1dz? Asuma que hay dos horno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 capacidad del sistema aumenta con el tamaño de la orden. Es decir, ordenes por 2dz liberan tiempo del CB que se puede usar para generar mas ingreso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rden = 1 dz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 requieren 8 min del CB para producir 1 dz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rgen por min. del CB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 ($0.30 dz.)/ (8 min./dz.)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  $0.0375/mi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rden = 2 dz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 requieren 5 min del CB para producir 1 dz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rgen por min.del CB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 ($0.88 dz.)/ (5 min./dz.)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  $0.176/mi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scuento Maximo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 Margen adicional generado al procesar ordenes de 2 dz. En lugar de ordenes de 1dz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 $(0.176-0.0375) × 10min = $1.385 por orden de 2 dz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990033"/>
                </a:solidFill>
                <a:latin typeface="Times New Roman"/>
                <a:ea typeface="ＭＳ Ｐゴシック"/>
              </a:rPr>
              <a:t>Concepto: MONETARIZAR EL CUELLO DE BOTELL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6"/>
          <p:cNvSpPr/>
          <p:nvPr/>
        </p:nvSpPr>
        <p:spPr>
          <a:xfrm>
            <a:off x="0" y="152280"/>
            <a:ext cx="5381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 Adiciona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6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6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2280" y="114480"/>
            <a:ext cx="2895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Resu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ram de Flu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parar procesos en secuencia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r recursos asociados con cad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rta Gan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uy útil para la gestión de recursos y su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didas de Desempeño: Capacidad, Tiempo de Ciclo, Tiempo de Flujo, Cuellos de Bot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cial enfasis en manejar correctamente el CB ya que determina la capacidad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netarizar el CB, i.e., calculando el margen generado por unidad de tiempo en el C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4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4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4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9"/>
          <p:cNvSpPr/>
          <p:nvPr/>
        </p:nvSpPr>
        <p:spPr>
          <a:xfrm>
            <a:off x="304920" y="13968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 Centra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30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32"/>
          <p:cNvGrpSpPr/>
          <p:nvPr/>
        </p:nvGrpSpPr>
        <p:grpSpPr>
          <a:xfrm>
            <a:off x="355680" y="1955880"/>
            <a:ext cx="8533800" cy="4275360"/>
            <a:chOff x="355680" y="1955880"/>
            <a:chExt cx="8533800" cy="4275360"/>
          </a:xfrm>
        </p:grpSpPr>
        <p:sp>
          <p:nvSpPr>
            <p:cNvPr id="58" name="Text Box 3"/>
            <p:cNvSpPr/>
            <p:nvPr/>
          </p:nvSpPr>
          <p:spPr>
            <a:xfrm>
              <a:off x="3098880" y="2876400"/>
              <a:ext cx="251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Venta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Group 4"/>
            <p:cNvGrpSpPr/>
            <p:nvPr/>
          </p:nvGrpSpPr>
          <p:grpSpPr>
            <a:xfrm>
              <a:off x="3098880" y="3333600"/>
              <a:ext cx="2514600" cy="1450080"/>
              <a:chOff x="3098880" y="3333600"/>
              <a:chExt cx="2514600" cy="1450080"/>
            </a:xfrm>
          </p:grpSpPr>
          <p:sp>
            <p:nvSpPr>
              <p:cNvPr id="60" name="Text Box 5"/>
              <p:cNvSpPr/>
              <p:nvPr/>
            </p:nvSpPr>
            <p:spPr>
              <a:xfrm>
                <a:off x="3098880" y="4019040"/>
                <a:ext cx="2514600" cy="764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Tiempos de Entrega</a:t>
                </a:r>
                <a:r>
                  <a:rPr b="0" lang="es-CL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(actual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6"/>
              <p:cNvSpPr/>
              <p:nvPr/>
            </p:nvSpPr>
            <p:spPr>
              <a:xfrm flipV="1">
                <a:off x="4318200" y="333360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7"/>
            <p:cNvGrpSpPr/>
            <p:nvPr/>
          </p:nvGrpSpPr>
          <p:grpSpPr>
            <a:xfrm>
              <a:off x="355680" y="3108960"/>
              <a:ext cx="2743200" cy="1369440"/>
              <a:chOff x="355680" y="3108960"/>
              <a:chExt cx="2743200" cy="1369440"/>
            </a:xfrm>
          </p:grpSpPr>
          <p:sp>
            <p:nvSpPr>
              <p:cNvPr id="63" name="Text Box 8"/>
              <p:cNvSpPr/>
              <p:nvPr/>
            </p:nvSpPr>
            <p:spPr>
              <a:xfrm>
                <a:off x="355680" y="4018680"/>
                <a:ext cx="12193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400" spc="-1" strike="noStrike">
                    <a:solidFill>
                      <a:srgbClr val="000000"/>
                    </a:solidFill>
                    <a:latin typeface="Arial"/>
                  </a:rPr>
                  <a:t>Precio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" name="AutoShape 9"/>
              <p:cNvCxnSpPr>
                <a:stCxn id="63" idx="0"/>
                <a:endCxn id="58" idx="1"/>
              </p:cNvCxnSpPr>
              <p:nvPr/>
            </p:nvCxnSpPr>
            <p:spPr>
              <a:xfrm flipH="1" flipV="1" rot="5400000">
                <a:off x="1577160" y="2496600"/>
                <a:ext cx="909720" cy="21344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5" name="Group 10"/>
            <p:cNvGrpSpPr/>
            <p:nvPr/>
          </p:nvGrpSpPr>
          <p:grpSpPr>
            <a:xfrm>
              <a:off x="1727280" y="3108960"/>
              <a:ext cx="1942920" cy="2756520"/>
              <a:chOff x="1727280" y="3108960"/>
              <a:chExt cx="1942920" cy="2756520"/>
            </a:xfrm>
          </p:grpSpPr>
          <p:sp>
            <p:nvSpPr>
              <p:cNvPr id="66" name="Text Box 11"/>
              <p:cNvSpPr/>
              <p:nvPr/>
            </p:nvSpPr>
            <p:spPr>
              <a:xfrm>
                <a:off x="1727280" y="5466600"/>
                <a:ext cx="15235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990033"/>
                    </a:solidFill>
                    <a:latin typeface="Arial"/>
                  </a:rPr>
                  <a:t>Capacidad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" name="AutoShape 12"/>
              <p:cNvCxnSpPr>
                <a:stCxn id="66" idx="0"/>
                <a:endCxn id="58" idx="1"/>
              </p:cNvCxnSpPr>
              <p:nvPr/>
            </p:nvCxnSpPr>
            <p:spPr>
              <a:xfrm flipH="1" flipV="1" rot="5400000">
                <a:off x="1614960" y="3983040"/>
                <a:ext cx="2357640" cy="6098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8" name="AutoShape 13"/>
              <p:cNvCxnSpPr>
                <a:stCxn id="66" idx="3"/>
              </p:cNvCxnSpPr>
              <p:nvPr/>
            </p:nvCxnSpPr>
            <p:spPr>
              <a:xfrm flipV="1">
                <a:off x="3250800" y="4856760"/>
                <a:ext cx="419760" cy="8431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9" name="Group 14"/>
            <p:cNvGrpSpPr/>
            <p:nvPr/>
          </p:nvGrpSpPr>
          <p:grpSpPr>
            <a:xfrm>
              <a:off x="4013280" y="4857480"/>
              <a:ext cx="2057400" cy="1008000"/>
              <a:chOff x="4013280" y="4857480"/>
              <a:chExt cx="2057400" cy="1008000"/>
            </a:xfrm>
          </p:grpSpPr>
          <p:sp>
            <p:nvSpPr>
              <p:cNvPr id="70" name="Text Box 15"/>
              <p:cNvSpPr/>
              <p:nvPr/>
            </p:nvSpPr>
            <p:spPr>
              <a:xfrm>
                <a:off x="4013280" y="5466600"/>
                <a:ext cx="2057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Tiempo de Fluj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Line 16"/>
              <p:cNvSpPr/>
              <p:nvPr/>
            </p:nvSpPr>
            <p:spPr>
              <a:xfrm flipV="1">
                <a:off x="4851360" y="4857480"/>
                <a:ext cx="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Group 17"/>
            <p:cNvGrpSpPr/>
            <p:nvPr/>
          </p:nvGrpSpPr>
          <p:grpSpPr>
            <a:xfrm>
              <a:off x="5613120" y="3109320"/>
              <a:ext cx="3276360" cy="3121920"/>
              <a:chOff x="5613120" y="3109320"/>
              <a:chExt cx="3276360" cy="3121920"/>
            </a:xfrm>
          </p:grpSpPr>
          <p:grpSp>
            <p:nvGrpSpPr>
              <p:cNvPr id="73" name="Group 18"/>
              <p:cNvGrpSpPr/>
              <p:nvPr/>
            </p:nvGrpSpPr>
            <p:grpSpPr>
              <a:xfrm>
                <a:off x="5613120" y="3109320"/>
                <a:ext cx="3276360" cy="1772280"/>
                <a:chOff x="5613120" y="3109320"/>
                <a:chExt cx="3276360" cy="1772280"/>
              </a:xfrm>
            </p:grpSpPr>
            <p:sp>
              <p:nvSpPr>
                <p:cNvPr id="74" name="Text Box 19"/>
                <p:cNvSpPr/>
                <p:nvPr/>
              </p:nvSpPr>
              <p:spPr>
                <a:xfrm>
                  <a:off x="6375240" y="4019040"/>
                  <a:ext cx="2514240" cy="862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Tiempos de Entrega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(confiabilidad)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75" name="AutoShape 20"/>
                <p:cNvCxnSpPr>
                  <a:stCxn id="74" idx="0"/>
                  <a:endCxn id="58" idx="3"/>
                </p:cNvCxnSpPr>
                <p:nvPr/>
              </p:nvCxnSpPr>
              <p:spPr>
                <a:xfrm flipV="1" rot="16200000">
                  <a:off x="6167880" y="2554200"/>
                  <a:ext cx="910080" cy="201960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76" name="Group 21"/>
              <p:cNvGrpSpPr/>
              <p:nvPr/>
            </p:nvGrpSpPr>
            <p:grpSpPr>
              <a:xfrm>
                <a:off x="6679800" y="4856760"/>
                <a:ext cx="2133360" cy="1374480"/>
                <a:chOff x="6679800" y="4856760"/>
                <a:chExt cx="2133360" cy="1374480"/>
              </a:xfrm>
            </p:grpSpPr>
            <p:sp>
              <p:nvSpPr>
                <p:cNvPr id="77" name="Text Box 22"/>
                <p:cNvSpPr/>
                <p:nvPr/>
              </p:nvSpPr>
              <p:spPr>
                <a:xfrm>
                  <a:off x="6679800" y="5466600"/>
                  <a:ext cx="2133360" cy="764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Times New Roman"/>
                    </a:rPr>
                    <a:t>Tiempos Entrega</a:t>
                  </a:r>
                  <a:r>
                    <a:rPr b="1" lang="es-CL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s-CL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Promesa)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Line 23"/>
                <p:cNvSpPr/>
                <p:nvPr/>
              </p:nvSpPr>
              <p:spPr>
                <a:xfrm flipV="1">
                  <a:off x="7746480" y="485676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" name="Group 24"/>
            <p:cNvGrpSpPr/>
            <p:nvPr/>
          </p:nvGrpSpPr>
          <p:grpSpPr>
            <a:xfrm>
              <a:off x="964800" y="1955880"/>
              <a:ext cx="4191480" cy="2062800"/>
              <a:chOff x="964800" y="1955880"/>
              <a:chExt cx="4191480" cy="2062800"/>
            </a:xfrm>
          </p:grpSpPr>
          <p:grpSp>
            <p:nvGrpSpPr>
              <p:cNvPr id="80" name="Group 25"/>
              <p:cNvGrpSpPr/>
              <p:nvPr/>
            </p:nvGrpSpPr>
            <p:grpSpPr>
              <a:xfrm>
                <a:off x="3479760" y="1955880"/>
                <a:ext cx="1676520" cy="913320"/>
                <a:chOff x="3479760" y="1955880"/>
                <a:chExt cx="1676520" cy="913320"/>
              </a:xfrm>
            </p:grpSpPr>
            <p:sp>
              <p:nvSpPr>
                <p:cNvPr id="81" name="Text Box 26"/>
                <p:cNvSpPr/>
                <p:nvPr/>
              </p:nvSpPr>
              <p:spPr>
                <a:xfrm>
                  <a:off x="3479760" y="1955880"/>
                  <a:ext cx="1676520" cy="459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990033"/>
                      </a:solidFill>
                      <a:latin typeface="Arial"/>
                    </a:rPr>
                    <a:t>Retornos</a:t>
                  </a: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Line 27"/>
                <p:cNvSpPr/>
                <p:nvPr/>
              </p:nvSpPr>
              <p:spPr>
                <a:xfrm flipV="1">
                  <a:off x="4318200" y="241236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83" name="AutoShape 28"/>
              <p:cNvCxnSpPr>
                <a:stCxn id="63" idx="0"/>
                <a:endCxn id="81" idx="1"/>
              </p:cNvCxnSpPr>
              <p:nvPr/>
            </p:nvCxnSpPr>
            <p:spPr>
              <a:xfrm flipH="1" flipV="1" rot="5400000">
                <a:off x="1307160" y="1846080"/>
                <a:ext cx="1830600" cy="25153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84" name="Line 31"/>
            <p:cNvSpPr/>
            <p:nvPr/>
          </p:nvSpPr>
          <p:spPr>
            <a:xfrm>
              <a:off x="3657600" y="5702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Text Box 33"/>
          <p:cNvSpPr/>
          <p:nvPr/>
        </p:nvSpPr>
        <p:spPr>
          <a:xfrm>
            <a:off x="-335520" y="1181160"/>
            <a:ext cx="1005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Garamond"/>
              </a:rPr>
              <a:t>Como podemos estimar la rentabilidad  de una operación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Line 3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971800" y="2286000"/>
            <a:ext cx="2514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Arial"/>
              </a:rPr>
              <a:t>Cost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6"/>
          <p:cNvGrpSpPr/>
          <p:nvPr/>
        </p:nvGrpSpPr>
        <p:grpSpPr>
          <a:xfrm>
            <a:off x="2971800" y="2743200"/>
            <a:ext cx="2514600" cy="1145160"/>
            <a:chOff x="2971800" y="2743200"/>
            <a:chExt cx="2514600" cy="1145160"/>
          </a:xfrm>
        </p:grpSpPr>
        <p:sp>
          <p:nvSpPr>
            <p:cNvPr id="89" name="Text Box 7"/>
            <p:cNvSpPr/>
            <p:nvPr/>
          </p:nvSpPr>
          <p:spPr>
            <a:xfrm>
              <a:off x="2971800" y="3428640"/>
              <a:ext cx="251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Trabaj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8"/>
            <p:cNvSpPr/>
            <p:nvPr/>
          </p:nvSpPr>
          <p:spPr>
            <a:xfrm flipV="1">
              <a:off x="4191120" y="27432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Group 9"/>
          <p:cNvGrpSpPr/>
          <p:nvPr/>
        </p:nvGrpSpPr>
        <p:grpSpPr>
          <a:xfrm>
            <a:off x="228600" y="2518920"/>
            <a:ext cx="2743200" cy="1308600"/>
            <a:chOff x="228600" y="2518920"/>
            <a:chExt cx="2743200" cy="1308600"/>
          </a:xfrm>
        </p:grpSpPr>
        <p:sp>
          <p:nvSpPr>
            <p:cNvPr id="92" name="Text Box 10"/>
            <p:cNvSpPr/>
            <p:nvPr/>
          </p:nvSpPr>
          <p:spPr>
            <a:xfrm>
              <a:off x="228600" y="3428640"/>
              <a:ext cx="14479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Materiale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AutoShape 11"/>
            <p:cNvCxnSpPr>
              <a:stCxn id="92" idx="0"/>
              <a:endCxn id="87" idx="1"/>
            </p:cNvCxnSpPr>
            <p:nvPr/>
          </p:nvCxnSpPr>
          <p:spPr>
            <a:xfrm flipH="1" flipV="1" rot="5400000">
              <a:off x="1506960" y="1963800"/>
              <a:ext cx="910080" cy="2019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4" name="Group 12"/>
          <p:cNvGrpSpPr/>
          <p:nvPr/>
        </p:nvGrpSpPr>
        <p:grpSpPr>
          <a:xfrm>
            <a:off x="5485680" y="2518920"/>
            <a:ext cx="3277440" cy="1925640"/>
            <a:chOff x="5485680" y="2518920"/>
            <a:chExt cx="3277440" cy="1925640"/>
          </a:xfrm>
        </p:grpSpPr>
        <p:sp>
          <p:nvSpPr>
            <p:cNvPr id="95" name="Text Box 13"/>
            <p:cNvSpPr/>
            <p:nvPr/>
          </p:nvSpPr>
          <p:spPr>
            <a:xfrm>
              <a:off x="6248520" y="3428640"/>
              <a:ext cx="2514600" cy="101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Inversiones de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Capital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" name="AutoShape 14"/>
            <p:cNvCxnSpPr>
              <a:stCxn id="95" idx="0"/>
              <a:endCxn id="87" idx="3"/>
            </p:cNvCxnSpPr>
            <p:nvPr/>
          </p:nvCxnSpPr>
          <p:spPr>
            <a:xfrm flipV="1" rot="16200000">
              <a:off x="6040800" y="1963800"/>
              <a:ext cx="910080" cy="2019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7" name="Rectangle 15"/>
          <p:cNvSpPr/>
          <p:nvPr/>
        </p:nvSpPr>
        <p:spPr>
          <a:xfrm>
            <a:off x="304920" y="13968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 Centra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-335520" y="1181160"/>
            <a:ext cx="1005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Garamond"/>
              </a:rPr>
              <a:t>Como podemos estimar la rentabilidad  de una operación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4520"/>
            <a:ext cx="7772400" cy="1919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818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KRISTEN’S COOKIE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870280" y="2763720"/>
          <a:ext cx="3009960" cy="23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0280" y="2763720"/>
                    <a:ext cx="300996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609480" y="152280"/>
            <a:ext cx="5943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efinición de un Proces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80880" y="3797280"/>
            <a:ext cx="83059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jemplo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Kristen’s cookies, en el proceso del horno,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28600" y="10666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990033"/>
                </a:solidFill>
                <a:latin typeface="Times New Roman"/>
              </a:rPr>
              <a:t>Un proceso consiste de inputs, outputs, recursos y transformaciones. Los recursos transforman los inputs en outpu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80880" y="4711680"/>
            <a:ext cx="7010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una Aerolíne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304920" y="45734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In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masa,   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galletas cocidas,    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Recurs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Kristen, Horno, Bandej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546200" y="5923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1143000" y="532116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In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personas/equipaje un punto de origen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personas/equipaje un punto de destino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Recurs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aviones, pilotos, azafatas, aeropuertos, etc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895480" y="2120760"/>
            <a:ext cx="281952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d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nsformació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1981080" y="2577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5715000" y="2577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1191240" y="23274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6565320" y="23115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5"/>
          <p:cNvSpPr/>
          <p:nvPr/>
        </p:nvSpPr>
        <p:spPr>
          <a:xfrm flipV="1">
            <a:off x="4191120" y="30351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3504600" y="34164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317520" y="152280"/>
            <a:ext cx="8369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Definición de un Diagrama de Flujo de Proces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17680" y="1108080"/>
            <a:ext cx="839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Un diagram de flujos comprende un conjunto de procesos unidos en una secuencia appropiada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1143000" y="2362320"/>
            <a:ext cx="14479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5867280" y="2362320"/>
            <a:ext cx="14479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5335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731520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259092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1"/>
          <p:cNvSpPr/>
          <p:nvPr/>
        </p:nvSpPr>
        <p:spPr>
          <a:xfrm>
            <a:off x="472428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3709080" y="167652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l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455760" y="3100320"/>
            <a:ext cx="5369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s-CL" sz="2200" spc="-1" strike="noStrike">
                <a:solidFill>
                  <a:srgbClr val="990033"/>
                </a:solidFill>
                <a:latin typeface="Times New Roman"/>
              </a:rPr>
              <a:t>Como dividir una operación en procesos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304920" y="3506760"/>
            <a:ext cx="868680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ólo inputs y outputs se mueven a lo largo de las flechas. Recursos están fijos. Por ello, todo set de recursos usados en forma conjunta define un proceso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r ejemplo, en Kristen’s Cookies, “Mezclar Masa” y “Vaciarla en la Bandeja” are son un mismo procesos ya que comparten el recipiente donde se mezcl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scomponer los procesos de esta manera, donde sólo inputs y outputs se mueven entre procesos permite “romper” una operación complejas en partes mas sencillas que pueden analizarse en forma independiente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r ejemplo, podemos analizar “Mezcla y Vaciado” en forma separada del Horno, el empaque o el pago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5"/>
          <p:cNvSpPr/>
          <p:nvPr/>
        </p:nvSpPr>
        <p:spPr>
          <a:xfrm flipV="1">
            <a:off x="3517920" y="2259720"/>
            <a:ext cx="1447920" cy="8384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31752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Inputs, Outputs y Recurso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3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308240"/>
          <a:ext cx="8229600" cy="4319280"/>
        </p:xfrm>
        <a:graphic>
          <a:graphicData uri="http://schemas.openxmlformats.org/drawingml/2006/table">
            <a:tbl>
              <a:tblPr/>
              <a:tblGrid>
                <a:gridCol w="1828800"/>
                <a:gridCol w="2286000"/>
                <a:gridCol w="2057400"/>
                <a:gridCol w="205740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Inpu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utpu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Recurso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cla y Vaciad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redient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a en Bandej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sador, Recipiente, Bandeja, Krist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cción/Horno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a en Bandej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Calient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, Horno, Bandej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friad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Calient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Frí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acio de la Cocin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aq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, Caja, Corde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Empacad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epción de Pago y Entreg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ner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, Caja Registrador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Text Box 56"/>
          <p:cNvSpPr/>
          <p:nvPr/>
        </p:nvSpPr>
        <p:spPr>
          <a:xfrm>
            <a:off x="365040" y="5637240"/>
            <a:ext cx="832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xcepto por Kristen, su amiga y las bandejas ninguno otro recursos es compartido por dos o mas procesos. Asumiremos un numero ilimitado de bandejas, espacio ilimitado para enfriar en la cocina y tiempo ilimitado para Kristen y su amiga. De esta forma podemos analizar cada proceso por separado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31752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Kristen’s Cookies: Diagrama de Fluj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3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27200" y="1371600"/>
            <a:ext cx="12189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Recepció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85560" y="2030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mputador (0 min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197172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7"/>
          <p:cNvSpPr/>
          <p:nvPr/>
        </p:nvSpPr>
        <p:spPr>
          <a:xfrm flipV="1">
            <a:off x="2502000" y="1459800"/>
            <a:ext cx="64764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302580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786120" y="1397160"/>
            <a:ext cx="399888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Lavar Recipiente, Mezclar Masa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Vaciar en Bandej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3830400" y="2055960"/>
            <a:ext cx="398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Kristen (Setup = 6 min, Operación = 2 min/dz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ote = hasta 3 dz por recipient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1"/>
          <p:cNvSpPr/>
          <p:nvPr/>
        </p:nvSpPr>
        <p:spPr>
          <a:xfrm>
            <a:off x="778500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8470800" y="1752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3"/>
          <p:cNvSpPr/>
          <p:nvPr/>
        </p:nvSpPr>
        <p:spPr>
          <a:xfrm flipV="1">
            <a:off x="8153280" y="2590200"/>
            <a:ext cx="64800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8470800" y="311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5"/>
          <p:cNvSpPr/>
          <p:nvPr/>
        </p:nvSpPr>
        <p:spPr>
          <a:xfrm flipH="1">
            <a:off x="778464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4660920" y="3255840"/>
            <a:ext cx="30621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Carga, ajuste del Timer 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Cocció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4127400" y="3914640"/>
            <a:ext cx="441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Setup = 1 min, Operación = 9 min/dz.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ote = 1 dz. por horno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8"/>
          <p:cNvSpPr/>
          <p:nvPr/>
        </p:nvSpPr>
        <p:spPr>
          <a:xfrm flipH="1">
            <a:off x="374652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9"/>
          <p:cNvSpPr/>
          <p:nvPr/>
        </p:nvSpPr>
        <p:spPr>
          <a:xfrm>
            <a:off x="2755800" y="3233880"/>
            <a:ext cx="96372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Descarg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2615400" y="389268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0 min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21"/>
          <p:cNvSpPr/>
          <p:nvPr/>
        </p:nvSpPr>
        <p:spPr>
          <a:xfrm flipH="1">
            <a:off x="2133720" y="3581280"/>
            <a:ext cx="622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2"/>
          <p:cNvSpPr/>
          <p:nvPr/>
        </p:nvSpPr>
        <p:spPr>
          <a:xfrm>
            <a:off x="1197000" y="3233880"/>
            <a:ext cx="93672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nfriad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1250280" y="38797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(5 min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24"/>
          <p:cNvSpPr/>
          <p:nvPr/>
        </p:nvSpPr>
        <p:spPr>
          <a:xfrm flipH="1">
            <a:off x="635040" y="3581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5"/>
          <p:cNvSpPr/>
          <p:nvPr/>
        </p:nvSpPr>
        <p:spPr>
          <a:xfrm>
            <a:off x="62244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6"/>
          <p:cNvSpPr/>
          <p:nvPr/>
        </p:nvSpPr>
        <p:spPr>
          <a:xfrm flipV="1">
            <a:off x="291960" y="4177440"/>
            <a:ext cx="64800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28"/>
          <p:cNvSpPr/>
          <p:nvPr/>
        </p:nvSpPr>
        <p:spPr>
          <a:xfrm>
            <a:off x="60948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29"/>
          <p:cNvSpPr/>
          <p:nvPr/>
        </p:nvSpPr>
        <p:spPr>
          <a:xfrm>
            <a:off x="622440" y="5334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0"/>
          <p:cNvSpPr/>
          <p:nvPr/>
        </p:nvSpPr>
        <p:spPr>
          <a:xfrm>
            <a:off x="1501920" y="4986360"/>
            <a:ext cx="12189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mpaqu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1"/>
          <p:cNvSpPr/>
          <p:nvPr/>
        </p:nvSpPr>
        <p:spPr>
          <a:xfrm>
            <a:off x="1301040" y="564516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2 min/dz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32"/>
          <p:cNvSpPr/>
          <p:nvPr/>
        </p:nvSpPr>
        <p:spPr>
          <a:xfrm>
            <a:off x="2730600" y="533412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33"/>
          <p:cNvSpPr/>
          <p:nvPr/>
        </p:nvSpPr>
        <p:spPr>
          <a:xfrm flipV="1">
            <a:off x="3289320" y="5054040"/>
            <a:ext cx="64764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34"/>
          <p:cNvSpPr/>
          <p:nvPr/>
        </p:nvSpPr>
        <p:spPr>
          <a:xfrm>
            <a:off x="3797280" y="5334120"/>
            <a:ext cx="71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5"/>
          <p:cNvSpPr/>
          <p:nvPr/>
        </p:nvSpPr>
        <p:spPr>
          <a:xfrm>
            <a:off x="4565520" y="4952880"/>
            <a:ext cx="1771920" cy="719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ntrega y Pag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6"/>
          <p:cNvSpPr/>
          <p:nvPr/>
        </p:nvSpPr>
        <p:spPr>
          <a:xfrm>
            <a:off x="4631760" y="565776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1 min/dz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37"/>
          <p:cNvSpPr/>
          <p:nvPr/>
        </p:nvSpPr>
        <p:spPr>
          <a:xfrm>
            <a:off x="6337440" y="532116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162920" y="4772160"/>
          <a:ext cx="138420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4772160"/>
                    <a:ext cx="138420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1T18:26:37Z</dcterms:created>
  <dc:creator>Rene Caldentey</dc:creator>
  <dc:description/>
  <dc:language>en-US</dc:language>
  <cp:lastModifiedBy>Rene Caldentey</cp:lastModifiedBy>
  <dcterms:modified xsi:type="dcterms:W3CDTF">2009-05-26T14:04:14Z</dcterms:modified>
  <cp:revision>96</cp:revision>
  <dc:subject/>
  <dc:title>KRISTEN’S COOKIES</dc:title>
</cp:coreProperties>
</file>