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stern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0820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422280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34" name="Group 4"/>
          <p:cNvGrpSpPr/>
          <p:nvPr/>
        </p:nvGrpSpPr>
        <p:grpSpPr>
          <a:xfrm>
            <a:off x="5000040" y="1300320"/>
            <a:ext cx="2294280" cy="7239960"/>
            <a:chOff x="5000040" y="1300320"/>
            <a:chExt cx="2294280" cy="7239960"/>
          </a:xfrm>
        </p:grpSpPr>
        <p:sp>
          <p:nvSpPr>
            <p:cNvPr id="335" name="Text Box 5"/>
            <p:cNvSpPr/>
            <p:nvPr/>
          </p:nvSpPr>
          <p:spPr>
            <a:xfrm>
              <a:off x="500292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00004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7"/>
            <p:cNvSpPr/>
            <p:nvPr/>
          </p:nvSpPr>
          <p:spPr>
            <a:xfrm>
              <a:off x="5144760" y="17100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"/>
            <p:cNvSpPr/>
            <p:nvPr/>
          </p:nvSpPr>
          <p:spPr>
            <a:xfrm>
              <a:off x="5144760" y="19490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9"/>
            <p:cNvSpPr/>
            <p:nvPr/>
          </p:nvSpPr>
          <p:spPr>
            <a:xfrm>
              <a:off x="5144760" y="242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144760" y="21880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5144760" y="26658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2"/>
            <p:cNvSpPr/>
            <p:nvPr/>
          </p:nvSpPr>
          <p:spPr>
            <a:xfrm>
              <a:off x="5144760" y="29048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>
              <a:off x="5144760" y="3382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4"/>
            <p:cNvSpPr/>
            <p:nvPr/>
          </p:nvSpPr>
          <p:spPr>
            <a:xfrm>
              <a:off x="5144760" y="31438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5"/>
            <p:cNvSpPr/>
            <p:nvPr/>
          </p:nvSpPr>
          <p:spPr>
            <a:xfrm>
              <a:off x="5144760" y="362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6"/>
            <p:cNvSpPr/>
            <p:nvPr/>
          </p:nvSpPr>
          <p:spPr>
            <a:xfrm>
              <a:off x="5144760" y="3860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7"/>
            <p:cNvSpPr/>
            <p:nvPr/>
          </p:nvSpPr>
          <p:spPr>
            <a:xfrm>
              <a:off x="5144760" y="4338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>
              <a:off x="5144760" y="4099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>
              <a:off x="5144760" y="5911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>
              <a:off x="5144760" y="6150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1"/>
            <p:cNvSpPr/>
            <p:nvPr/>
          </p:nvSpPr>
          <p:spPr>
            <a:xfrm>
              <a:off x="5144760" y="6628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5144760" y="6389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>
              <a:off x="5144760" y="6867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4"/>
            <p:cNvSpPr/>
            <p:nvPr/>
          </p:nvSpPr>
          <p:spPr>
            <a:xfrm>
              <a:off x="5144760" y="710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5"/>
            <p:cNvSpPr/>
            <p:nvPr/>
          </p:nvSpPr>
          <p:spPr>
            <a:xfrm>
              <a:off x="5144760" y="75844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5144760" y="73454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7"/>
            <p:cNvSpPr/>
            <p:nvPr/>
          </p:nvSpPr>
          <p:spPr>
            <a:xfrm>
              <a:off x="5144760" y="78235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5144760" y="80625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5144760" y="85402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5144760" y="830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98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499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0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531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825480" y="630360"/>
            <a:ext cx="5665680" cy="4249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66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367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0820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422280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02" name="Group 4"/>
          <p:cNvGrpSpPr/>
          <p:nvPr/>
        </p:nvGrpSpPr>
        <p:grpSpPr>
          <a:xfrm>
            <a:off x="5000040" y="1300320"/>
            <a:ext cx="2294280" cy="7239960"/>
            <a:chOff x="5000040" y="1300320"/>
            <a:chExt cx="2294280" cy="7239960"/>
          </a:xfrm>
        </p:grpSpPr>
        <p:sp>
          <p:nvSpPr>
            <p:cNvPr id="403" name="Text Box 5"/>
            <p:cNvSpPr/>
            <p:nvPr/>
          </p:nvSpPr>
          <p:spPr>
            <a:xfrm>
              <a:off x="500292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6"/>
            <p:cNvSpPr/>
            <p:nvPr/>
          </p:nvSpPr>
          <p:spPr>
            <a:xfrm>
              <a:off x="500004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>
              <a:off x="5144760" y="17100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>
              <a:off x="5144760" y="19490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5144760" y="242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5144760" y="21880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5144760" y="26658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5144760" y="29048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5144760" y="3382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5144760" y="31438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5144760" y="362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6"/>
            <p:cNvSpPr/>
            <p:nvPr/>
          </p:nvSpPr>
          <p:spPr>
            <a:xfrm>
              <a:off x="5144760" y="3860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>
              <a:off x="5144760" y="4338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5144760" y="4099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9"/>
            <p:cNvSpPr/>
            <p:nvPr/>
          </p:nvSpPr>
          <p:spPr>
            <a:xfrm>
              <a:off x="5144760" y="5911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5144760" y="6150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1"/>
            <p:cNvSpPr/>
            <p:nvPr/>
          </p:nvSpPr>
          <p:spPr>
            <a:xfrm>
              <a:off x="5144760" y="6628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22"/>
            <p:cNvSpPr/>
            <p:nvPr/>
          </p:nvSpPr>
          <p:spPr>
            <a:xfrm>
              <a:off x="5144760" y="6389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3"/>
            <p:cNvSpPr/>
            <p:nvPr/>
          </p:nvSpPr>
          <p:spPr>
            <a:xfrm>
              <a:off x="5144760" y="6867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>
              <a:off x="5144760" y="710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5144760" y="75844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5144760" y="73454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27"/>
            <p:cNvSpPr/>
            <p:nvPr/>
          </p:nvSpPr>
          <p:spPr>
            <a:xfrm>
              <a:off x="5144760" y="78235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28"/>
            <p:cNvSpPr/>
            <p:nvPr/>
          </p:nvSpPr>
          <p:spPr>
            <a:xfrm>
              <a:off x="5144760" y="80625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9"/>
            <p:cNvSpPr/>
            <p:nvPr/>
          </p:nvSpPr>
          <p:spPr>
            <a:xfrm>
              <a:off x="5144760" y="85402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30"/>
            <p:cNvSpPr/>
            <p:nvPr/>
          </p:nvSpPr>
          <p:spPr>
            <a:xfrm>
              <a:off x="5144760" y="830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grpSp>
        <p:nvGrpSpPr>
          <p:cNvPr id="437" name="Group 3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438" name="Text Box 4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6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8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9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2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3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15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6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7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8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9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4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5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6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7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8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9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4" name="Picture 30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F31-90C1-411A-9462-0C2DDE37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C57-9046-4586-BA2E-BAA0481B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0BF-2383-46E3-97AB-B9161E19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C08-ED74-4954-A2F8-981F4CB3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0FE-A8C8-4638-ACC6-E7AE4FAC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D63-E3AA-45F8-ABA6-5BB799F4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995-36D3-4F37-90E1-331B64BE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4D5-AF32-4C78-889E-497333F9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6C7-E244-4C0E-8178-66C24EFD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F02-5817-4123-A476-E37B0F5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870-C665-45D7-9DF8-EDEFEEE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1C3-F308-4519-BE1E-3E04B46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8D5F-632D-454A-A275-A870F1C61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 (II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7320"/>
            <a:ext cx="7772400" cy="1921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Georgia"/>
              </a:rPr>
              <a:t>Análisis de Proceso (cont..)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304920" y="2286000"/>
            <a:ext cx="8001000" cy="992880"/>
            <a:chOff x="304920" y="2286000"/>
            <a:chExt cx="8001000" cy="992880"/>
          </a:xfrm>
        </p:grpSpPr>
        <p:grpSp>
          <p:nvGrpSpPr>
            <p:cNvPr id="52" name="Group 4"/>
            <p:cNvGrpSpPr/>
            <p:nvPr/>
          </p:nvGrpSpPr>
          <p:grpSpPr>
            <a:xfrm>
              <a:off x="1676520" y="2286000"/>
              <a:ext cx="6629400" cy="763920"/>
              <a:chOff x="1676520" y="2286000"/>
              <a:chExt cx="6629400" cy="763920"/>
            </a:xfrm>
          </p:grpSpPr>
          <p:sp>
            <p:nvSpPr>
              <p:cNvPr id="53" name="Text Box 5"/>
              <p:cNvSpPr/>
              <p:nvPr/>
            </p:nvSpPr>
            <p:spPr>
              <a:xfrm>
                <a:off x="2895480" y="257184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Artwork Genera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Text Box 6"/>
              <p:cNvSpPr/>
              <p:nvPr/>
            </p:nvSpPr>
            <p:spPr>
              <a:xfrm>
                <a:off x="4876920" y="258120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Inspect an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Shear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7"/>
              <p:cNvSpPr/>
              <p:nvPr/>
            </p:nvSpPr>
            <p:spPr>
              <a:xfrm>
                <a:off x="7010280" y="259092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Punch Tooling Hol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Text Box 8"/>
              <p:cNvSpPr/>
              <p:nvPr/>
            </p:nvSpPr>
            <p:spPr>
              <a:xfrm>
                <a:off x="1676520" y="2590920"/>
                <a:ext cx="83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514600" y="28195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7010280" y="231624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.5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11"/>
              <p:cNvSpPr/>
              <p:nvPr/>
            </p:nvSpPr>
            <p:spPr>
              <a:xfrm>
                <a:off x="4952880" y="228600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.5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2"/>
              <p:cNvSpPr/>
              <p:nvPr/>
            </p:nvSpPr>
            <p:spPr>
              <a:xfrm>
                <a:off x="2971800" y="234324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4191120" y="2809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>
                <a:off x="6172200" y="28098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 Box 15"/>
            <p:cNvSpPr/>
            <p:nvPr/>
          </p:nvSpPr>
          <p:spPr>
            <a:xfrm>
              <a:off x="304920" y="251460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 Secuencial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762120" y="3733920"/>
            <a:ext cx="7924320" cy="2562840"/>
            <a:chOff x="762120" y="3733920"/>
            <a:chExt cx="7924320" cy="2562840"/>
          </a:xfrm>
        </p:grpSpPr>
        <p:sp>
          <p:nvSpPr>
            <p:cNvPr id="65" name="Text Box 17"/>
            <p:cNvSpPr/>
            <p:nvPr/>
          </p:nvSpPr>
          <p:spPr>
            <a:xfrm>
              <a:off x="4386960" y="3962520"/>
              <a:ext cx="1433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Artwork Generatio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4386960" y="4791240"/>
              <a:ext cx="1433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Inspect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Shea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241680" y="4800600"/>
              <a:ext cx="14328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Punch Tooling Hole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AutoShape 20"/>
            <p:cNvCxnSpPr>
              <a:stCxn id="65" idx="3"/>
            </p:cNvCxnSpPr>
            <p:nvPr/>
          </p:nvCxnSpPr>
          <p:spPr>
            <a:xfrm>
              <a:off x="5820120" y="4191840"/>
              <a:ext cx="2066040" cy="762120"/>
            </a:xfrm>
            <a:prstGeom prst="bentConnector3">
              <a:avLst>
                <a:gd name="adj1" fmla="val 5561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Text Box 21"/>
            <p:cNvSpPr/>
            <p:nvPr/>
          </p:nvSpPr>
          <p:spPr>
            <a:xfrm>
              <a:off x="4471200" y="4496040"/>
              <a:ext cx="143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2"/>
            <p:cNvSpPr/>
            <p:nvPr/>
          </p:nvSpPr>
          <p:spPr>
            <a:xfrm>
              <a:off x="4471200" y="3733920"/>
              <a:ext cx="143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>
              <a:off x="7674840" y="5029200"/>
              <a:ext cx="101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>
              <a:off x="5820480" y="5029200"/>
              <a:ext cx="42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5"/>
            <p:cNvSpPr/>
            <p:nvPr/>
          </p:nvSpPr>
          <p:spPr>
            <a:xfrm>
              <a:off x="762120" y="4267440"/>
              <a:ext cx="219168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Paralela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26"/>
            <p:cNvSpPr/>
            <p:nvPr/>
          </p:nvSpPr>
          <p:spPr>
            <a:xfrm>
              <a:off x="2363400" y="3886200"/>
              <a:ext cx="421560" cy="1676520"/>
            </a:xfrm>
            <a:custGeom>
              <a:avLst/>
              <a:gdLst>
                <a:gd name="textAreaLeft" fmla="*/ 269280 w 421560"/>
                <a:gd name="textAreaRight" fmla="*/ 421920 w 421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7"/>
            <p:cNvSpPr/>
            <p:nvPr/>
          </p:nvSpPr>
          <p:spPr>
            <a:xfrm>
              <a:off x="3796920" y="5867640"/>
              <a:ext cx="387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 Secuencial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28"/>
            <p:cNvSpPr/>
            <p:nvPr/>
          </p:nvSpPr>
          <p:spPr>
            <a:xfrm rot="16200000">
              <a:off x="5208120" y="4083480"/>
              <a:ext cx="380880" cy="3034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8840 h 3034800"/>
                <a:gd name="textAreaBottom" fmla="*/ 2955960 h 303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6157440" y="4496040"/>
              <a:ext cx="14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3796920" y="4237200"/>
              <a:ext cx="58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>
              <a:off x="3796920" y="5010480"/>
              <a:ext cx="58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257760" y="1492200"/>
            <a:ext cx="8581320" cy="642600"/>
            <a:chOff x="257760" y="1492200"/>
            <a:chExt cx="8581320" cy="642600"/>
          </a:xfrm>
        </p:grpSpPr>
        <p:grpSp>
          <p:nvGrpSpPr>
            <p:cNvPr id="198" name="Group 3"/>
            <p:cNvGrpSpPr/>
            <p:nvPr/>
          </p:nvGrpSpPr>
          <p:grpSpPr>
            <a:xfrm>
              <a:off x="1371600" y="1492200"/>
              <a:ext cx="7467480" cy="642600"/>
              <a:chOff x="1371600" y="1492200"/>
              <a:chExt cx="7467480" cy="642600"/>
            </a:xfrm>
          </p:grpSpPr>
          <p:sp>
            <p:nvSpPr>
              <p:cNvPr id="199" name="Text Box 4"/>
              <p:cNvSpPr/>
              <p:nvPr/>
            </p:nvSpPr>
            <p:spPr>
              <a:xfrm>
                <a:off x="1371600" y="1492200"/>
                <a:ext cx="746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C = Prod  / día  =   60 sec. × 420 min  = 25.200  = 50.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Output /  día        500 unidades            50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5"/>
              <p:cNvSpPr/>
              <p:nvPr/>
            </p:nvSpPr>
            <p:spPr>
              <a:xfrm>
                <a:off x="1866600" y="1825560"/>
                <a:ext cx="114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6"/>
              <p:cNvSpPr/>
              <p:nvPr/>
            </p:nvSpPr>
            <p:spPr>
              <a:xfrm>
                <a:off x="3504960" y="1825560"/>
                <a:ext cx="114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5257440" y="179712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Text Box 8"/>
            <p:cNvSpPr/>
            <p:nvPr/>
          </p:nvSpPr>
          <p:spPr>
            <a:xfrm>
              <a:off x="257760" y="14922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2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9"/>
          <p:cNvGrpSpPr/>
          <p:nvPr/>
        </p:nvGrpSpPr>
        <p:grpSpPr>
          <a:xfrm>
            <a:off x="208440" y="2158920"/>
            <a:ext cx="5144760" cy="699120"/>
            <a:chOff x="208440" y="2158920"/>
            <a:chExt cx="5144760" cy="699120"/>
          </a:xfrm>
        </p:grpSpPr>
        <p:grpSp>
          <p:nvGrpSpPr>
            <p:cNvPr id="205" name="Group 10"/>
            <p:cNvGrpSpPr/>
            <p:nvPr/>
          </p:nvGrpSpPr>
          <p:grpSpPr>
            <a:xfrm>
              <a:off x="1040760" y="2178000"/>
              <a:ext cx="4312440" cy="680040"/>
              <a:chOff x="1040760" y="2178000"/>
              <a:chExt cx="4312440" cy="680040"/>
            </a:xfrm>
          </p:grpSpPr>
          <p:sp>
            <p:nvSpPr>
              <p:cNvPr id="206" name="Text Box 11"/>
              <p:cNvSpPr/>
              <p:nvPr/>
            </p:nvSpPr>
            <p:spPr>
              <a:xfrm>
                <a:off x="1040760" y="2178000"/>
                <a:ext cx="43124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N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Garamond"/>
                  </a:rPr>
                  <a:t>T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= T  = 195 sec.  = 3.87  = 4 estacione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C      50.4 sec 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12"/>
              <p:cNvSpPr/>
              <p:nvPr/>
            </p:nvSpPr>
            <p:spPr>
              <a:xfrm>
                <a:off x="1785600" y="250992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13"/>
              <p:cNvSpPr/>
              <p:nvPr/>
            </p:nvSpPr>
            <p:spPr>
              <a:xfrm>
                <a:off x="2318760" y="2509920"/>
                <a:ext cx="68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Text Box 14"/>
            <p:cNvSpPr/>
            <p:nvPr/>
          </p:nvSpPr>
          <p:spPr>
            <a:xfrm>
              <a:off x="208440" y="215892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3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208440" y="2787480"/>
            <a:ext cx="8983080" cy="459720"/>
            <a:chOff x="208440" y="2787480"/>
            <a:chExt cx="8983080" cy="459720"/>
          </a:xfrm>
        </p:grpSpPr>
        <p:sp>
          <p:nvSpPr>
            <p:cNvPr id="211" name="Text Box 16"/>
            <p:cNvSpPr/>
            <p:nvPr/>
          </p:nvSpPr>
          <p:spPr>
            <a:xfrm>
              <a:off x="584640" y="2863440"/>
              <a:ext cx="86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Garamond"/>
                </a:rPr>
                <a:t>Priorizar según # de actividades que siguen. Luego, priorizar según duración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7"/>
            <p:cNvSpPr/>
            <p:nvPr/>
          </p:nvSpPr>
          <p:spPr>
            <a:xfrm>
              <a:off x="208440" y="2787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4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8"/>
          <p:cNvGrpSpPr/>
          <p:nvPr/>
        </p:nvGrpSpPr>
        <p:grpSpPr>
          <a:xfrm>
            <a:off x="205560" y="3435480"/>
            <a:ext cx="6042960" cy="2648880"/>
            <a:chOff x="205560" y="3435480"/>
            <a:chExt cx="6042960" cy="2648880"/>
          </a:xfrm>
        </p:grpSpPr>
        <p:pic>
          <p:nvPicPr>
            <p:cNvPr id="214" name="Picture 19" descr=""/>
            <p:cNvPicPr/>
            <p:nvPr/>
          </p:nvPicPr>
          <p:blipFill>
            <a:blip r:embed="rId1"/>
            <a:stretch/>
          </p:blipFill>
          <p:spPr>
            <a:xfrm>
              <a:off x="328680" y="3549240"/>
              <a:ext cx="5919840" cy="25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0"/>
            <p:cNvSpPr/>
            <p:nvPr/>
          </p:nvSpPr>
          <p:spPr>
            <a:xfrm>
              <a:off x="205560" y="3435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5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1"/>
          <p:cNvGrpSpPr/>
          <p:nvPr/>
        </p:nvGrpSpPr>
        <p:grpSpPr>
          <a:xfrm>
            <a:off x="205200" y="6216480"/>
            <a:ext cx="4929480" cy="680040"/>
            <a:chOff x="205200" y="6216480"/>
            <a:chExt cx="4929480" cy="680040"/>
          </a:xfrm>
        </p:grpSpPr>
        <p:sp>
          <p:nvSpPr>
            <p:cNvPr id="217" name="Text Box 22"/>
            <p:cNvSpPr/>
            <p:nvPr/>
          </p:nvSpPr>
          <p:spPr>
            <a:xfrm>
              <a:off x="205200" y="6216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6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23"/>
            <p:cNvGrpSpPr/>
            <p:nvPr/>
          </p:nvGrpSpPr>
          <p:grpSpPr>
            <a:xfrm>
              <a:off x="1156320" y="6216480"/>
              <a:ext cx="3978360" cy="680040"/>
              <a:chOff x="1156320" y="6216480"/>
              <a:chExt cx="3978360" cy="680040"/>
            </a:xfrm>
          </p:grpSpPr>
          <p:sp>
            <p:nvSpPr>
              <p:cNvPr id="219" name="Text Box 24"/>
              <p:cNvSpPr/>
              <p:nvPr/>
            </p:nvSpPr>
            <p:spPr>
              <a:xfrm>
                <a:off x="1156320" y="6216480"/>
                <a:ext cx="397836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Eficiencia =    T     =    195       =  77%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       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N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Garamond"/>
                  </a:rPr>
                  <a:t>A</a:t>
                </a:r>
                <a:r>
                  <a:rPr b="0" lang="es-CL" sz="1400" spc="-1" strike="noStrike">
                    <a:solidFill>
                      <a:srgbClr val="000000"/>
                    </a:solidFill>
                    <a:latin typeface="Garamond"/>
                  </a:rPr>
                  <a:t>×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C      5 </a:t>
                </a:r>
                <a:r>
                  <a:rPr b="0" lang="es-CL" sz="1400" spc="-1" strike="noStrike">
                    <a:solidFill>
                      <a:srgbClr val="000000"/>
                    </a:solidFill>
                    <a:latin typeface="Garamond"/>
                  </a:rPr>
                  <a:t>×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50.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25"/>
              <p:cNvSpPr/>
              <p:nvPr/>
            </p:nvSpPr>
            <p:spPr>
              <a:xfrm>
                <a:off x="2480760" y="6527160"/>
                <a:ext cx="60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26"/>
              <p:cNvSpPr/>
              <p:nvPr/>
            </p:nvSpPr>
            <p:spPr>
              <a:xfrm>
                <a:off x="3395160" y="652716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22" name=""/>
          <p:cNvGraphicFramePr/>
          <p:nvPr/>
        </p:nvGraphicFramePr>
        <p:xfrm>
          <a:off x="6066000" y="3719520"/>
          <a:ext cx="2352600" cy="2133720"/>
        </p:xfrm>
        <a:graphic>
          <a:graphicData uri="http://schemas.openxmlformats.org/drawingml/2006/table">
            <a:tbl>
              <a:tblPr/>
              <a:tblGrid>
                <a:gridCol w="1176120"/>
                <a:gridCol w="1176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e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Suces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or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or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,G,H or 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23" name="Line 60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1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5800" y="182160"/>
            <a:ext cx="7772400" cy="1434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onner Compan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SMOBC3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111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671400" y="463536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Printed Circuit Board (PCB) Statistic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05520" y="5146560"/>
            <a:ext cx="63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arket: B$ 40.5 in 200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ain Producers: USA – Japan – Taiwan – UE – Chin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525 small/medium size companies in US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500 have annual sales &lt; MM$ 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04920" y="1066680"/>
            <a:ext cx="8839080" cy="5527800"/>
            <a:chOff x="304920" y="1066680"/>
            <a:chExt cx="8839080" cy="5527800"/>
          </a:xfrm>
        </p:grpSpPr>
        <p:sp>
          <p:nvSpPr>
            <p:cNvPr id="230" name="Text Box 3"/>
            <p:cNvSpPr/>
            <p:nvPr/>
          </p:nvSpPr>
          <p:spPr>
            <a:xfrm>
              <a:off x="1828800" y="10666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>
              <a:off x="1752840" y="13446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twork Generatio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>
              <a:off x="1752840" y="21733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pect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hea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3429000" y="218268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unch Tooling Hole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5486400" y="163980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nual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rill (7)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5486400" y="270648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NC Micronic 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9"/>
            <p:cNvSpPr/>
            <p:nvPr/>
          </p:nvSpPr>
          <p:spPr>
            <a:xfrm>
              <a:off x="7391520" y="21826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talliz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0"/>
            <p:cNvSpPr/>
            <p:nvPr/>
          </p:nvSpPr>
          <p:spPr>
            <a:xfrm>
              <a:off x="5791320" y="39355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ctroplat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>
              <a:off x="7467840" y="39355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ip DFP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12"/>
            <p:cNvSpPr/>
            <p:nvPr/>
          </p:nvSpPr>
          <p:spPr>
            <a:xfrm>
              <a:off x="609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tch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n stri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13"/>
            <p:cNvSpPr/>
            <p:nvPr/>
          </p:nvSpPr>
          <p:spPr>
            <a:xfrm>
              <a:off x="2286000" y="568800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lde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s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4038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lder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7467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pect, Tes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d Pac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5791320" y="51544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unch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s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5791320" y="61354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NC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AutoShape 18"/>
            <p:cNvCxnSpPr>
              <a:stCxn id="232" idx="3"/>
              <a:endCxn id="233" idx="1"/>
            </p:cNvCxnSpPr>
            <p:nvPr/>
          </p:nvCxnSpPr>
          <p:spPr>
            <a:xfrm>
              <a:off x="3048120" y="2406600"/>
              <a:ext cx="381600" cy="1008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AutoShape 19"/>
            <p:cNvCxnSpPr>
              <a:stCxn id="233" idx="3"/>
              <a:endCxn id="234" idx="1"/>
            </p:cNvCxnSpPr>
            <p:nvPr/>
          </p:nvCxnSpPr>
          <p:spPr>
            <a:xfrm flipV="1">
              <a:off x="4724640" y="1872720"/>
              <a:ext cx="762480" cy="5436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20"/>
            <p:cNvCxnSpPr>
              <a:stCxn id="233" idx="3"/>
              <a:endCxn id="235" idx="1"/>
            </p:cNvCxnSpPr>
            <p:nvPr/>
          </p:nvCxnSpPr>
          <p:spPr>
            <a:xfrm>
              <a:off x="4724640" y="2415960"/>
              <a:ext cx="762480" cy="52488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AutoShape 21"/>
            <p:cNvCxnSpPr>
              <a:stCxn id="234" idx="3"/>
              <a:endCxn id="236" idx="1"/>
            </p:cNvCxnSpPr>
            <p:nvPr/>
          </p:nvCxnSpPr>
          <p:spPr>
            <a:xfrm>
              <a:off x="6781680" y="1873080"/>
              <a:ext cx="61020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AutoShape 22"/>
            <p:cNvCxnSpPr>
              <a:stCxn id="235" idx="3"/>
              <a:endCxn id="236" idx="1"/>
            </p:cNvCxnSpPr>
            <p:nvPr/>
          </p:nvCxnSpPr>
          <p:spPr>
            <a:xfrm flipV="1">
              <a:off x="6781680" y="2415600"/>
              <a:ext cx="610200" cy="524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AutoShape 23"/>
            <p:cNvCxnSpPr>
              <a:stCxn id="251" idx="3"/>
              <a:endCxn id="237" idx="1"/>
            </p:cNvCxnSpPr>
            <p:nvPr/>
          </p:nvCxnSpPr>
          <p:spPr>
            <a:xfrm>
              <a:off x="5334120" y="4168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" name="AutoShape 24"/>
            <p:cNvCxnSpPr>
              <a:stCxn id="237" idx="3"/>
              <a:endCxn id="238" idx="1"/>
            </p:cNvCxnSpPr>
            <p:nvPr/>
          </p:nvCxnSpPr>
          <p:spPr>
            <a:xfrm>
              <a:off x="7086240" y="4168440"/>
              <a:ext cx="381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AutoShape 25"/>
            <p:cNvCxnSpPr>
              <a:stCxn id="239" idx="3"/>
              <a:endCxn id="240" idx="1"/>
            </p:cNvCxnSpPr>
            <p:nvPr/>
          </p:nvCxnSpPr>
          <p:spPr>
            <a:xfrm>
              <a:off x="1905120" y="5920920"/>
              <a:ext cx="38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AutoShape 26"/>
            <p:cNvCxnSpPr>
              <a:stCxn id="240" idx="3"/>
              <a:endCxn id="241" idx="1"/>
            </p:cNvCxnSpPr>
            <p:nvPr/>
          </p:nvCxnSpPr>
          <p:spPr>
            <a:xfrm>
              <a:off x="3581640" y="592092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AutoShape 27"/>
            <p:cNvCxnSpPr>
              <a:stCxn id="241" idx="3"/>
              <a:endCxn id="243" idx="1"/>
            </p:cNvCxnSpPr>
            <p:nvPr/>
          </p:nvCxnSpPr>
          <p:spPr>
            <a:xfrm flipV="1">
              <a:off x="5334120" y="5387400"/>
              <a:ext cx="457920" cy="5342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AutoShape 28"/>
            <p:cNvCxnSpPr>
              <a:stCxn id="241" idx="3"/>
              <a:endCxn id="244" idx="1"/>
            </p:cNvCxnSpPr>
            <p:nvPr/>
          </p:nvCxnSpPr>
          <p:spPr>
            <a:xfrm>
              <a:off x="5334120" y="5921280"/>
              <a:ext cx="457920" cy="448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AutoShape 29"/>
            <p:cNvCxnSpPr>
              <a:stCxn id="243" idx="3"/>
              <a:endCxn id="242" idx="1"/>
            </p:cNvCxnSpPr>
            <p:nvPr/>
          </p:nvCxnSpPr>
          <p:spPr>
            <a:xfrm>
              <a:off x="7086240" y="5387760"/>
              <a:ext cx="381960" cy="534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AutoShape 30"/>
            <p:cNvCxnSpPr>
              <a:stCxn id="244" idx="3"/>
              <a:endCxn id="242" idx="1"/>
            </p:cNvCxnSpPr>
            <p:nvPr/>
          </p:nvCxnSpPr>
          <p:spPr>
            <a:xfrm flipV="1">
              <a:off x="7086240" y="5920920"/>
              <a:ext cx="381960" cy="448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9" name="Rectangle 31"/>
            <p:cNvSpPr/>
            <p:nvPr/>
          </p:nvSpPr>
          <p:spPr>
            <a:xfrm>
              <a:off x="4876920" y="233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2"/>
            <p:cNvSpPr/>
            <p:nvPr/>
          </p:nvSpPr>
          <p:spPr>
            <a:xfrm>
              <a:off x="9068040" y="23353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3"/>
            <p:cNvSpPr/>
            <p:nvPr/>
          </p:nvSpPr>
          <p:spPr>
            <a:xfrm>
              <a:off x="9068040" y="40878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4"/>
            <p:cNvSpPr/>
            <p:nvPr/>
          </p:nvSpPr>
          <p:spPr>
            <a:xfrm>
              <a:off x="9068040" y="58402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35"/>
            <p:cNvSpPr/>
            <p:nvPr/>
          </p:nvSpPr>
          <p:spPr>
            <a:xfrm>
              <a:off x="304920" y="5840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AutoShape 36"/>
            <p:cNvCxnSpPr>
              <a:stCxn id="231" idx="3"/>
              <a:endCxn id="259" idx="0"/>
            </p:cNvCxnSpPr>
            <p:nvPr/>
          </p:nvCxnSpPr>
          <p:spPr>
            <a:xfrm>
              <a:off x="3048120" y="1577880"/>
              <a:ext cx="1867680" cy="75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AutoShape 37"/>
            <p:cNvCxnSpPr>
              <a:stCxn id="236" idx="3"/>
              <a:endCxn id="260" idx="1"/>
            </p:cNvCxnSpPr>
            <p:nvPr/>
          </p:nvCxnSpPr>
          <p:spPr>
            <a:xfrm flipV="1">
              <a:off x="8686440" y="2410560"/>
              <a:ext cx="38196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AutoShape 38"/>
            <p:cNvCxnSpPr>
              <a:stCxn id="263" idx="3"/>
              <a:endCxn id="239" idx="1"/>
            </p:cNvCxnSpPr>
            <p:nvPr/>
          </p:nvCxnSpPr>
          <p:spPr>
            <a:xfrm>
              <a:off x="380880" y="5916240"/>
              <a:ext cx="22932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AutoShape 39"/>
            <p:cNvCxnSpPr>
              <a:stCxn id="242" idx="3"/>
              <a:endCxn id="262" idx="1"/>
            </p:cNvCxnSpPr>
            <p:nvPr/>
          </p:nvCxnSpPr>
          <p:spPr>
            <a:xfrm flipV="1">
              <a:off x="8762760" y="5915880"/>
              <a:ext cx="30564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AutoShape 40"/>
            <p:cNvCxnSpPr>
              <a:stCxn id="238" idx="3"/>
              <a:endCxn id="261" idx="1"/>
            </p:cNvCxnSpPr>
            <p:nvPr/>
          </p:nvCxnSpPr>
          <p:spPr>
            <a:xfrm flipV="1">
              <a:off x="8762760" y="4163400"/>
              <a:ext cx="30564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Text Box 41"/>
            <p:cNvSpPr/>
            <p:nvPr/>
          </p:nvSpPr>
          <p:spPr>
            <a:xfrm>
              <a:off x="533520" y="2182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teria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42"/>
            <p:cNvSpPr/>
            <p:nvPr/>
          </p:nvSpPr>
          <p:spPr>
            <a:xfrm>
              <a:off x="304920" y="2182680"/>
              <a:ext cx="1295280" cy="6858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43"/>
            <p:cNvSpPr/>
            <p:nvPr/>
          </p:nvSpPr>
          <p:spPr>
            <a:xfrm>
              <a:off x="1371600" y="2411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5791320" y="36306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45"/>
            <p:cNvSpPr/>
            <p:nvPr/>
          </p:nvSpPr>
          <p:spPr>
            <a:xfrm>
              <a:off x="7467840" y="36306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7467840" y="54133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5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5867640" y="48499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48"/>
            <p:cNvSpPr/>
            <p:nvPr/>
          </p:nvSpPr>
          <p:spPr>
            <a:xfrm>
              <a:off x="5867640" y="58402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49"/>
            <p:cNvSpPr/>
            <p:nvPr/>
          </p:nvSpPr>
          <p:spPr>
            <a:xfrm>
              <a:off x="4114800" y="53830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0"/>
            <p:cNvSpPr/>
            <p:nvPr/>
          </p:nvSpPr>
          <p:spPr>
            <a:xfrm>
              <a:off x="2362320" y="53830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51"/>
            <p:cNvSpPr/>
            <p:nvPr/>
          </p:nvSpPr>
          <p:spPr>
            <a:xfrm>
              <a:off x="685800" y="53830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52"/>
            <p:cNvSpPr/>
            <p:nvPr/>
          </p:nvSpPr>
          <p:spPr>
            <a:xfrm>
              <a:off x="5562720" y="24112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53"/>
            <p:cNvSpPr/>
            <p:nvPr/>
          </p:nvSpPr>
          <p:spPr>
            <a:xfrm>
              <a:off x="5562720" y="13651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0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54"/>
            <p:cNvSpPr/>
            <p:nvPr/>
          </p:nvSpPr>
          <p:spPr>
            <a:xfrm>
              <a:off x="7467840" y="19080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7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5"/>
            <p:cNvSpPr/>
            <p:nvPr/>
          </p:nvSpPr>
          <p:spPr>
            <a:xfrm>
              <a:off x="3429000" y="190800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56"/>
            <p:cNvSpPr/>
            <p:nvPr/>
          </p:nvSpPr>
          <p:spPr>
            <a:xfrm>
              <a:off x="1828800" y="187812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57"/>
            <p:cNvGrpSpPr/>
            <p:nvPr/>
          </p:nvGrpSpPr>
          <p:grpSpPr>
            <a:xfrm>
              <a:off x="304920" y="3241800"/>
              <a:ext cx="5105520" cy="1152720"/>
              <a:chOff x="304920" y="3241800"/>
              <a:chExt cx="5105520" cy="1152720"/>
            </a:xfrm>
          </p:grpSpPr>
          <p:sp>
            <p:nvSpPr>
              <p:cNvPr id="286" name="Text Box 58"/>
              <p:cNvSpPr/>
              <p:nvPr/>
            </p:nvSpPr>
            <p:spPr>
              <a:xfrm>
                <a:off x="609840" y="393552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nel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epara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59"/>
              <p:cNvSpPr/>
              <p:nvPr/>
            </p:nvSpPr>
            <p:spPr>
              <a:xfrm>
                <a:off x="2286000" y="393552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aminate and Expose to UV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60"/>
              <p:cNvSpPr/>
              <p:nvPr/>
            </p:nvSpPr>
            <p:spPr>
              <a:xfrm>
                <a:off x="4038840" y="393552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evelop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8" name="AutoShape 61"/>
              <p:cNvCxnSpPr>
                <a:stCxn id="286" idx="3"/>
                <a:endCxn id="287" idx="1"/>
              </p:cNvCxnSpPr>
              <p:nvPr/>
            </p:nvCxnSpPr>
            <p:spPr>
              <a:xfrm>
                <a:off x="1905120" y="4168440"/>
                <a:ext cx="3816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9" name="AutoShape 62"/>
              <p:cNvCxnSpPr>
                <a:stCxn id="287" idx="3"/>
                <a:endCxn id="251" idx="1"/>
              </p:cNvCxnSpPr>
              <p:nvPr/>
            </p:nvCxnSpPr>
            <p:spPr>
              <a:xfrm>
                <a:off x="3581640" y="4168440"/>
                <a:ext cx="457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0" name="Rectangle 63"/>
              <p:cNvSpPr/>
              <p:nvPr/>
            </p:nvSpPr>
            <p:spPr>
              <a:xfrm>
                <a:off x="304920" y="408780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1" name="AutoShape 64"/>
              <p:cNvCxnSpPr>
                <a:stCxn id="290" idx="3"/>
                <a:endCxn id="286" idx="1"/>
              </p:cNvCxnSpPr>
              <p:nvPr/>
            </p:nvCxnSpPr>
            <p:spPr>
              <a:xfrm>
                <a:off x="380880" y="4163760"/>
                <a:ext cx="229320" cy="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2" name="Text Box 65"/>
              <p:cNvSpPr/>
              <p:nvPr/>
            </p:nvSpPr>
            <p:spPr>
              <a:xfrm>
                <a:off x="609840" y="362268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.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66"/>
              <p:cNvSpPr/>
              <p:nvPr/>
            </p:nvSpPr>
            <p:spPr>
              <a:xfrm>
                <a:off x="2362320" y="36306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67"/>
              <p:cNvSpPr/>
              <p:nvPr/>
            </p:nvSpPr>
            <p:spPr>
              <a:xfrm>
                <a:off x="4114800" y="363060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.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AutoShape 68"/>
              <p:cNvSpPr/>
              <p:nvPr/>
            </p:nvSpPr>
            <p:spPr>
              <a:xfrm rot="5400000">
                <a:off x="2895480" y="1115640"/>
                <a:ext cx="152280" cy="487692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203040 h 4876920"/>
                  <a:gd name="textAreaBottom" fmla="*/ 4673880 h 48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Text Box 69"/>
              <p:cNvSpPr/>
              <p:nvPr/>
            </p:nvSpPr>
            <p:spPr>
              <a:xfrm>
                <a:off x="1067040" y="3241800"/>
                <a:ext cx="365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y Film Photoresist (DFPR)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70"/>
            <p:cNvSpPr/>
            <p:nvPr/>
          </p:nvSpPr>
          <p:spPr>
            <a:xfrm>
              <a:off x="7975800" y="6194520"/>
              <a:ext cx="88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wor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" name="AutoShape 71"/>
            <p:cNvCxnSpPr/>
            <p:nvPr/>
          </p:nvCxnSpPr>
          <p:spPr>
            <a:xfrm flipH="1" rot="16200000">
              <a:off x="7720920" y="6091920"/>
              <a:ext cx="192960" cy="317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9" name="Text Box 72"/>
          <p:cNvSpPr/>
          <p:nvPr/>
        </p:nvSpPr>
        <p:spPr>
          <a:xfrm>
            <a:off x="2616120" y="688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50760" y="50760"/>
            <a:ext cx="863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iempos de Setup vs Tiempo de Ejecució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74"/>
          <p:cNvSpPr/>
          <p:nvPr/>
        </p:nvSpPr>
        <p:spPr>
          <a:xfrm>
            <a:off x="406440" y="8762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507960" y="88920"/>
            <a:ext cx="718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lección de Tecnologí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6032160" y="952560"/>
            <a:ext cx="2667240" cy="1800360"/>
            <a:chOff x="6032160" y="952560"/>
            <a:chExt cx="2667240" cy="1800360"/>
          </a:xfrm>
        </p:grpSpPr>
        <p:sp>
          <p:nvSpPr>
            <p:cNvPr id="305" name="Text Box 5"/>
            <p:cNvSpPr/>
            <p:nvPr/>
          </p:nvSpPr>
          <p:spPr>
            <a:xfrm>
              <a:off x="6794640" y="122724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Manual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6794640" y="22939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CNC Micronic 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AutoShape 7"/>
            <p:cNvCxnSpPr>
              <a:endCxn id="305" idx="1"/>
            </p:cNvCxnSpPr>
            <p:nvPr/>
          </p:nvCxnSpPr>
          <p:spPr>
            <a:xfrm flipV="1">
              <a:off x="6032160" y="1460160"/>
              <a:ext cx="76284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AutoShape 8"/>
            <p:cNvCxnSpPr>
              <a:endCxn id="306" idx="1"/>
            </p:cNvCxnSpPr>
            <p:nvPr/>
          </p:nvCxnSpPr>
          <p:spPr>
            <a:xfrm>
              <a:off x="6032160" y="2003040"/>
              <a:ext cx="762840" cy="52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AutoShape 9"/>
            <p:cNvCxnSpPr>
              <a:stCxn id="305" idx="3"/>
            </p:cNvCxnSpPr>
            <p:nvPr/>
          </p:nvCxnSpPr>
          <p:spPr>
            <a:xfrm>
              <a:off x="8089560" y="1460520"/>
              <a:ext cx="61020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AutoShape 10"/>
            <p:cNvCxnSpPr>
              <a:stCxn id="306" idx="3"/>
            </p:cNvCxnSpPr>
            <p:nvPr/>
          </p:nvCxnSpPr>
          <p:spPr>
            <a:xfrm flipV="1">
              <a:off x="8089560" y="2003040"/>
              <a:ext cx="610200" cy="52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Text Box 11"/>
            <p:cNvSpPr/>
            <p:nvPr/>
          </p:nvSpPr>
          <p:spPr>
            <a:xfrm>
              <a:off x="6870600" y="199872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6870600" y="95256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40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13"/>
          <p:cNvSpPr/>
          <p:nvPr/>
        </p:nvSpPr>
        <p:spPr>
          <a:xfrm>
            <a:off x="457200" y="1447920"/>
            <a:ext cx="5781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La capacidad de la operación de Taladros (Drill) varia con el tamaño de la orden. Debemos usar un </a:t>
            </a:r>
            <a:r>
              <a:rPr b="1" lang="es-CL" sz="2200" spc="-1" strike="noStrike">
                <a:solidFill>
                  <a:srgbClr val="990033"/>
                </a:solidFill>
                <a:latin typeface="Garamond"/>
              </a:rPr>
              <a:t>análisis de punto de quiebre 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para decidir entre el taladro manual y el taladro CNC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14"/>
          <p:cNvGrpSpPr/>
          <p:nvPr/>
        </p:nvGrpSpPr>
        <p:grpSpPr>
          <a:xfrm>
            <a:off x="304920" y="2762280"/>
            <a:ext cx="8686800" cy="2851200"/>
            <a:chOff x="304920" y="2762280"/>
            <a:chExt cx="8686800" cy="2851200"/>
          </a:xfrm>
        </p:grpSpPr>
        <p:pic>
          <p:nvPicPr>
            <p:cNvPr id="315" name="Picture 15" descr=""/>
            <p:cNvPicPr/>
            <p:nvPr/>
          </p:nvPicPr>
          <p:blipFill>
            <a:blip r:embed="rId1"/>
            <a:stretch/>
          </p:blipFill>
          <p:spPr>
            <a:xfrm>
              <a:off x="304920" y="2774880"/>
              <a:ext cx="4257720" cy="28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6" descr=""/>
            <p:cNvPicPr/>
            <p:nvPr/>
          </p:nvPicPr>
          <p:blipFill>
            <a:blip r:embed="rId2"/>
            <a:stretch/>
          </p:blipFill>
          <p:spPr>
            <a:xfrm>
              <a:off x="4734000" y="2762280"/>
              <a:ext cx="4257720" cy="28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Text Box 17"/>
          <p:cNvSpPr/>
          <p:nvPr/>
        </p:nvSpPr>
        <p:spPr>
          <a:xfrm>
            <a:off x="827280" y="5562720"/>
            <a:ext cx="719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unto de Quiebre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contrar tamaño de la orden = X tal 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 + 40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X = 240 + 2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X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X = 5.9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6 boards por ord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457200" y="1836720"/>
          <a:ext cx="845820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6720"/>
                    <a:ext cx="845820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41200" y="11304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Mensual de Donner para Distintos Tamaños de O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7960" y="88920"/>
            <a:ext cx="779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pacidad del Siste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76760" cy="43815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507960" y="88920"/>
            <a:ext cx="779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pacidad del Siste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84280" y="88920"/>
            <a:ext cx="810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estión de los Tiempos de Sete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335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Variabilidad en el tamaño de las ordenes produ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ellos de botella cambiant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ificultades para programar la produc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oblemas de cal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eficiencias y reducción de productiv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Flujos de Informa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y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0033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Programación de la Producción: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paquetes computacionales ofrecen una ventaja importante en negocios que están creciendo en volumen y variedad (tempos de proceso distintos, diferentes tamaños de ordenes, diferentes tiempos de entrega, etc…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7645320" y="4775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"/>
          <p:cNvSpPr/>
          <p:nvPr/>
        </p:nvSpPr>
        <p:spPr>
          <a:xfrm>
            <a:off x="2857680" y="288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9777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33"/>
                </a:solidFill>
                <a:latin typeface="Garamond"/>
              </a:rPr>
              <a:t>Cómo compara estas alternativa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90720" y="6324480"/>
            <a:ext cx="167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190440" y="2857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3360" y="2273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Pa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257480" y="2502000"/>
            <a:ext cx="16002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Ingreso      (1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695760" y="2514600"/>
            <a:ext cx="20574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Tests A, B &amp; C (3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603840" y="2502000"/>
            <a:ext cx="198144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specialista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 rot="10800000">
            <a:off x="3032280" y="26478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 rot="10800000">
            <a:off x="495360" y="2654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8610480" y="2844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356000" y="440676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A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444600" y="152280"/>
            <a:ext cx="595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lección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5778360" y="2851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 rot="10800000">
            <a:off x="5952960" y="26161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3505320" y="4762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838080" y="4737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711360" y="41529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Pa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905120" y="4381560"/>
            <a:ext cx="16002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Ingreso     (1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3"/>
          <p:cNvSpPr/>
          <p:nvPr/>
        </p:nvSpPr>
        <p:spPr>
          <a:xfrm rot="10800000">
            <a:off x="3679920" y="4527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4"/>
          <p:cNvSpPr/>
          <p:nvPr/>
        </p:nvSpPr>
        <p:spPr>
          <a:xfrm rot="10800000">
            <a:off x="1143000" y="453384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6438960" y="440676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B 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5587920" y="47624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7"/>
          <p:cNvSpPr/>
          <p:nvPr/>
        </p:nvSpPr>
        <p:spPr>
          <a:xfrm rot="10800000">
            <a:off x="5762520" y="4527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8"/>
          <p:cNvSpPr/>
          <p:nvPr/>
        </p:nvSpPr>
        <p:spPr>
          <a:xfrm rot="10800000">
            <a:off x="7858080" y="452124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8572680" y="4775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3759120" y="5562720"/>
            <a:ext cx="198144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specialista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1"/>
          <p:cNvSpPr/>
          <p:nvPr/>
        </p:nvSpPr>
        <p:spPr>
          <a:xfrm flipH="1">
            <a:off x="7873560" y="5931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2"/>
          <p:cNvSpPr/>
          <p:nvPr/>
        </p:nvSpPr>
        <p:spPr>
          <a:xfrm flipH="1">
            <a:off x="3149280" y="59691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3"/>
          <p:cNvSpPr/>
          <p:nvPr/>
        </p:nvSpPr>
        <p:spPr>
          <a:xfrm>
            <a:off x="-1800" y="17780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lternativa 1</a:t>
            </a:r>
            <a:r>
              <a:rPr b="1" lang="es-CL" sz="2400" spc="-1" strike="noStrike">
                <a:solidFill>
                  <a:srgbClr val="000000"/>
                </a:solidFill>
                <a:latin typeface="Palatino Linotype"/>
              </a:rPr>
              <a:t>: Equipo Flex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16200" y="37339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lternativa 2</a:t>
            </a:r>
            <a:r>
              <a:rPr b="1" lang="es-CL" sz="2400" spc="-1" strike="noStrike">
                <a:solidFill>
                  <a:srgbClr val="000000"/>
                </a:solidFill>
                <a:latin typeface="Palatino Linotype"/>
              </a:rPr>
              <a:t>: Equipo Dedic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6629400" y="556560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C 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6"/>
          <p:cNvSpPr/>
          <p:nvPr/>
        </p:nvSpPr>
        <p:spPr>
          <a:xfrm flipH="1">
            <a:off x="5778000" y="592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7"/>
          <p:cNvSpPr/>
          <p:nvPr/>
        </p:nvSpPr>
        <p:spPr>
          <a:xfrm rot="10800000">
            <a:off x="5952960" y="56865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Las dos medidas son importantes pero reflejan aspectos muy distintos de la operac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De hecho, esfuerzos para mejorar una pueden afectar (disminuir) la otr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n otras palabras, distintas acciones pueden requerirse para mejorar simultáneamente capacidad y tiempos de fluj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Selección de Procesos: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Tiempo de Flujo vs. Capacid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39680" y="1397160"/>
            <a:ext cx="8591400" cy="1047960"/>
            <a:chOff x="139680" y="1397160"/>
            <a:chExt cx="8591400" cy="1047960"/>
          </a:xfrm>
        </p:grpSpPr>
        <p:sp>
          <p:nvSpPr>
            <p:cNvPr id="121" name="Line 4"/>
            <p:cNvSpPr/>
            <p:nvPr/>
          </p:nvSpPr>
          <p:spPr>
            <a:xfrm>
              <a:off x="228600" y="213192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39680" y="13971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Insum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1447920" y="172728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3276720" y="213372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4108320" y="173052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5759280" y="214488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6411960" y="174132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8131320" y="215568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914400" y="279072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n trabajador maneja cada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pacidad= capacidad del CB = 4 unidades por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stá la línea de producción balanceada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04920" y="4876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Balanceo de Línea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i las actividades de este proceso se pueden reasignar de tal forma que cada trabajador se encargue de (approx) 12 minutos – entonces la capacidad del sistema subiría a 5 unidades por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80880" y="266688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eldas de Trabaj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las actividades no pueden reasignar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n embargo, se puede asignar a cada trabajador una celda de trabajo dejándolos a cargo de los tres procesos para una un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Qué pasa con la capacida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ventaja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139680" y="1219320"/>
            <a:ext cx="8591400" cy="1047960"/>
            <a:chOff x="139680" y="1219320"/>
            <a:chExt cx="8591400" cy="1047960"/>
          </a:xfrm>
        </p:grpSpPr>
        <p:sp>
          <p:nvSpPr>
            <p:cNvPr id="135" name="Line 6"/>
            <p:cNvSpPr/>
            <p:nvPr/>
          </p:nvSpPr>
          <p:spPr>
            <a:xfrm>
              <a:off x="228600" y="195408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139680" y="1219320"/>
              <a:ext cx="1371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1447920" y="154944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3276720" y="195588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108320" y="155268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5759280" y="196704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6411960" y="156348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8131320" y="197784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4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28600" y="2316240"/>
            <a:ext cx="868680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amiento en Parale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Hay 15 empleados disponibles para la producció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pción (a) replicar 4 veces la línea (ie, 5 líneas en total) 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pción (b) tener tres centros: centros A, B y C como en la figu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762120" y="4610160"/>
            <a:ext cx="8076960" cy="1741320"/>
            <a:chOff x="762120" y="4610160"/>
            <a:chExt cx="8076960" cy="1741320"/>
          </a:xfrm>
        </p:grpSpPr>
        <p:grpSp>
          <p:nvGrpSpPr>
            <p:cNvPr id="146" name="Group 4"/>
            <p:cNvGrpSpPr/>
            <p:nvPr/>
          </p:nvGrpSpPr>
          <p:grpSpPr>
            <a:xfrm>
              <a:off x="762120" y="4610160"/>
              <a:ext cx="4986000" cy="1741320"/>
              <a:chOff x="762120" y="4610160"/>
              <a:chExt cx="4986000" cy="174132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545640" y="4924800"/>
                <a:ext cx="339480" cy="1082880"/>
                <a:chOff x="3545640" y="4924800"/>
                <a:chExt cx="339480" cy="108288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545640" y="5164920"/>
                  <a:ext cx="339480" cy="12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7"/>
                <p:cNvSpPr/>
                <p:nvPr/>
              </p:nvSpPr>
              <p:spPr>
                <a:xfrm>
                  <a:off x="3545640" y="537840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8"/>
                <p:cNvSpPr/>
                <p:nvPr/>
              </p:nvSpPr>
              <p:spPr>
                <a:xfrm>
                  <a:off x="3545640" y="561888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Rectangle 9"/>
                <p:cNvSpPr/>
                <p:nvPr/>
              </p:nvSpPr>
              <p:spPr>
                <a:xfrm>
                  <a:off x="3545640" y="4924800"/>
                  <a:ext cx="339480" cy="12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10"/>
                <p:cNvSpPr/>
                <p:nvPr/>
              </p:nvSpPr>
              <p:spPr>
                <a:xfrm>
                  <a:off x="3545640" y="587844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11"/>
              <p:cNvGrpSpPr/>
              <p:nvPr/>
            </p:nvGrpSpPr>
            <p:grpSpPr>
              <a:xfrm>
                <a:off x="762120" y="4610160"/>
                <a:ext cx="4986000" cy="1741320"/>
                <a:chOff x="762120" y="4610160"/>
                <a:chExt cx="4986000" cy="1741320"/>
              </a:xfrm>
            </p:grpSpPr>
            <p:grpSp>
              <p:nvGrpSpPr>
                <p:cNvPr id="154" name="Group 12"/>
                <p:cNvGrpSpPr/>
                <p:nvPr/>
              </p:nvGrpSpPr>
              <p:grpSpPr>
                <a:xfrm>
                  <a:off x="2119680" y="4943520"/>
                  <a:ext cx="339480" cy="1083240"/>
                  <a:chOff x="2119680" y="4943520"/>
                  <a:chExt cx="339480" cy="1083240"/>
                </a:xfrm>
              </p:grpSpPr>
              <p:sp>
                <p:nvSpPr>
                  <p:cNvPr id="155" name="Rectangle 13"/>
                  <p:cNvSpPr/>
                  <p:nvPr/>
                </p:nvSpPr>
                <p:spPr>
                  <a:xfrm>
                    <a:off x="2119680" y="5184000"/>
                    <a:ext cx="33948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Rectangle 14"/>
                  <p:cNvSpPr/>
                  <p:nvPr/>
                </p:nvSpPr>
                <p:spPr>
                  <a:xfrm>
                    <a:off x="2119680" y="539748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Rectangle 15"/>
                  <p:cNvSpPr/>
                  <p:nvPr/>
                </p:nvSpPr>
                <p:spPr>
                  <a:xfrm>
                    <a:off x="2119680" y="563796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Rectangle 16"/>
                  <p:cNvSpPr/>
                  <p:nvPr/>
                </p:nvSpPr>
                <p:spPr>
                  <a:xfrm>
                    <a:off x="2119680" y="4943520"/>
                    <a:ext cx="33948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Rectangle 17"/>
                  <p:cNvSpPr/>
                  <p:nvPr/>
                </p:nvSpPr>
                <p:spPr>
                  <a:xfrm>
                    <a:off x="2119680" y="589752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8"/>
                <p:cNvGrpSpPr/>
                <p:nvPr/>
              </p:nvGrpSpPr>
              <p:grpSpPr>
                <a:xfrm>
                  <a:off x="5311440" y="4924800"/>
                  <a:ext cx="339120" cy="1082880"/>
                  <a:chOff x="5311440" y="4924800"/>
                  <a:chExt cx="339120" cy="1082880"/>
                </a:xfrm>
              </p:grpSpPr>
              <p:sp>
                <p:nvSpPr>
                  <p:cNvPr id="161" name="Rectangle 19"/>
                  <p:cNvSpPr/>
                  <p:nvPr/>
                </p:nvSpPr>
                <p:spPr>
                  <a:xfrm>
                    <a:off x="5311440" y="5164920"/>
                    <a:ext cx="33912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Rectangle 20"/>
                  <p:cNvSpPr/>
                  <p:nvPr/>
                </p:nvSpPr>
                <p:spPr>
                  <a:xfrm>
                    <a:off x="5311440" y="537840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Rectangle 21"/>
                  <p:cNvSpPr/>
                  <p:nvPr/>
                </p:nvSpPr>
                <p:spPr>
                  <a:xfrm>
                    <a:off x="5311440" y="561888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Rectangle 22"/>
                  <p:cNvSpPr/>
                  <p:nvPr/>
                </p:nvSpPr>
                <p:spPr>
                  <a:xfrm>
                    <a:off x="5311440" y="4924800"/>
                    <a:ext cx="33912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Rectangle 23"/>
                  <p:cNvSpPr/>
                  <p:nvPr/>
                </p:nvSpPr>
                <p:spPr>
                  <a:xfrm>
                    <a:off x="5311440" y="587844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Oval 24"/>
                <p:cNvSpPr/>
                <p:nvPr/>
              </p:nvSpPr>
              <p:spPr>
                <a:xfrm>
                  <a:off x="2012400" y="4665600"/>
                  <a:ext cx="54324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25"/>
                <p:cNvSpPr/>
                <p:nvPr/>
              </p:nvSpPr>
              <p:spPr>
                <a:xfrm>
                  <a:off x="3448080" y="4628880"/>
                  <a:ext cx="54288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26"/>
                <p:cNvSpPr/>
                <p:nvPr/>
              </p:nvSpPr>
              <p:spPr>
                <a:xfrm>
                  <a:off x="5205240" y="4610160"/>
                  <a:ext cx="54288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27"/>
                <p:cNvSpPr/>
                <p:nvPr/>
              </p:nvSpPr>
              <p:spPr>
                <a:xfrm>
                  <a:off x="762120" y="5508720"/>
                  <a:ext cx="122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28"/>
                <p:cNvSpPr/>
                <p:nvPr/>
              </p:nvSpPr>
              <p:spPr>
                <a:xfrm>
                  <a:off x="2595240" y="5508720"/>
                  <a:ext cx="81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29"/>
                <p:cNvSpPr/>
                <p:nvPr/>
              </p:nvSpPr>
              <p:spPr>
                <a:xfrm>
                  <a:off x="4021200" y="550872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Text Box 30"/>
            <p:cNvSpPr/>
            <p:nvPr/>
          </p:nvSpPr>
          <p:spPr>
            <a:xfrm>
              <a:off x="6019920" y="4610160"/>
              <a:ext cx="281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Cuál opción recomendaría usted?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Line 3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34"/>
          <p:cNvGrpSpPr/>
          <p:nvPr/>
        </p:nvGrpSpPr>
        <p:grpSpPr>
          <a:xfrm>
            <a:off x="139680" y="1066680"/>
            <a:ext cx="8591400" cy="1047960"/>
            <a:chOff x="139680" y="1066680"/>
            <a:chExt cx="8591400" cy="1047960"/>
          </a:xfrm>
        </p:grpSpPr>
        <p:sp>
          <p:nvSpPr>
            <p:cNvPr id="175" name="Line 35"/>
            <p:cNvSpPr/>
            <p:nvPr/>
          </p:nvSpPr>
          <p:spPr>
            <a:xfrm>
              <a:off x="228600" y="180144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139680" y="1066680"/>
              <a:ext cx="1371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37"/>
            <p:cNvSpPr/>
            <p:nvPr/>
          </p:nvSpPr>
          <p:spPr>
            <a:xfrm>
              <a:off x="1447920" y="139680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>
              <a:off x="3276720" y="180324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9"/>
            <p:cNvSpPr/>
            <p:nvPr/>
          </p:nvSpPr>
          <p:spPr>
            <a:xfrm>
              <a:off x="4108320" y="140004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0"/>
            <p:cNvSpPr/>
            <p:nvPr/>
          </p:nvSpPr>
          <p:spPr>
            <a:xfrm>
              <a:off x="5759280" y="181440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6411960" y="141084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2"/>
            <p:cNvSpPr/>
            <p:nvPr/>
          </p:nvSpPr>
          <p:spPr>
            <a:xfrm>
              <a:off x="8131320" y="182520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43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049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143000"/>
            <a:ext cx="853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lanceo de Línea: 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Diseno de Estaciones de Trabajo y Layo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152244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El Modelo J tiene una demanda diaria de 500 unidades. El tiempo de produccion disponible es de 420 minutos por dia. La siguiente tabla muestra las distintas etapas (task) de produccion y sus tiempos de proceso por unida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1447920" y="2387520"/>
            <a:ext cx="6248160" cy="3700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28600" y="6095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 es el mínimo número de estaciones de trabajo necesarias y cual es su layout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57200" y="1254240"/>
            <a:ext cx="8534520" cy="74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Pasos en el Balanceo de Línea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specificar el diagrama de fluj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Determinar el tiempo de ciclo:  C =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Determinar el numero teórico de  estaciones: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Seleccionar una regla primaria (y una secundaria) para asignar tarea a estaciones de trabajo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Usando la regla en 4, asignar el máximo numero de tareas a la estación 1 sin superar el tiempo de ciclo en 2. Repetir para las estaciones 2,3,etc. Determinar el numero actual de estaciones: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valuar la eficiencia del balanceo: </a:t>
            </a: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/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Si la eficiencia no es satisfactoria cambiar la regla en 4 y repetir 5 y 6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533520" y="2946240"/>
            <a:ext cx="8229600" cy="3302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60560" y="160020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aso 1: Diagrama de Flujo para Modelo 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9-05-27T21:31:52Z</dcterms:modified>
  <cp:revision>105</cp:revision>
  <dc:subject/>
  <dc:title>KRISTEN’S COOKIES</dc:title>
</cp:coreProperties>
</file>