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stern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20.xml"/><Relationship Id="rId3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4.xml"/><Relationship Id="rId4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71" name="Group 4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72" name="Text Box 5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9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0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1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4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5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6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7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8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9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0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21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2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3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4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5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26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7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8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9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30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4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46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47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21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22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53" name="Group 4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54" name="Text Box 5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6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7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9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10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1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12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13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4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5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6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7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8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19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20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1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2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3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4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5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26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27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28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792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93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94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Picture 5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29" name="Group 6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830" name="Text Box 7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8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9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10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1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2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3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4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5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6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7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8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9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20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21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22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23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4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5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6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7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8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9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30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31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32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6" name="Picture 36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64" name="Group 3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865" name="Text Box 4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5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7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8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9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1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2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3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4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5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6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7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8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9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20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21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2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3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4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5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26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27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28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1" name="Picture 30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06" name="Group 32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07" name="Text Box 33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4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35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36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37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38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39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40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41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42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43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44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45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46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47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48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49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50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51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52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53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54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55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56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57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58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4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6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77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1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1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1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DF3-5DF0-4EA8-8E34-75B6DCEE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088-992D-4367-9D77-07667774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39E-4C63-4964-A6C5-139F9F3A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549-A783-4031-86AB-427E2F33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CC8-688B-4FEC-B4DB-69965698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20B-14AF-441A-9AB2-04F53D8D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7DF-5792-40C8-BEFB-93C01C96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230-E272-4ADF-84FD-7DE73017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A05-1D67-47A0-A1F7-54B4E74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886-13C9-4C4B-A006-F554E17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479-D0BE-43DB-80A8-4F7E2CC2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2CF-DF48-418D-8EFF-5C3C73D7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14FC-1E0E-48E5-8F33-B89F72622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17480"/>
            <a:ext cx="7772400" cy="1737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8" descr="cha83930_1604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413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93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Line 80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81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82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83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84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85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86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87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88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89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90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91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92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Text Box 96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275"/>
          <p:cNvGrpSpPr/>
          <p:nvPr/>
        </p:nvGrpSpPr>
        <p:grpSpPr>
          <a:xfrm>
            <a:off x="346680" y="2286000"/>
            <a:ext cx="8670240" cy="2838600"/>
            <a:chOff x="346680" y="2286000"/>
            <a:chExt cx="8670240" cy="2838600"/>
          </a:xfrm>
        </p:grpSpPr>
        <p:sp>
          <p:nvSpPr>
            <p:cNvPr id="203" name="AutoShape 97"/>
            <p:cNvSpPr/>
            <p:nvPr/>
          </p:nvSpPr>
          <p:spPr>
            <a:xfrm>
              <a:off x="425160" y="2286000"/>
              <a:ext cx="8585280" cy="28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99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00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01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02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3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04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05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06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07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08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09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10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11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12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13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14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15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16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117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18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120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21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123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24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26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27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29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36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37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8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39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40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41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42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43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44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45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46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47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48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49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50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51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52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53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54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5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56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57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58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59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0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61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62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63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64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65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66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67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68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69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70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71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72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73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74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75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176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77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78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79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80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81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82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83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84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85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86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187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88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89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90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91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92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93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94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95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96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97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98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99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200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01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202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203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204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05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06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07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08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09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10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11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212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13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214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5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216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17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218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19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220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21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222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23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224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225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226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27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228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29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230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231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232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33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234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5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236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37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238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39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240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41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242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43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44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45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46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47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48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49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250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51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252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53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254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255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56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257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58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259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60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261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62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263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64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265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66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267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68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269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70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271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72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73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74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24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1" name="Freeform 20"/>
            <p:cNvSpPr/>
            <p:nvPr/>
          </p:nvSpPr>
          <p:spPr>
            <a:xfrm>
              <a:off x="2828880" y="3622680"/>
              <a:ext cx="1449000" cy="28584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21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25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4" name="Freeform 26"/>
            <p:cNvSpPr/>
            <p:nvPr/>
          </p:nvSpPr>
          <p:spPr>
            <a:xfrm>
              <a:off x="4282920" y="4022640"/>
              <a:ext cx="744840" cy="28548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7" name="Freeform 29"/>
            <p:cNvSpPr/>
            <p:nvPr/>
          </p:nvSpPr>
          <p:spPr>
            <a:xfrm>
              <a:off x="5018040" y="4419720"/>
              <a:ext cx="316080" cy="28584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30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35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90" name="Freeform 32"/>
            <p:cNvSpPr/>
            <p:nvPr/>
          </p:nvSpPr>
          <p:spPr>
            <a:xfrm>
              <a:off x="5326200" y="4809960"/>
              <a:ext cx="136440" cy="2916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34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57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3" name="Group 56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4" name="Freeform 41"/>
              <p:cNvSpPr/>
              <p:nvPr/>
            </p:nvSpPr>
            <p:spPr>
              <a:xfrm>
                <a:off x="3119400" y="3229200"/>
                <a:ext cx="1163520" cy="29196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Text Box 42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39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7" name="Freeform 37"/>
              <p:cNvSpPr/>
              <p:nvPr/>
            </p:nvSpPr>
            <p:spPr>
              <a:xfrm>
                <a:off x="4299120" y="3619800"/>
                <a:ext cx="1449360" cy="28548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Text Box 38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47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400" name="Freeform 45"/>
              <p:cNvSpPr/>
              <p:nvPr/>
            </p:nvSpPr>
            <p:spPr>
              <a:xfrm>
                <a:off x="5761080" y="4019760"/>
                <a:ext cx="744480" cy="28584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46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51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3" name="Freeform 49"/>
              <p:cNvSpPr/>
              <p:nvPr/>
            </p:nvSpPr>
            <p:spPr>
              <a:xfrm>
                <a:off x="6494400" y="4421160"/>
                <a:ext cx="316080" cy="28584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Text Box 50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55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6" name="Freeform 53"/>
              <p:cNvSpPr/>
              <p:nvPr/>
            </p:nvSpPr>
            <p:spPr>
              <a:xfrm>
                <a:off x="6794640" y="4811760"/>
                <a:ext cx="136440" cy="29232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79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9" name="Group 74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10" name="Freeform 60"/>
              <p:cNvSpPr/>
              <p:nvPr/>
            </p:nvSpPr>
            <p:spPr>
              <a:xfrm>
                <a:off x="4591080" y="3229200"/>
                <a:ext cx="1163520" cy="29196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61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75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3" name="Freeform 63"/>
              <p:cNvSpPr/>
              <p:nvPr/>
            </p:nvSpPr>
            <p:spPr>
              <a:xfrm>
                <a:off x="5770440" y="3619800"/>
                <a:ext cx="1449360" cy="28548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Text Box 64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76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6" name="Freeform 66"/>
              <p:cNvSpPr/>
              <p:nvPr/>
            </p:nvSpPr>
            <p:spPr>
              <a:xfrm>
                <a:off x="7232760" y="4019760"/>
                <a:ext cx="744480" cy="28584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Text Box 67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77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9" name="Freeform 69"/>
              <p:cNvSpPr/>
              <p:nvPr/>
            </p:nvSpPr>
            <p:spPr>
              <a:xfrm>
                <a:off x="7966080" y="4421160"/>
                <a:ext cx="316080" cy="28584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Text Box 70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78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2" name="Freeform 72"/>
              <p:cNvSpPr/>
              <p:nvPr/>
            </p:nvSpPr>
            <p:spPr>
              <a:xfrm>
                <a:off x="8265960" y="4811760"/>
                <a:ext cx="136800" cy="29232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3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Group 18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5" name="Freeform 15"/>
            <p:cNvSpPr/>
            <p:nvPr/>
          </p:nvSpPr>
          <p:spPr>
            <a:xfrm>
              <a:off x="1649520" y="3229200"/>
              <a:ext cx="1163160" cy="29196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6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92120" y="1400040"/>
            <a:ext cx="824544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6 ordenes/ h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l Horno es el cuello de botell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La capacidad aumenta a 12 dz./hr para ordenes de 2dz., y a 15 dz./hr para ordenes de 3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ste aumento se debe a que el tiempo de setup de 6 minutos es distribuido en un número mayor de docena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No Cambia. El Horno sigue siendo el cuello de botell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3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4920" y="1359000"/>
          <a:ext cx="8458200" cy="43354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3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04920" y="1359000"/>
          <a:ext cx="8458200" cy="439560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7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28600" y="914400"/>
            <a:ext cx="876312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apacidad aumenta de la siguiente forma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1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7.5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2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12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3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12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uello de Botella cambia dependiendo del tamaño de la orde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ontenido de trabajo de cada orden es = 12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de Ciclo que calculamos es = 10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uego si Kristen trabaja sola no puede mantener un tiempo de ciclo de 10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or lo tanto la capacidad del sistema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CAE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. El recurso Trabajo se convierte en el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Cuello de Botella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y la nueva capacidad es 5 dz./h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l menos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Dos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ersonas se necesitan para operar el sistema a plena capacida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6600" y="1247760"/>
            <a:ext cx="7940520" cy="63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sten’s Cookie Company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”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92120" y="1066680"/>
            <a:ext cx="8245440" cy="60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Utilización de un proceso se defin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= Capacidad del sistema / Capacidad del proces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= Tiempo de Ciclo del proceso / Tiempo de Ciclo del siste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el sistema manejado por Kriste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zcla &amp; Vaciado: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(8 min./dz.)/(10 min./dz.) = 8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Horn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0 / 10 = 10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friad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/10 = 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mpaque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/10 = 2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ga y Pag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/10 = 1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cursos que No son CB pueden estar ociosos. Los CB tiene una utilización de l 100% si no hay variaciones aleatorias en el siste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capacidad del sistema aumenta con el tamaño de la orden. Es decir, ordenes por 2dz liberan tiempo del CB que se puede usar para generar mas ingres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den =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 requieren 8 min del CB para producir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$0.30 dz.)/ (8 min./dz.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 $0.0375/mi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den = 2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 requieren 5 min del CB para producir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$0.88 dz.)/ (5 min./dz.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 $0.176/mi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cuento Maxim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Margen adicional generado al procesar ordenes de 2 dz. En lugar de ordenes de 1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$(0.176-0.0375) × 10min = $1.385 por orden de 2 d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  <a:ea typeface="ＭＳ Ｐゴシック"/>
              </a:rPr>
              <a:t>Concepto: MONETARIZAR EL CUELLO DE BOTELL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e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9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2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Text Box 3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Text Box 5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6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7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Text Box 8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AutoShape 9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Group 10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AutoShape 12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AutoShape 13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Group 14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Text Box 15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16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Group 18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Text Box 19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AutoShape 20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Group 21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Text Box 22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23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Group 24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Group 25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Text Box 26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27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AutoShape 28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Line 31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33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Text Box 7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8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9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Text Box 10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AutoShape 11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Group 12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Text Box 13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AutoShape 14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Rectangle 15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5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56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7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3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6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2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5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7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9-05-26T14:04:14Z</dcterms:modified>
  <cp:revision>96</cp:revision>
  <dc:subject/>
  <dc:title>KRISTEN’S COOKIES</dc:title>
</cp:coreProperties>
</file>