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F41-F5E5-4E57-A18C-B1E5EEF5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921-B760-44F6-8738-F5F816AD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5ED-1A07-45EB-9B44-F823721C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969-B3E4-4496-BCBC-44BDB5DF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BEE-C06D-4C84-BC02-38597CF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A23-3255-4CFE-9F5B-111FEA85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BC9-0EC3-4A3D-B6E6-2F20DABE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EDF-5F0C-4B8D-8754-9BD62ED4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057-9CFA-41E6-A799-47AFDB6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F51-8E09-4CE4-8EAC-5D66FEB9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AFD-6140-4EC5-99DF-43C4929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056-B2E6-435C-808F-5CD6A2B7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AF6-1B0A-4A54-BF4A-7B2F96F969A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4 Elipse"/>
          <p:cNvSpPr/>
          <p:nvPr/>
        </p:nvSpPr>
        <p:spPr>
          <a:xfrm>
            <a:off x="0" y="3214800"/>
            <a:ext cx="2786040" cy="4286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1:07Z</dcterms:created>
  <dc:creator>Ricardo San Martín Z</dc:creator>
  <dc:description/>
  <dc:language>en-US</dc:language>
  <cp:lastModifiedBy>Ricardo San Martín Z</cp:lastModifiedBy>
  <dcterms:modified xsi:type="dcterms:W3CDTF">2009-03-24T18:42:12Z</dcterms:modified>
  <cp:revision>1</cp:revision>
  <dc:subject/>
  <dc:title>Diapositiva 1</dc:title>
</cp:coreProperties>
</file>