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815-B644-4B38-B7D5-80D934A3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ED6-C42B-4D05-8770-F84254D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7DD-2E14-4BA4-9421-1EE2C9E4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ACA-C02A-4FB1-BC76-8ACF371C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957-2926-4C6C-94B4-C4CEC2B2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4EE-4DC0-43D8-8B7E-EC293662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57C-FA89-4361-A8E7-8F453041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509-F294-4D2B-A189-1529E11B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4A2-D763-42BE-BB10-DB6159E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1AF-AE1C-4597-9143-66F3EF41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B87-6385-4D36-9A98-D78BCD0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04F-8716-4D0E-8FAE-F41AE59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47FA-6DF5-46D4-B5E7-524DCEBCD02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4 Elipse"/>
          <p:cNvSpPr/>
          <p:nvPr/>
        </p:nvSpPr>
        <p:spPr>
          <a:xfrm>
            <a:off x="0" y="3214800"/>
            <a:ext cx="2786040" cy="4286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1:07Z</dcterms:created>
  <dc:creator>Ricardo San Martín Z</dc:creator>
  <dc:description/>
  <dc:language>en-US</dc:language>
  <cp:lastModifiedBy>Ricardo San Martín Z</cp:lastModifiedBy>
  <dcterms:modified xsi:type="dcterms:W3CDTF">2009-03-24T18:42:12Z</dcterms:modified>
  <cp:revision>1</cp:revision>
  <dc:subject/>
  <dc:title>Diapositiva 1</dc:title>
</cp:coreProperties>
</file>