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A04-8AE8-4D7C-A866-36DACD88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A12-8D8E-4E38-BE52-255C3110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E727-D25F-41AE-9269-1CF7C7C6E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16E-24F5-4308-BD58-B96D5369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0353-D2AD-4567-9AC2-A80853B5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5E6-2800-4EE6-8E27-244D22C7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3C3-D613-4FE3-B4B2-417B7455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7A5-2101-4BEC-9778-4310F31A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CF9-65E3-4023-9075-F4EF48DD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F19-18C7-40DF-9FC9-35225DDD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82F-68C5-4C3B-9707-07597A6C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9D8-48DB-42B2-8B0B-81F282B2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3261-4556-4964-98FF-69756AEED9CB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4 Elipse"/>
          <p:cNvSpPr/>
          <p:nvPr/>
        </p:nvSpPr>
        <p:spPr>
          <a:xfrm>
            <a:off x="0" y="3214800"/>
            <a:ext cx="2786040" cy="42861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8:41:07Z</dcterms:created>
  <dc:creator>Ricardo San Martín Z</dc:creator>
  <dc:description/>
  <dc:language>en-US</dc:language>
  <cp:lastModifiedBy>Ricardo San Martín Z</cp:lastModifiedBy>
  <dcterms:modified xsi:type="dcterms:W3CDTF">2009-03-24T18:42:12Z</dcterms:modified>
  <cp:revision>1</cp:revision>
  <dc:subject/>
  <dc:title>Diapositiva 1</dc:title>
</cp:coreProperties>
</file>