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EC94-22E8-4172-9660-808E01A7A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832F-2EC7-44AF-8452-4886A1261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5EFD-C55D-4981-A1F6-11D582719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9364-7229-4385-95BA-514C627F8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F2609-EE13-4404-A4FB-1E9B4FD6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35371-E2F5-467B-8352-ECDE74F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72AF8-3D6B-4D4D-88C0-B66C0DE1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C5772-BC75-4C86-A1AD-848BF09D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B5B6E-F73E-400F-9CA7-5B2DF6CB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1A49D-699C-4BC5-9D5C-2BF41CA6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BBC71-2C79-4B76-9BF9-C254A1A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A99C-2187-46F2-8D91-48E4EF79E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19136-B52E-4B46-9192-7C87DCF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DF4D2-1E98-47F1-8D4C-F291EF2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A3B06-77FD-4B6C-A1AA-0599514B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938D6-5843-47F0-BFB4-1399F11D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413C1-8E9B-41B1-A69B-F8C53645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54D9-256D-4346-A392-17E7013AE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F297-E83E-413F-A31D-8B9F041C7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233C-8222-48C3-B46A-41C42708A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CCC2-3C82-4DC5-9CC9-330118114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25BB-3458-4583-944F-844E887B3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F94D-1725-41D4-AC87-048836F39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0889-B464-4A1B-B995-1BE1125EA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E5D-F71D-49E3-A20C-5EE4E540B83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AB8E-FDED-4A0D-A2C9-95AC7EE209D4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7339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4: 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CAB9-7827-4FA2-8140-F30B042C38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17880" y="1676520"/>
            <a:ext cx="557820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0631-06F0-4AFC-9B3D-4E3C7A05FB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FCA7-C343-4934-90DE-BC108B7E7E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2ADB-219C-4720-97C7-30541B627F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D645-C2B7-4CFF-916C-A15F4E4202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957A-CCFD-4627-A35F-C724C040C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E296-32AB-4AFF-B4C4-9A136BEB19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F51A-CE3D-4DB3-8570-9F9B77ED74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3845-281B-4D51-BDBD-15E34EA281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emás, se debe ver en forma sistemática factibilidad técnico-económ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F1A7-BB0F-4F32-830F-15D0626A49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BCF2-5412-4683-94A5-BF47825789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48680" y="574848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Matriz de Proceso-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92280" y="1523880"/>
            <a:ext cx="7543800" cy="4095720"/>
            <a:chOff x="692280" y="1523880"/>
            <a:chExt cx="7543800" cy="4095720"/>
          </a:xfrm>
        </p:grpSpPr>
        <p:sp>
          <p:nvSpPr>
            <p:cNvPr id="210" name=""/>
            <p:cNvSpPr/>
            <p:nvPr/>
          </p:nvSpPr>
          <p:spPr>
            <a:xfrm>
              <a:off x="692280" y="1530360"/>
              <a:ext cx="7532640" cy="40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2089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0920" y="208908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20890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9560" y="20890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7600" y="226548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ajo volumen-baj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9120" y="226548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múltipl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0040" y="2265480"/>
              <a:ext cx="104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oc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040" y="226548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to volumen-al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472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0560" y="24400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volumen 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9680" y="244008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portant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0596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87240" y="2611440"/>
              <a:ext cx="105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ún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8960" y="261144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yor volum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6680" y="26114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utili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1840" y="2800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8960" y="297504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sorde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5000" y="31496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taller de proyecto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1120" y="35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3684600"/>
              <a:ext cx="105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s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7160" y="386064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exión (por lote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040" y="421956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7160" y="4395960"/>
              <a:ext cx="16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relacio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8240" y="4570560"/>
              <a:ext cx="123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línea de ensamb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1480" y="49309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040" y="510552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continu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2055960"/>
              <a:ext cx="2520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055960"/>
              <a:ext cx="270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416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224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10520" y="2055960"/>
              <a:ext cx="25560" cy="356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6400" y="2752560"/>
              <a:ext cx="16383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6400" y="346392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17348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6400" y="4883040"/>
              <a:ext cx="1627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5594400"/>
              <a:ext cx="6529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6240" y="2781360"/>
              <a:ext cx="803160" cy="69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98280" y="300348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pres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14496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4760" y="3470400"/>
              <a:ext cx="803160" cy="69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9280" y="369396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quip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440" y="383688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7080" y="4200480"/>
              <a:ext cx="80460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9960" y="442440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nsam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3640" y="4565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u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2000" y="4879800"/>
              <a:ext cx="80316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6480" y="51037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finerí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724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54480" y="3263760"/>
              <a:ext cx="582480" cy="381240"/>
              <a:chOff x="4254480" y="3263760"/>
              <a:chExt cx="582480" cy="3812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4480" y="3263760"/>
                <a:ext cx="49860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1400" y="3543480"/>
                <a:ext cx="11556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22760" y="4025880"/>
              <a:ext cx="497160" cy="339840"/>
              <a:chOff x="5522760" y="4025880"/>
              <a:chExt cx="497160" cy="339840"/>
            </a:xfrm>
          </p:grpSpPr>
          <p:sp>
            <p:nvSpPr>
              <p:cNvPr id="263" name=""/>
              <p:cNvSpPr/>
              <p:nvPr/>
            </p:nvSpPr>
            <p:spPr>
              <a:xfrm>
                <a:off x="5522760" y="4025880"/>
                <a:ext cx="4129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04000" y="42642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3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694560" y="4726080"/>
              <a:ext cx="517320" cy="349200"/>
              <a:chOff x="6694560" y="4726080"/>
              <a:chExt cx="517320" cy="349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694560" y="4726080"/>
                <a:ext cx="43488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5960" y="497376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325680" y="1819440"/>
              <a:ext cx="4902480" cy="129960"/>
              <a:chOff x="3325680" y="1819440"/>
              <a:chExt cx="4902480" cy="129960"/>
            </a:xfrm>
          </p:grpSpPr>
          <p:sp>
            <p:nvSpPr>
              <p:cNvPr id="269" name=""/>
              <p:cNvSpPr/>
              <p:nvPr/>
            </p:nvSpPr>
            <p:spPr>
              <a:xfrm>
                <a:off x="3325680" y="1874880"/>
                <a:ext cx="4775400" cy="19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7840" y="181944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1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65200" y="2781360"/>
              <a:ext cx="130320" cy="2828880"/>
              <a:chOff x="1465200" y="2781360"/>
              <a:chExt cx="130320" cy="282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1521000" y="2781360"/>
                <a:ext cx="20520" cy="270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65200" y="54799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336840" y="4530600"/>
              <a:ext cx="1859040" cy="1060560"/>
            </a:xfrm>
            <a:custGeom>
              <a:avLst/>
              <a:gdLst/>
              <a:ahLst/>
              <a:rect l="l" t="t" r="r" b="b"/>
              <a:pathLst>
                <a:path w="1171" h="668">
                  <a:moveTo>
                    <a:pt x="0" y="0"/>
                  </a:moveTo>
                  <a:lnTo>
                    <a:pt x="0" y="668"/>
                  </a:lnTo>
                  <a:lnTo>
                    <a:pt x="1171" y="6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6840" y="4952880"/>
              <a:ext cx="1347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ábrica automatiza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 poca produ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8480" y="2749680"/>
              <a:ext cx="1838520" cy="1069920"/>
            </a:xfrm>
            <a:custGeom>
              <a:avLst/>
              <a:gdLst/>
              <a:ahLst/>
              <a:rect l="l" t="t" r="r" b="b"/>
              <a:pathLst>
                <a:path w="1158" h="674">
                  <a:moveTo>
                    <a:pt x="1158" y="67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158" y="6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1480" y="2870280"/>
              <a:ext cx="943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ransporte m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5160" y="1523880"/>
              <a:ext cx="25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1600" y="155736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5840" y="1698480"/>
              <a:ext cx="182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2781360"/>
              <a:ext cx="390240" cy="28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624240" y="4898520"/>
              <a:ext cx="115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52160" y="4588200"/>
              <a:ext cx="17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F2EB-437D-48E9-945A-A475826F69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E37C-2443-4DE9-973F-36C2B8CFE7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36CB-2C40-4409-A37E-11ABFB5CFB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07F1-7FFF-4D0F-81ED-379620941F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44C9-9E99-4524-AE40-A126297899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743F-610C-42E2-A4C8-2D41D75B80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F683-F3E0-4868-9D6A-7588F0E6D1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9E20-F20C-4C10-946E-6790B497E1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Flujo en Lín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05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16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17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001F-774C-4512-90BC-D06CB5284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AF81-2FE9-4FC9-B4EF-E8C499154B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9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 “Tiempos Modernos” de Chapl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20BF-01F9-4463-902E-744F79AAA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31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51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AE697-5E2D-488E-ABD7-56EA82B539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E5EF-FF42-471E-8725-96E79CC0E1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458A-2E7D-41E9-8901-40BDCA4C1A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174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234C-6912-4809-A1E2-EB90C6701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1-04-12T20:51:56Z</cp:lastPrinted>
  <dcterms:modified xsi:type="dcterms:W3CDTF">2009-03-19T14:21:23Z</dcterms:modified>
  <cp:revision>154</cp:revision>
  <dc:subject/>
  <dc:title>Comercio Electrónico</dc:title>
</cp:coreProperties>
</file>