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56C68-D21A-4E63-A246-0DB5861F1F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BA36D-182F-4E30-B7B9-B5B3A3E119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1B190-6DBB-469E-8445-7BE7F24A4D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D8AD8-FBE5-401E-BF49-BC704AF89B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023320-4143-46A6-9815-02C1A6059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48F26B-AF03-40AC-AE66-F1E4ADFDC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FA93CF-90AA-416F-B693-E714D3090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D4BB5B-2B85-4BC2-933C-E59ED4F35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02C4EE-BF67-4E16-91C8-A665A74B7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A7AB26-E4F0-4ACD-B4D2-A2123B997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AD5F9E-95DB-43A3-9825-35AFD48F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98608-0B76-4D82-9E81-97C2FC7CC7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A852F5-F9F1-4361-9BD6-42C999CE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DE413E-5832-478B-B604-9BEAF62C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9C97F9-9139-482D-940A-60F09762D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1A28C0-64A8-4563-BF58-BB4C965E8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3602EF-AA64-4762-8836-9B3B93C6D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4E732-6DD5-418E-851B-97B3D6FE2F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7DCE5-11EC-42B0-A643-22B5145396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E2F96-E29B-429A-8F9A-B49C19EB57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CA37A-27C7-4C3C-BD63-D981005D0A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8B759-5704-48A5-B8DE-B5337573F9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11BB5-ED89-4902-BA71-CDDEC9B9A4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4F281-B457-4314-A182-26165F203E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474912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8495E-2080-4E60-92DC-031161245DC8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56C17-BCFC-4CB3-BD91-6E1855945F54}" type="slidenum"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373392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pítulo 4: Selección del Proceso Produc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strucción de un edific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strucción de un barc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yecto de consultorí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15458-6DE3-4833-A77E-97EF31358AB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uadro Resum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117880" y="1676520"/>
            <a:ext cx="5578200" cy="4456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AD979-6734-43F2-93C4-8F0CA8BC88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Clasificación por Tipo de Cliente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A Pedid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s elaborados de acuerdo a especificaciones del cliente (fecha, precio, etc.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edidas de eficienci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umplimiento de plaz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umplimiento de especificac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staura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ast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mpren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lfombras Tejid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93866-8B5F-4343-AB1D-0A3D6E50BB4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Clasificación por Tipo de Cliente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Para Inventari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s son elaborados para venta por stock contra de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edidas de eficienci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rvicio (ventas no cumplida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u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V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c Donal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opa en Tien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ED50E-21A4-41B5-BCAD-4064F6F789E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Clasificación por Tipo de Cliente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uede ser convenient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binar pedidos e inventar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osponer el ensamble del producto fi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lmacenar inventario de producto genéri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 Caso Benett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EC0BD-E699-432B-A5C1-53E24C46DA1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uadro Resum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914400" y="2666880"/>
            <a:ext cx="7543800" cy="27403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219320" y="2057400"/>
            <a:ext cx="693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Tahoma"/>
              </a:rPr>
              <a:t>Fabricación para Inventario versus Fabricación por Pedi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8F2DA-D7E2-41D0-86CA-9231AC27067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jemp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752480" y="2057400"/>
            <a:ext cx="6324840" cy="349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6270A-93F6-46A3-AFA5-3A341C2A575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Factores de Ele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Requerimientos de capital y costos de oper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ceso en línea requiere mayor costo de capital, pero menor costo operacio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Condiciones de mercad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olumen alto lleva a un proceso en líne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competencia puede exigir flexibi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Disponibilidad, costo y habilidades de la mano de obr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raslado de industrias a países en desarroll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99310-D8E6-4C52-AE2C-CB6C9DA6C9E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Factores de Ele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Capacidad administrativ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ubcontratación de algunos procesos (ejemplo: transport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5.- Disponibilidad y precio de la materia prim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lujo en línea necesita suministro continuo de insum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6.- Estado de la tecnologí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lujo en línea tiene mayor riesgo frente a factores de camb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F2E29-704D-4250-95DA-7E96269D624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Factores de Ele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demás, se debe ver en forma sistemática factibilidad técnico-económic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BFE36-388D-4A46-AA00-B64E895136B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selección del proceso productivo corresponde a una decisión de nivel estratégic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 relaciona fuertemente con el diseño del producto, los volúmenes de producción y las tecnologías utilizad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AA143-B0B1-45D5-9CF2-9F51F2C96DE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strategia Producto-Proces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2848680" y="5748480"/>
            <a:ext cx="415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Tahoma"/>
              </a:rPr>
              <a:t>Matriz de Proceso-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692280" y="1523880"/>
            <a:ext cx="7543800" cy="4095720"/>
            <a:chOff x="692280" y="1523880"/>
            <a:chExt cx="7543800" cy="4095720"/>
          </a:xfrm>
        </p:grpSpPr>
        <p:sp>
          <p:nvSpPr>
            <p:cNvPr id="210" name=""/>
            <p:cNvSpPr/>
            <p:nvPr/>
          </p:nvSpPr>
          <p:spPr>
            <a:xfrm>
              <a:off x="692280" y="1530360"/>
              <a:ext cx="7532640" cy="407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389040" y="20890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570920" y="2089080"/>
              <a:ext cx="79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900400" y="2089080"/>
              <a:ext cx="11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II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009560" y="2089080"/>
              <a:ext cx="13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IV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387600" y="2265480"/>
              <a:ext cx="1158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Bajo volumen-baj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69120" y="2265480"/>
              <a:ext cx="1262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Productos múltiples,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900040" y="2265480"/>
              <a:ext cx="1044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Pocos product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007040" y="2265480"/>
              <a:ext cx="1082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Alto volumen-alt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84720" y="2440080"/>
              <a:ext cx="1020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estandarización,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570560" y="2440080"/>
              <a:ext cx="832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volumen baj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899680" y="2440080"/>
              <a:ext cx="773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importantes,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005960" y="2440080"/>
              <a:ext cx="1020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estandarización,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387240" y="2611440"/>
              <a:ext cx="1059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productos únic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898960" y="2611440"/>
              <a:ext cx="959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mayor volum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006680" y="2611440"/>
              <a:ext cx="1207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productos utilitari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761840" y="28004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758960" y="2975040"/>
              <a:ext cx="1158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Flujo desordenad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55000" y="3149640"/>
              <a:ext cx="1241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(taller de proyectos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61120" y="3510000"/>
              <a:ext cx="79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758960" y="3684600"/>
              <a:ext cx="1058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Flujo de línea si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757160" y="3860640"/>
              <a:ext cx="1232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conexión (por lotes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760040" y="4219560"/>
              <a:ext cx="11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II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757160" y="4395960"/>
              <a:ext cx="160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Flujo de línea relacionad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758240" y="4570560"/>
              <a:ext cx="1239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(línea de ensamble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761480" y="4930920"/>
              <a:ext cx="13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IV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760040" y="5105520"/>
              <a:ext cx="87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Flujo continu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19560" y="2055960"/>
              <a:ext cx="25200" cy="723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02160" y="2055960"/>
              <a:ext cx="27000" cy="71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834160" y="2055960"/>
              <a:ext cx="25200" cy="71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42240" y="2055960"/>
              <a:ext cx="25200" cy="71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210520" y="2055960"/>
              <a:ext cx="25560" cy="3563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706400" y="2752560"/>
              <a:ext cx="16383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706400" y="3463920"/>
              <a:ext cx="162720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706400" y="4173480"/>
              <a:ext cx="162720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706400" y="4883040"/>
              <a:ext cx="16272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706400" y="5594400"/>
              <a:ext cx="6529680" cy="2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486240" y="2781360"/>
              <a:ext cx="803160" cy="690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698280" y="3003480"/>
              <a:ext cx="485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Impresor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667320" y="3144960"/>
              <a:ext cx="517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Comercia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784760" y="3470400"/>
              <a:ext cx="803160" cy="69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039280" y="3693960"/>
              <a:ext cx="39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Equipo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023440" y="3836880"/>
              <a:ext cx="39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Pesad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977080" y="4200480"/>
              <a:ext cx="804600" cy="69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159960" y="442440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Ensambl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263640" y="456552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Aut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182000" y="4879800"/>
              <a:ext cx="803160" cy="69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386480" y="5103720"/>
              <a:ext cx="498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Refinería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437240" y="5245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Azúca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4254480" y="3263760"/>
              <a:ext cx="582480" cy="381240"/>
              <a:chOff x="4254480" y="3263760"/>
              <a:chExt cx="582480" cy="381240"/>
            </a:xfrm>
          </p:grpSpPr>
          <p:sp>
            <p:nvSpPr>
              <p:cNvPr id="260" name=""/>
              <p:cNvSpPr/>
              <p:nvPr/>
            </p:nvSpPr>
            <p:spPr>
              <a:xfrm>
                <a:off x="4254480" y="3263760"/>
                <a:ext cx="498600" cy="32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721400" y="3543480"/>
                <a:ext cx="115560" cy="101520"/>
              </a:xfrm>
              <a:custGeom>
                <a:avLst/>
                <a:gdLst/>
                <a:ahLst/>
                <a:rect l="l" t="t" r="r" b="b"/>
                <a:pathLst>
                  <a:path w="73" h="64">
                    <a:moveTo>
                      <a:pt x="0" y="55"/>
                    </a:moveTo>
                    <a:lnTo>
                      <a:pt x="73" y="64"/>
                    </a:lnTo>
                    <a:lnTo>
                      <a:pt x="36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5522760" y="4025880"/>
              <a:ext cx="497160" cy="339840"/>
              <a:chOff x="5522760" y="4025880"/>
              <a:chExt cx="497160" cy="339840"/>
            </a:xfrm>
          </p:grpSpPr>
          <p:sp>
            <p:nvSpPr>
              <p:cNvPr id="263" name=""/>
              <p:cNvSpPr/>
              <p:nvPr/>
            </p:nvSpPr>
            <p:spPr>
              <a:xfrm>
                <a:off x="5522760" y="4025880"/>
                <a:ext cx="412920" cy="28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904000" y="4264200"/>
                <a:ext cx="115920" cy="101520"/>
              </a:xfrm>
              <a:custGeom>
                <a:avLst/>
                <a:gdLst/>
                <a:ahLst/>
                <a:rect l="l" t="t" r="r" b="b"/>
                <a:pathLst>
                  <a:path w="73" h="64">
                    <a:moveTo>
                      <a:pt x="0" y="53"/>
                    </a:moveTo>
                    <a:lnTo>
                      <a:pt x="73" y="64"/>
                    </a:lnTo>
                    <a:lnTo>
                      <a:pt x="37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6694560" y="4726080"/>
              <a:ext cx="517320" cy="349200"/>
              <a:chOff x="6694560" y="4726080"/>
              <a:chExt cx="517320" cy="349200"/>
            </a:xfrm>
          </p:grpSpPr>
          <p:sp>
            <p:nvSpPr>
              <p:cNvPr id="266" name=""/>
              <p:cNvSpPr/>
              <p:nvPr/>
            </p:nvSpPr>
            <p:spPr>
              <a:xfrm>
                <a:off x="6694560" y="4726080"/>
                <a:ext cx="434880" cy="29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095960" y="4973760"/>
                <a:ext cx="115920" cy="101520"/>
              </a:xfrm>
              <a:custGeom>
                <a:avLst/>
                <a:gdLst/>
                <a:ahLst/>
                <a:rect l="l" t="t" r="r" b="b"/>
                <a:pathLst>
                  <a:path w="73" h="64">
                    <a:moveTo>
                      <a:pt x="0" y="55"/>
                    </a:moveTo>
                    <a:lnTo>
                      <a:pt x="73" y="64"/>
                    </a:lnTo>
                    <a:lnTo>
                      <a:pt x="3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3325680" y="1819440"/>
              <a:ext cx="4902480" cy="129960"/>
              <a:chOff x="3325680" y="1819440"/>
              <a:chExt cx="4902480" cy="129960"/>
            </a:xfrm>
          </p:grpSpPr>
          <p:sp>
            <p:nvSpPr>
              <p:cNvPr id="269" name=""/>
              <p:cNvSpPr/>
              <p:nvPr/>
            </p:nvSpPr>
            <p:spPr>
              <a:xfrm>
                <a:off x="3325680" y="1874880"/>
                <a:ext cx="4775400" cy="1908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8097840" y="1819440"/>
                <a:ext cx="130320" cy="129960"/>
              </a:xfrm>
              <a:custGeom>
                <a:avLst/>
                <a:gdLst/>
                <a:ahLst/>
                <a:rect l="l" t="t" r="r" b="b"/>
                <a:pathLst>
                  <a:path w="82" h="82">
                    <a:moveTo>
                      <a:pt x="0" y="82"/>
                    </a:moveTo>
                    <a:lnTo>
                      <a:pt x="82" y="41"/>
                    </a:lnTo>
                    <a:lnTo>
                      <a:pt x="0" y="0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1465200" y="2781360"/>
              <a:ext cx="130320" cy="2828880"/>
              <a:chOff x="1465200" y="2781360"/>
              <a:chExt cx="130320" cy="2828880"/>
            </a:xfrm>
          </p:grpSpPr>
          <p:sp>
            <p:nvSpPr>
              <p:cNvPr id="272" name=""/>
              <p:cNvSpPr/>
              <p:nvPr/>
            </p:nvSpPr>
            <p:spPr>
              <a:xfrm>
                <a:off x="1521000" y="2781360"/>
                <a:ext cx="20520" cy="27018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465200" y="5479920"/>
                <a:ext cx="130320" cy="130320"/>
              </a:xfrm>
              <a:custGeom>
                <a:avLst/>
                <a:gdLst/>
                <a:ahLst/>
                <a:rect l="l" t="t" r="r" b="b"/>
                <a:pathLst>
                  <a:path w="82" h="82">
                    <a:moveTo>
                      <a:pt x="0" y="0"/>
                    </a:moveTo>
                    <a:lnTo>
                      <a:pt x="41" y="82"/>
                    </a:lnTo>
                    <a:lnTo>
                      <a:pt x="8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3336840" y="4530600"/>
              <a:ext cx="1859040" cy="1060560"/>
            </a:xfrm>
            <a:custGeom>
              <a:avLst/>
              <a:gdLst/>
              <a:ahLst/>
              <a:rect l="l" t="t" r="r" b="b"/>
              <a:pathLst>
                <a:path w="1171" h="668">
                  <a:moveTo>
                    <a:pt x="0" y="0"/>
                  </a:moveTo>
                  <a:lnTo>
                    <a:pt x="0" y="668"/>
                  </a:lnTo>
                  <a:lnTo>
                    <a:pt x="1171" y="6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426840" y="4952880"/>
              <a:ext cx="1347840" cy="50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Fábrica automatizad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con poca producció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378480" y="2749680"/>
              <a:ext cx="1838520" cy="1069920"/>
            </a:xfrm>
            <a:custGeom>
              <a:avLst/>
              <a:gdLst/>
              <a:ahLst/>
              <a:rect l="l" t="t" r="r" b="b"/>
              <a:pathLst>
                <a:path w="1158" h="674">
                  <a:moveTo>
                    <a:pt x="1158" y="674"/>
                  </a:moveTo>
                  <a:lnTo>
                    <a:pt x="1158" y="0"/>
                  </a:lnTo>
                  <a:lnTo>
                    <a:pt x="0" y="0"/>
                  </a:lnTo>
                  <a:lnTo>
                    <a:pt x="1158" y="67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161480" y="2870280"/>
              <a:ext cx="943920" cy="50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Transporte ma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llevad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305160" y="1523880"/>
              <a:ext cx="25779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351600" y="1557360"/>
              <a:ext cx="1190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Estructura del product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345840" y="1698480"/>
              <a:ext cx="1820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Etapa del ciclo de vida del product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87560" y="2781360"/>
              <a:ext cx="390240" cy="280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6200000">
              <a:off x="624240" y="4898520"/>
              <a:ext cx="1152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Estructura del proces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6200000">
              <a:off x="452160" y="4588200"/>
              <a:ext cx="1782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Etapa del ciclo de vida del proces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F2D9B-61C8-4B9A-BD90-CD45BDF212B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strategia Producto-Proces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terpret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 masivo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estandarización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proceso en líne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n cambio de producto esta ligado a un cambio de proces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se atrasa el avance en los procesos aumentan los costos, si se adelanta se pierde flexibi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conveniente moverse sobre la diago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F4E64-7D81-4D9F-A4C4-E3E3BD0B809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strategia Producto-Proces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ctualmente se busca la producción masiva pero flexible (FMS: Sistemas de Manufactura Flexibl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s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Bicicletas en Jap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6A995-C06E-400A-B254-F90DBE458FC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egración Vertic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Hacia Atrás (a la materia prima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entaj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fiabilidad en el suministr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lanta celulos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bosqu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dena de supermercados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camp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lanta pesquer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bar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656AF-6ADE-4B47-A72E-19314111E3F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egración Vertic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Hacia Adelante (a los mercados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entaj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trol de merc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tacto con el clie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ábrica textil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negocios de vent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operativa de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plant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distribución.                                     productores de lech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CE805-5711-45F6-AA6D-878E45DBD1F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egración Vertic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tegración Vertical a Nivel Global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artes se hacen en Estados Unidos, son ensambladas en México y se distribuyen desde Estados Uni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blemas de la Integr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stos de capital elev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abilidades gerenciales requerid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BBB95-566A-4F5B-869D-96751BD4960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egración Horizon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nsiste en aprovechar las ventajas comparativas para expandirse a áreas similar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us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estigio en el merca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ristian Dior: perfumes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ropa, joyas y reloj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ecnologí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ead: ski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teni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ces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enda de rop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multitienda (Falabella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ultitiend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financie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57D38-BA8A-456D-A34D-5BF2DFA5168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egración Horizon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Ventaj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pertura de nuevos merc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blem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sperfilarse hacia negocios en los cuales se tiene baja experi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B953A-0901-4DD9-81DE-E04A69B4083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Flujo en Líne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rresponde a una secuencia lineal de operaci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905120" y="3402000"/>
            <a:ext cx="5181480" cy="839880"/>
            <a:chOff x="1905120" y="3402000"/>
            <a:chExt cx="5181480" cy="839880"/>
          </a:xfrm>
        </p:grpSpPr>
        <p:sp>
          <p:nvSpPr>
            <p:cNvPr id="105" name=""/>
            <p:cNvSpPr/>
            <p:nvPr/>
          </p:nvSpPr>
          <p:spPr>
            <a:xfrm>
              <a:off x="2514600" y="3695760"/>
              <a:ext cx="533520" cy="533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657600" y="3695760"/>
              <a:ext cx="533520" cy="533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00600" y="3695760"/>
              <a:ext cx="533520" cy="533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943600" y="3708360"/>
              <a:ext cx="533520" cy="533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905120" y="39625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48120" y="39625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91120" y="39625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39625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477120" y="39625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578560" y="3402000"/>
              <a:ext cx="450720" cy="41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657440" y="5378400"/>
            <a:ext cx="3583080" cy="794520"/>
            <a:chOff x="1657440" y="5378400"/>
            <a:chExt cx="3583080" cy="794520"/>
          </a:xfrm>
        </p:grpSpPr>
        <p:grpSp>
          <p:nvGrpSpPr>
            <p:cNvPr id="116" name=""/>
            <p:cNvGrpSpPr/>
            <p:nvPr/>
          </p:nvGrpSpPr>
          <p:grpSpPr>
            <a:xfrm>
              <a:off x="1657440" y="5378400"/>
              <a:ext cx="3583080" cy="533160"/>
              <a:chOff x="1657440" y="5378400"/>
              <a:chExt cx="3583080" cy="533160"/>
            </a:xfrm>
          </p:grpSpPr>
          <p:sp>
            <p:nvSpPr>
              <p:cNvPr id="117" name=""/>
              <p:cNvSpPr/>
              <p:nvPr/>
            </p:nvSpPr>
            <p:spPr>
              <a:xfrm>
                <a:off x="1657440" y="5378400"/>
                <a:ext cx="533160" cy="5331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410920" y="5454360"/>
                <a:ext cx="2829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Tarea o estación de trabajo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1670040" y="5835600"/>
              <a:ext cx="2714040" cy="337320"/>
              <a:chOff x="1670040" y="5835600"/>
              <a:chExt cx="2714040" cy="337320"/>
            </a:xfrm>
          </p:grpSpPr>
          <p:sp>
            <p:nvSpPr>
              <p:cNvPr id="120" name=""/>
              <p:cNvSpPr/>
              <p:nvPr/>
            </p:nvSpPr>
            <p:spPr>
              <a:xfrm>
                <a:off x="1670040" y="6019920"/>
                <a:ext cx="609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421720" y="5835600"/>
                <a:ext cx="196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Flujo del producto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444840" y="4605480"/>
            <a:ext cx="18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Tahoma"/>
              </a:rPr>
              <a:t>Flujo Lin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7ECCB-8CAF-4710-862B-F03BD1B1E4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Product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asiv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rat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standarizad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Proces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ntinu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n poca flexibilid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utomatizad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quiere equipo especializad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ficient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 fácil contro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58105-E267-48E5-8A9E-E3D56F7AFE5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versión al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ajo inventar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ficiencia del 90% aproximadame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no de obra poco especializa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elícula “Tiempos Modernos” de Chapli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íneas de ensam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feterí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dustria Químic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dustria Electrónic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peler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dustria del Acer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A9760-5EF3-4DBA-BB55-553EEF67581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Flujo Intermitente (taller de trabajo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rresponde a la producción por lotes, en forma intermit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3407040" y="4800600"/>
            <a:ext cx="27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Tahoma"/>
              </a:rPr>
              <a:t>Flujo Intermit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743200" y="3048120"/>
            <a:ext cx="4038480" cy="1345680"/>
            <a:chOff x="2743200" y="3048120"/>
            <a:chExt cx="4038480" cy="1345680"/>
          </a:xfrm>
        </p:grpSpPr>
        <p:sp>
          <p:nvSpPr>
            <p:cNvPr id="131" name=""/>
            <p:cNvSpPr/>
            <p:nvPr/>
          </p:nvSpPr>
          <p:spPr>
            <a:xfrm>
              <a:off x="2743200" y="42033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743200" y="40510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3251160" y="3048120"/>
              <a:ext cx="3530520" cy="1345680"/>
              <a:chOff x="3251160" y="3048120"/>
              <a:chExt cx="3530520" cy="1345680"/>
            </a:xfrm>
          </p:grpSpPr>
          <p:sp>
            <p:nvSpPr>
              <p:cNvPr id="134" name=""/>
              <p:cNvSpPr/>
              <p:nvPr/>
            </p:nvSpPr>
            <p:spPr>
              <a:xfrm>
                <a:off x="3352680" y="3848040"/>
                <a:ext cx="533520" cy="5331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95680" y="3848040"/>
                <a:ext cx="533520" cy="5331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638680" y="3860640"/>
                <a:ext cx="533520" cy="5331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886200" y="411480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029200" y="411480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172200" y="403848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341320" y="3462840"/>
                <a:ext cx="393120" cy="46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860640" y="3048120"/>
                <a:ext cx="533520" cy="5331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003640" y="3048120"/>
                <a:ext cx="533520" cy="5331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251160" y="331452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94160" y="331452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537160" y="331452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289400" y="3533760"/>
                <a:ext cx="300600" cy="39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V="1">
                <a:off x="3689640" y="3498480"/>
                <a:ext cx="278640" cy="34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V="1">
                <a:off x="4820040" y="3503160"/>
                <a:ext cx="278280" cy="34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172200" y="419076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0" name=""/>
          <p:cNvGrpSpPr/>
          <p:nvPr/>
        </p:nvGrpSpPr>
        <p:grpSpPr>
          <a:xfrm>
            <a:off x="1657440" y="5378400"/>
            <a:ext cx="3583080" cy="946800"/>
            <a:chOff x="1657440" y="5378400"/>
            <a:chExt cx="3583080" cy="946800"/>
          </a:xfrm>
        </p:grpSpPr>
        <p:grpSp>
          <p:nvGrpSpPr>
            <p:cNvPr id="151" name=""/>
            <p:cNvGrpSpPr/>
            <p:nvPr/>
          </p:nvGrpSpPr>
          <p:grpSpPr>
            <a:xfrm>
              <a:off x="1657440" y="5378400"/>
              <a:ext cx="3583080" cy="533520"/>
              <a:chOff x="1657440" y="5378400"/>
              <a:chExt cx="3583080" cy="533520"/>
            </a:xfrm>
          </p:grpSpPr>
          <p:sp>
            <p:nvSpPr>
              <p:cNvPr id="152" name=""/>
              <p:cNvSpPr/>
              <p:nvPr/>
            </p:nvSpPr>
            <p:spPr>
              <a:xfrm>
                <a:off x="1657440" y="5378400"/>
                <a:ext cx="533160" cy="53352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410920" y="5454720"/>
                <a:ext cx="2829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Tarea o estación de trabajo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1670040" y="60199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22440" y="5987880"/>
              <a:ext cx="196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ahoma"/>
                </a:rPr>
                <a:t>Flujo del producto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63560" y="61722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663560" y="632448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2FEE1-ABE1-4F38-981A-0A08746E3D5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equipo y mano de obra se organizan en centros o equipos de trabajo por tipos similares de habilida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nor eficiencia (~ 20 - 40%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yor flexibil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nor invers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yor habilidad de la mano de ob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nor utilización de equip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quinaria más gener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trol más difíci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ventario más al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0A436-A613-41B5-A3B3-1BD87A9E78A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Gara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aller de Mueb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sulto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78B3C-3209-4DC5-81D8-14218116B13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Flujo por Proyec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tintas etapas que se enlazan para realizar un trabaj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3416400" y="4800600"/>
            <a:ext cx="27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Tahoma"/>
              </a:rPr>
              <a:t>Flujo de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43200" y="3505320"/>
            <a:ext cx="838080" cy="533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omien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943600" y="3505320"/>
            <a:ext cx="914400" cy="533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F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5445360" y="3074400"/>
            <a:ext cx="636840" cy="51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60640" y="2692440"/>
            <a:ext cx="533520" cy="533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03640" y="2692440"/>
            <a:ext cx="533520" cy="533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394160" y="299736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3500280" y="3096000"/>
            <a:ext cx="37836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327560" y="3186000"/>
            <a:ext cx="770040" cy="1121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657440" y="5378400"/>
            <a:ext cx="3290760" cy="794520"/>
            <a:chOff x="1657440" y="5378400"/>
            <a:chExt cx="3290760" cy="794520"/>
          </a:xfrm>
        </p:grpSpPr>
        <p:grpSp>
          <p:nvGrpSpPr>
            <p:cNvPr id="174" name=""/>
            <p:cNvGrpSpPr/>
            <p:nvPr/>
          </p:nvGrpSpPr>
          <p:grpSpPr>
            <a:xfrm>
              <a:off x="1657440" y="5378400"/>
              <a:ext cx="2637000" cy="533160"/>
              <a:chOff x="1657440" y="5378400"/>
              <a:chExt cx="2637000" cy="533160"/>
            </a:xfrm>
          </p:grpSpPr>
          <p:sp>
            <p:nvSpPr>
              <p:cNvPr id="175" name=""/>
              <p:cNvSpPr/>
              <p:nvPr/>
            </p:nvSpPr>
            <p:spPr>
              <a:xfrm>
                <a:off x="1657440" y="5378400"/>
                <a:ext cx="533160" cy="5331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434320" y="5454360"/>
                <a:ext cx="1860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Tarea o actividad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1670040" y="5835600"/>
              <a:ext cx="3278160" cy="337320"/>
              <a:chOff x="1670040" y="5835600"/>
              <a:chExt cx="3278160" cy="337320"/>
            </a:xfrm>
          </p:grpSpPr>
          <p:sp>
            <p:nvSpPr>
              <p:cNvPr id="178" name=""/>
              <p:cNvSpPr/>
              <p:nvPr/>
            </p:nvSpPr>
            <p:spPr>
              <a:xfrm>
                <a:off x="1670040" y="6019920"/>
                <a:ext cx="609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400840" y="5835600"/>
                <a:ext cx="2547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Relación de precedencia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0" name=""/>
          <p:cNvSpPr/>
          <p:nvPr/>
        </p:nvSpPr>
        <p:spPr>
          <a:xfrm>
            <a:off x="3886200" y="4191120"/>
            <a:ext cx="533520" cy="533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4191120"/>
            <a:ext cx="533520" cy="533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445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29000" y="39625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5562720" y="39625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C84F5-50C9-441F-B983-AA3C35A2181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14:21:15Z</dcterms:created>
  <dc:creator>Dpto. Ingeniería Industrial</dc:creator>
  <dc:description/>
  <dc:language>en-US</dc:language>
  <cp:lastModifiedBy>.................</cp:lastModifiedBy>
  <cp:lastPrinted>2001-04-12T20:51:56Z</cp:lastPrinted>
  <dcterms:modified xsi:type="dcterms:W3CDTF">2009-03-19T14:21:23Z</dcterms:modified>
  <cp:revision>154</cp:revision>
  <dc:subject/>
  <dc:title>Comercio Electrónico</dc:title>
</cp:coreProperties>
</file>