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28224-20DF-49A9-97AB-444D17622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B3722-BCB6-496B-9AF4-D82EA6EBF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BB618-EA6D-43E2-B678-FACEE9EFF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37221-82CB-46F2-90FC-4BC48F7D6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B7072-0350-44D0-B912-55641E2B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330AB-3134-41F8-A985-E96724B9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1CD20-E00F-4992-B66F-C9E78E59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F6A26-CEEB-44E5-984C-D5932701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51767-9417-497A-8496-4C03E16F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4C7A3-2A5C-492A-9B5D-DD6CB17E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6FEFA-3C16-4A7C-BBC4-0E0956F5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A0D8F-66EE-4DF3-B9E9-DEA6FD199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67999-F6C2-4699-BF69-5A1B9251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B2164-E573-44D8-A217-5420390A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64B24-0881-4800-B5CE-7CFC4BD3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9A107-DCE4-4B36-9CC8-A650A649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90FB9-F9AC-4979-BE43-1B75DB5E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E477A-F46A-44CA-A23C-9EBEBDCDD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748D4-BC74-4FEB-BFCA-E92DF8849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93024-9EC1-4F5A-81F7-5644ADBDA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E7D7F-8B97-47BD-99BE-4C667C1DE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E0704-E70B-403C-95FF-D0A206998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8BFF8-6625-43EC-80B8-1F51D4BA5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DE104-F613-4A1A-A050-4D04C7605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749120" y="627696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5CCA-F091-4A55-9AC6-6865051A846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F0F0-DCD1-447A-9EE0-C15756E56E8B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373392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4: Selección del Proceso Produ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trucción de un edif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trucción de un bar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yecto de consulto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65792-D3F9-4297-89CE-E5D282F0F3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adro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117880" y="1676520"/>
            <a:ext cx="5578200" cy="445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81EBE-99AB-440B-A3D9-7338681F79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A Pedi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elaborados de acuerdo a especificaciones del cliente (fecha, precio, etc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mplimiento de especific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taura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st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r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fombras Tej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89A89-EE37-4270-8809-6F1A6A2D56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ara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son elaborados para venta por stock contr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fici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 (ventas no cumplid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V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c Dona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opa en Ti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4BC0D-6C5D-450A-B0EF-C8F04BA0BF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Clasificación por Tipo de Client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ser conveni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binar pedidos e inventa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sponer el ensamble del 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r inventario de producto genér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Caso Benett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627E1-98F0-4752-A280-CE2F80F597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uadro Resu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543800" cy="2740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219320" y="205740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ahoma"/>
              </a:rPr>
              <a:t>Fabricación para Inventario versus Fabricación por Ped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7389A-461F-45CC-9919-B8A73DAF9F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324840" cy="349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4DD0E-C549-4440-8FCD-9C06A934DB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querimientos de capital y costos de ope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en línea requiere mayor costo de capital, pero menor costo opera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Condicione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umen alto lleva a un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ompetencia puede exigir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isponibilidad, costo y habilidades de la mano de ob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slado de industrias a países en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43231-C7EC-497E-8DD7-16D0A324D5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Capacidad administrati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bcontratación de algunos procesos (ejemplo: transpor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Disponibilidad y precio de la materia pri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necesita suministro continuo de insu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Estado de la tecn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ujo en línea tiene mayor riesgo frente a factor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71387-D5EF-4F83-B60E-33612A5A6E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Factore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demás, se debe ver en forma sistemática factibilidad técnico-económ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25EBD-F342-40DC-AD68-6606E3AB46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selección del proceso productivo corresponde a una decisión de nivel estratég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relaciona fuertemente con el diseño del producto, los volúmenes de producción y las tecnologías utiliz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F91F9-E6FA-4147-A5E3-B923E95994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848680" y="5748480"/>
            <a:ext cx="41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Matriz de Proceso-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92280" y="1523880"/>
            <a:ext cx="7543800" cy="4095720"/>
            <a:chOff x="692280" y="1523880"/>
            <a:chExt cx="7543800" cy="4095720"/>
          </a:xfrm>
        </p:grpSpPr>
        <p:sp>
          <p:nvSpPr>
            <p:cNvPr id="210" name=""/>
            <p:cNvSpPr/>
            <p:nvPr/>
          </p:nvSpPr>
          <p:spPr>
            <a:xfrm>
              <a:off x="692280" y="1530360"/>
              <a:ext cx="7532640" cy="407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89040" y="20890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70920" y="208908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00400" y="208908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09560" y="208908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87600" y="2265480"/>
              <a:ext cx="1158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Bajo volumen-baj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69120" y="2265480"/>
              <a:ext cx="1262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s múltiples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00040" y="2265480"/>
              <a:ext cx="1044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ocos product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07040" y="226548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Alto volumen-al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84720" y="2440080"/>
              <a:ext cx="102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standarización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70560" y="2440080"/>
              <a:ext cx="832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volumen baj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99680" y="2440080"/>
              <a:ext cx="77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mportantes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05960" y="2440080"/>
              <a:ext cx="102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estandarización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87240" y="2611440"/>
              <a:ext cx="1059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s únic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98960" y="2611440"/>
              <a:ext cx="959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mayor volume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06680" y="2611440"/>
              <a:ext cx="1207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productos utilitari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61840" y="2800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58960" y="2975040"/>
              <a:ext cx="1158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desorden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5000" y="3149640"/>
              <a:ext cx="1241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(taller de proyecto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1120" y="351000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58960" y="3684600"/>
              <a:ext cx="1058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de línea s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57160" y="3860640"/>
              <a:ext cx="123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nexión (por lotes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60040" y="421956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57160" y="4395960"/>
              <a:ext cx="160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de línea relacion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58240" y="4570560"/>
              <a:ext cx="1239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(línea de ensamble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1480" y="49309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60040" y="510552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lujo continu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9560" y="2055960"/>
              <a:ext cx="25200" cy="72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02160" y="2055960"/>
              <a:ext cx="27000" cy="7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34160" y="2055960"/>
              <a:ext cx="25200" cy="7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42240" y="2055960"/>
              <a:ext cx="25200" cy="7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10520" y="2055960"/>
              <a:ext cx="25560" cy="356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06400" y="2752560"/>
              <a:ext cx="163836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06400" y="3463920"/>
              <a:ext cx="16272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06400" y="4173480"/>
              <a:ext cx="162720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06400" y="4883040"/>
              <a:ext cx="16272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06400" y="5594400"/>
              <a:ext cx="652968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86240" y="2781360"/>
              <a:ext cx="803160" cy="690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98280" y="3003480"/>
              <a:ext cx="48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Impreso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7320" y="3144960"/>
              <a:ext cx="51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Comerci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84760" y="3470400"/>
              <a:ext cx="803160" cy="691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39280" y="369396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quip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23440" y="383688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Pes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77080" y="4200480"/>
              <a:ext cx="804600" cy="69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59960" y="442440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nsamb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63640" y="4565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u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82000" y="4879800"/>
              <a:ext cx="803160" cy="69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86480" y="5103720"/>
              <a:ext cx="49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Refinerí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37240" y="5245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zúca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254480" y="3263760"/>
              <a:ext cx="582480" cy="381240"/>
              <a:chOff x="4254480" y="3263760"/>
              <a:chExt cx="582480" cy="381240"/>
            </a:xfrm>
          </p:grpSpPr>
          <p:sp>
            <p:nvSpPr>
              <p:cNvPr id="260" name=""/>
              <p:cNvSpPr/>
              <p:nvPr/>
            </p:nvSpPr>
            <p:spPr>
              <a:xfrm>
                <a:off x="4254480" y="3263760"/>
                <a:ext cx="498600" cy="32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721400" y="3543480"/>
                <a:ext cx="11556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5"/>
                    </a:moveTo>
                    <a:lnTo>
                      <a:pt x="73" y="64"/>
                    </a:lnTo>
                    <a:lnTo>
                      <a:pt x="36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522760" y="4025880"/>
              <a:ext cx="497160" cy="339840"/>
              <a:chOff x="5522760" y="4025880"/>
              <a:chExt cx="497160" cy="339840"/>
            </a:xfrm>
          </p:grpSpPr>
          <p:sp>
            <p:nvSpPr>
              <p:cNvPr id="263" name=""/>
              <p:cNvSpPr/>
              <p:nvPr/>
            </p:nvSpPr>
            <p:spPr>
              <a:xfrm>
                <a:off x="5522760" y="4025880"/>
                <a:ext cx="412920" cy="28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904000" y="426420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3"/>
                    </a:moveTo>
                    <a:lnTo>
                      <a:pt x="73" y="64"/>
                    </a:lnTo>
                    <a:lnTo>
                      <a:pt x="37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6694560" y="4726080"/>
              <a:ext cx="517320" cy="349200"/>
              <a:chOff x="6694560" y="4726080"/>
              <a:chExt cx="517320" cy="349200"/>
            </a:xfrm>
          </p:grpSpPr>
          <p:sp>
            <p:nvSpPr>
              <p:cNvPr id="266" name=""/>
              <p:cNvSpPr/>
              <p:nvPr/>
            </p:nvSpPr>
            <p:spPr>
              <a:xfrm>
                <a:off x="6694560" y="4726080"/>
                <a:ext cx="434880" cy="29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095960" y="497376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55"/>
                    </a:moveTo>
                    <a:lnTo>
                      <a:pt x="73" y="64"/>
                    </a:lnTo>
                    <a:lnTo>
                      <a:pt x="3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3325680" y="1819440"/>
              <a:ext cx="4902480" cy="129960"/>
              <a:chOff x="3325680" y="1819440"/>
              <a:chExt cx="4902480" cy="129960"/>
            </a:xfrm>
          </p:grpSpPr>
          <p:sp>
            <p:nvSpPr>
              <p:cNvPr id="269" name=""/>
              <p:cNvSpPr/>
              <p:nvPr/>
            </p:nvSpPr>
            <p:spPr>
              <a:xfrm>
                <a:off x="3325680" y="1874880"/>
                <a:ext cx="4775400" cy="190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097840" y="1819440"/>
                <a:ext cx="130320" cy="12996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82"/>
                    </a:moveTo>
                    <a:lnTo>
                      <a:pt x="82" y="41"/>
                    </a:lnTo>
                    <a:lnTo>
                      <a:pt x="0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1465200" y="2781360"/>
              <a:ext cx="130320" cy="2828880"/>
              <a:chOff x="1465200" y="2781360"/>
              <a:chExt cx="130320" cy="2828880"/>
            </a:xfrm>
          </p:grpSpPr>
          <p:sp>
            <p:nvSpPr>
              <p:cNvPr id="272" name=""/>
              <p:cNvSpPr/>
              <p:nvPr/>
            </p:nvSpPr>
            <p:spPr>
              <a:xfrm>
                <a:off x="1521000" y="2781360"/>
                <a:ext cx="20520" cy="2701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465200" y="5479920"/>
                <a:ext cx="130320" cy="1303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0"/>
                    </a:moveTo>
                    <a:lnTo>
                      <a:pt x="41" y="82"/>
                    </a:lnTo>
                    <a:lnTo>
                      <a:pt x="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3336840" y="4530600"/>
              <a:ext cx="1859040" cy="1060560"/>
            </a:xfrm>
            <a:custGeom>
              <a:avLst/>
              <a:gdLst/>
              <a:ahLst/>
              <a:rect l="l" t="t" r="r" b="b"/>
              <a:pathLst>
                <a:path w="1171" h="668">
                  <a:moveTo>
                    <a:pt x="0" y="0"/>
                  </a:moveTo>
                  <a:lnTo>
                    <a:pt x="0" y="668"/>
                  </a:lnTo>
                  <a:lnTo>
                    <a:pt x="1171" y="6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26840" y="4952880"/>
              <a:ext cx="134784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Fábrica automatizad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con poca producció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78480" y="2749680"/>
              <a:ext cx="1838520" cy="1069920"/>
            </a:xfrm>
            <a:custGeom>
              <a:avLst/>
              <a:gdLst/>
              <a:ahLst/>
              <a:rect l="l" t="t" r="r" b="b"/>
              <a:pathLst>
                <a:path w="1158" h="674">
                  <a:moveTo>
                    <a:pt x="1158" y="674"/>
                  </a:moveTo>
                  <a:lnTo>
                    <a:pt x="1158" y="0"/>
                  </a:lnTo>
                  <a:lnTo>
                    <a:pt x="0" y="0"/>
                  </a:lnTo>
                  <a:lnTo>
                    <a:pt x="1158" y="6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61480" y="2870280"/>
              <a:ext cx="94392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Transporte m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Arial"/>
                </a:rPr>
                <a:t>llev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05160" y="1523880"/>
              <a:ext cx="257796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51600" y="1557360"/>
              <a:ext cx="1190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structura del produ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45840" y="1698480"/>
              <a:ext cx="1820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tapa del ciclo de vida del produ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87560" y="2781360"/>
              <a:ext cx="390240" cy="280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6200000">
              <a:off x="624240" y="4898520"/>
              <a:ext cx="1152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structura del proces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452160" y="4588200"/>
              <a:ext cx="1782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tapa del ciclo de vida del proces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C8396-6D69-448A-BFA0-4211296937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pre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masiv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tandariza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roceso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cambio de producto esta ligado a un cambio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atrasa el avance en los procesos aumentan los costos, si se adelanta se pierde flexi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conveniente moverse sobre la diag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C1A00-3EBA-489D-B8D8-99B3AF4C16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Producto-Proce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ctualmente se busca la producción masiva pero flexible (FMS: Sistemas de Manufactura Flex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icicletas en Jap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9DA30-A608-46B3-BE84-A98D617298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Hacia Atrás (a la materia prim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fiabilidad en el suminist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celulos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osqu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ena de supermercado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am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pesque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ar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8DBDD-0A62-40A0-BF56-525D4FBA4B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Hacia Adelante (a los mercado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de mer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acto con el cl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textil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negocios de vent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operativa de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lant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istribución.                                     productores de lec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517EC-01F7-4C48-8732-7B814E49DB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Vertic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gración Vertical a Nivel Glob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tes se hacen en Estados Unidos, son ensambladas en México y se distribuyen desde Estados Uni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s de la Integr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s de capital elev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bilidades gerenciales requeri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62D70-BC32-4BE5-ACB5-D9E3C86A8D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ste en aprovechar las ventajas comparativas para expandirse a áreas simila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us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stigio en 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istian Dior: perfume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opa, joyas y reloj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cnolog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ad: sk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en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da de rop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ultitienda (Falabell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ltitiend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financi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BB3B9-C356-4B17-80AC-1716682253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Horizo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ntaj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pertura de nuevos merc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perfilarse hacia negocios en los cuales se tiene baja exper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30996-A0E9-441F-9816-FF672345033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Flujo en Líne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una secuencia lineal de oper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905120" y="3402000"/>
            <a:ext cx="5181480" cy="839880"/>
            <a:chOff x="1905120" y="3402000"/>
            <a:chExt cx="5181480" cy="839880"/>
          </a:xfrm>
        </p:grpSpPr>
        <p:sp>
          <p:nvSpPr>
            <p:cNvPr id="105" name=""/>
            <p:cNvSpPr/>
            <p:nvPr/>
          </p:nvSpPr>
          <p:spPr>
            <a:xfrm>
              <a:off x="2514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57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00600" y="36957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3600" y="3708360"/>
              <a:ext cx="533520" cy="533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05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8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91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3962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78560" y="3402000"/>
              <a:ext cx="45072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657440" y="5378400"/>
            <a:ext cx="3583080" cy="794520"/>
            <a:chOff x="1657440" y="5378400"/>
            <a:chExt cx="3583080" cy="794520"/>
          </a:xfrm>
        </p:grpSpPr>
        <p:grpSp>
          <p:nvGrpSpPr>
            <p:cNvPr id="116" name=""/>
            <p:cNvGrpSpPr/>
            <p:nvPr/>
          </p:nvGrpSpPr>
          <p:grpSpPr>
            <a:xfrm>
              <a:off x="1657440" y="5378400"/>
              <a:ext cx="3583080" cy="533160"/>
              <a:chOff x="1657440" y="5378400"/>
              <a:chExt cx="3583080" cy="533160"/>
            </a:xfrm>
          </p:grpSpPr>
          <p:sp>
            <p:nvSpPr>
              <p:cNvPr id="117" name=""/>
              <p:cNvSpPr/>
              <p:nvPr/>
            </p:nvSpPr>
            <p:spPr>
              <a:xfrm>
                <a:off x="1657440" y="5378400"/>
                <a:ext cx="53316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10920" y="5454360"/>
                <a:ext cx="282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estación de trabaj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670040" y="5835600"/>
              <a:ext cx="2714040" cy="337320"/>
              <a:chOff x="1670040" y="5835600"/>
              <a:chExt cx="2714040" cy="337320"/>
            </a:xfrm>
          </p:grpSpPr>
          <p:sp>
            <p:nvSpPr>
              <p:cNvPr id="120" name=""/>
              <p:cNvSpPr/>
              <p:nvPr/>
            </p:nvSpPr>
            <p:spPr>
              <a:xfrm>
                <a:off x="1670040" y="6019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21720" y="5835600"/>
                <a:ext cx="196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Flujo del product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444840" y="460548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CB5F7-645A-4AD0-82D0-8D452B8D05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duc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siv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ra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andar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ces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tinu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 poca flexibil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mat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iere equipo especializ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i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fácil contr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14386-E0B3-49F1-8859-D1B504246F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rsión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jo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ficiencia del 90% aproximadam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o de obra poco especializ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lícula “Tiempos Modernos” de Chapl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íneas de ensam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fet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Quím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Electrón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pele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 del Ac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C0D60-9249-45F4-862C-F651AD9468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Flujo Intermitente (taller de trabaj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 a la producción por lotes, en forma intermit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3407040" y="48006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Intermi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743200" y="3048120"/>
            <a:ext cx="4038480" cy="1345680"/>
            <a:chOff x="2743200" y="3048120"/>
            <a:chExt cx="4038480" cy="1345680"/>
          </a:xfrm>
        </p:grpSpPr>
        <p:sp>
          <p:nvSpPr>
            <p:cNvPr id="131" name=""/>
            <p:cNvSpPr/>
            <p:nvPr/>
          </p:nvSpPr>
          <p:spPr>
            <a:xfrm>
              <a:off x="2743200" y="4203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43200" y="4051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251160" y="3048120"/>
              <a:ext cx="3530520" cy="1345680"/>
              <a:chOff x="3251160" y="3048120"/>
              <a:chExt cx="3530520" cy="1345680"/>
            </a:xfrm>
          </p:grpSpPr>
          <p:sp>
            <p:nvSpPr>
              <p:cNvPr id="134" name=""/>
              <p:cNvSpPr/>
              <p:nvPr/>
            </p:nvSpPr>
            <p:spPr>
              <a:xfrm>
                <a:off x="3352680" y="38480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95680" y="38480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638680" y="386064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86200" y="4114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29200" y="411480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172200" y="40384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41320" y="3462840"/>
                <a:ext cx="393120" cy="46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860640" y="304812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003640" y="3048120"/>
                <a:ext cx="53352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51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4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537160" y="33145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89400" y="3533760"/>
                <a:ext cx="300600" cy="39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3689640" y="3498480"/>
                <a:ext cx="27864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4820040" y="3503160"/>
                <a:ext cx="27828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172200" y="419076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1657440" y="5378400"/>
            <a:ext cx="3583080" cy="946800"/>
            <a:chOff x="1657440" y="5378400"/>
            <a:chExt cx="3583080" cy="946800"/>
          </a:xfrm>
        </p:grpSpPr>
        <p:grpSp>
          <p:nvGrpSpPr>
            <p:cNvPr id="151" name=""/>
            <p:cNvGrpSpPr/>
            <p:nvPr/>
          </p:nvGrpSpPr>
          <p:grpSpPr>
            <a:xfrm>
              <a:off x="1657440" y="5378400"/>
              <a:ext cx="3583080" cy="533520"/>
              <a:chOff x="1657440" y="5378400"/>
              <a:chExt cx="3583080" cy="533520"/>
            </a:xfrm>
          </p:grpSpPr>
          <p:sp>
            <p:nvSpPr>
              <p:cNvPr id="152" name=""/>
              <p:cNvSpPr/>
              <p:nvPr/>
            </p:nvSpPr>
            <p:spPr>
              <a:xfrm>
                <a:off x="1657440" y="5378400"/>
                <a:ext cx="533160" cy="5335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10920" y="5454720"/>
                <a:ext cx="282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estación de trabajo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670040" y="6019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22440" y="5987880"/>
              <a:ext cx="196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Flujo del producto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63560" y="6172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63560" y="63244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D76C9-49ED-477B-B169-6E49A12D76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quipo y mano de obra se organizan en centros o equipos de trabajo por tipos similares de habil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eficiencia (~ 20 - 40%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flexi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inver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habilidad de la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 utilización de equi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quinaria más gener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trol más difíc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 más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009E1-4E7B-48DA-89A1-F6A9DA0ABB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a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ller de Mue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lt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1BBC0-DBB2-4AA5-8BD7-4563E45F89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3399"/>
                </a:solidFill>
                <a:latin typeface="Tahoma"/>
              </a:rPr>
              <a:t>Clasificación por Flujo del 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Flujo por Proye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intas etapas que se enlazan para realizar un traba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3416400" y="48006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Fluj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3505320"/>
            <a:ext cx="83808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mien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3600" y="3505320"/>
            <a:ext cx="91440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445360" y="3074400"/>
            <a:ext cx="636840" cy="51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60640" y="2692440"/>
            <a:ext cx="53352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03640" y="2692440"/>
            <a:ext cx="533520" cy="533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94160" y="29973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00280" y="3096000"/>
            <a:ext cx="37836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327560" y="3186000"/>
            <a:ext cx="770040" cy="1121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657440" y="5378400"/>
            <a:ext cx="3290760" cy="794520"/>
            <a:chOff x="1657440" y="5378400"/>
            <a:chExt cx="3290760" cy="794520"/>
          </a:xfrm>
        </p:grpSpPr>
        <p:grpSp>
          <p:nvGrpSpPr>
            <p:cNvPr id="174" name=""/>
            <p:cNvGrpSpPr/>
            <p:nvPr/>
          </p:nvGrpSpPr>
          <p:grpSpPr>
            <a:xfrm>
              <a:off x="1657440" y="5378400"/>
              <a:ext cx="2637000" cy="533160"/>
              <a:chOff x="1657440" y="5378400"/>
              <a:chExt cx="2637000" cy="533160"/>
            </a:xfrm>
          </p:grpSpPr>
          <p:sp>
            <p:nvSpPr>
              <p:cNvPr id="175" name=""/>
              <p:cNvSpPr/>
              <p:nvPr/>
            </p:nvSpPr>
            <p:spPr>
              <a:xfrm>
                <a:off x="1657440" y="5378400"/>
                <a:ext cx="533160" cy="5331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434320" y="5454360"/>
                <a:ext cx="1860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Tarea o actividad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670040" y="5835600"/>
              <a:ext cx="3278160" cy="337320"/>
              <a:chOff x="1670040" y="5835600"/>
              <a:chExt cx="3278160" cy="337320"/>
            </a:xfrm>
          </p:grpSpPr>
          <p:sp>
            <p:nvSpPr>
              <p:cNvPr id="178" name=""/>
              <p:cNvSpPr/>
              <p:nvPr/>
            </p:nvSpPr>
            <p:spPr>
              <a:xfrm>
                <a:off x="1670040" y="601992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00840" y="5835600"/>
                <a:ext cx="2547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Relación de precedencia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>
            <a:off x="3886200" y="41911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4191120"/>
            <a:ext cx="533520" cy="5331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445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962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5627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4: Selección Proceso Productivo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F9DA5-67F3-4FF0-AA99-E3A36BC465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.................</cp:lastModifiedBy>
  <cp:lastPrinted>2001-04-12T20:51:56Z</cp:lastPrinted>
  <dcterms:modified xsi:type="dcterms:W3CDTF">2009-03-19T14:21:23Z</dcterms:modified>
  <cp:revision>154</cp:revision>
  <dc:subject/>
  <dc:title>Comercio Electrónico</dc:title>
</cp:coreProperties>
</file>