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BF7-F3EF-420A-99E1-C4855C87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268-822B-454F-871D-01FCD35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183-C199-48FB-8534-A11B4D68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CD1-D6C8-4CB5-B624-0AD190C2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C2C-87E3-4D11-A19E-15DFBE8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614-DBBD-4D07-BC9F-E33C6A3C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0F2-1907-45E2-BFF2-42CB9910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A7E-3DAB-4640-99A6-C3306C5D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F5B-8F60-4F9F-B472-5A91595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669-FB9A-4B34-9CF4-D00BD6D0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74C-2DA5-4FA7-B695-988EF0B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8E2-5CA6-418B-9F44-19B7C0E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186-60C6-45CA-A1B1-42674175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etro Santi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éctor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2680" y="1552680"/>
            <a:ext cx="8918640" cy="37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5462640"/>
            <a:ext cx="888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47760" y="1957320"/>
          <a:ext cx="9156960" cy="2371680"/>
        </p:xfrm>
        <a:graphic>
          <a:graphicData uri="http://schemas.openxmlformats.org/drawingml/2006/table">
            <a:tbl>
              <a:tblPr/>
              <a:tblGrid>
                <a:gridCol w="3281400"/>
                <a:gridCol w="3979800"/>
                <a:gridCol w="947880"/>
                <a:gridCol w="94788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ción de Liquidez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Acid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. Circulante - 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Endeud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0120" y="1285920"/>
          <a:ext cx="7716960" cy="4449600"/>
        </p:xfrm>
        <a:graphic>
          <a:graphicData uri="http://schemas.openxmlformats.org/drawingml/2006/table">
            <a:tbl>
              <a:tblPr/>
              <a:tblGrid>
                <a:gridCol w="3309840"/>
                <a:gridCol w="2768760"/>
                <a:gridCol w="819000"/>
                <a:gridCol w="8193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ón de endeudamient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on Deuda/Patrimoni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 de Interese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Re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5160" y="2100240"/>
          <a:ext cx="5443560" cy="2841480"/>
        </p:xfrm>
        <a:graphic>
          <a:graphicData uri="http://schemas.openxmlformats.org/drawingml/2006/table">
            <a:tbl>
              <a:tblPr/>
              <a:tblGrid>
                <a:gridCol w="952560"/>
                <a:gridCol w="2768400"/>
                <a:gridCol w="903600"/>
                <a:gridCol w="819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A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 del 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00280"/>
          <a:ext cx="8459640" cy="3914640"/>
        </p:xfrm>
        <a:graphic>
          <a:graphicData uri="http://schemas.openxmlformats.org/drawingml/2006/table">
            <a:tbl>
              <a:tblPr/>
              <a:tblGrid>
                <a:gridCol w="4056120"/>
                <a:gridCol w="2454120"/>
                <a:gridCol w="974880"/>
                <a:gridCol w="97452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Existencia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 de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7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on de Cuentas por Cobrar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por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entas por Cob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Activo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servicios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rvicio diario de 2,2 Millones de Pasa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ualmente cuenta con 85 Kms. de vías en 92 Es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uevos proyectos sumarán 20 kms. y 13 estacione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Privada-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rfo 59,5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sco 40,4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s Ampliación de Lín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quisición de nuevos c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umna vertebral de Tran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existencia de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presa de SERV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" y="1763640"/>
            <a:ext cx="888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2819" r="0" b="2750"/>
          <a:stretch/>
        </p:blipFill>
        <p:spPr>
          <a:xfrm>
            <a:off x="71280" y="1486080"/>
            <a:ext cx="89647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21000"/>
            <a:ext cx="8883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0320" y="1776240"/>
            <a:ext cx="88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83720" cy="22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8883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3301" r="0" b="0"/>
          <a:stretch/>
        </p:blipFill>
        <p:spPr>
          <a:xfrm>
            <a:off x="152280" y="1287360"/>
            <a:ext cx="8883720" cy="21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079" r="0" b="0"/>
          <a:stretch/>
        </p:blipFill>
        <p:spPr>
          <a:xfrm>
            <a:off x="152280" y="3500280"/>
            <a:ext cx="888372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5318280"/>
            <a:ext cx="888372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47:26Z</dcterms:created>
  <dc:creator>Toshiba</dc:creator>
  <dc:description/>
  <dc:language>en-US</dc:language>
  <cp:lastModifiedBy>Toshiba</cp:lastModifiedBy>
  <dcterms:modified xsi:type="dcterms:W3CDTF">2009-05-05T19:00:02Z</dcterms:modified>
  <cp:revision>7</cp:revision>
  <dc:subject/>
  <dc:title>Analisis Financiero Metro Santiago</dc:title>
</cp:coreProperties>
</file>