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BB7-9326-4F72-9990-A3116DDB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193-F3F1-472B-A9D5-70FEA33F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004-0232-4347-A936-1CD1E6D7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F5D-518B-4389-BECC-5518FA46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259-B7C1-4885-B2C8-85333CB3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CF2-F214-486A-9760-B06D9ED2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307-7E30-45E4-AB18-88A8454B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A3D-A80C-4EE2-86D1-2FF30DFE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668-1E27-4961-B4CF-4BC9F9AB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39D-046E-4600-BCE5-60B16B88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912-47B4-45D5-9259-97CA93E6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D28-2CDE-4191-8BE8-17207C36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A5D3-F572-4233-908B-3AFE3FBCF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Metro Santi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éctor Alva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2680" y="1552680"/>
            <a:ext cx="8918640" cy="3752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08000" y="5462640"/>
            <a:ext cx="888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Liquid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-347760" y="1957320"/>
          <a:ext cx="9156960" cy="2371680"/>
        </p:xfrm>
        <a:graphic>
          <a:graphicData uri="http://schemas.openxmlformats.org/drawingml/2006/table">
            <a:tbl>
              <a:tblPr/>
              <a:tblGrid>
                <a:gridCol w="3281400"/>
                <a:gridCol w="3979800"/>
                <a:gridCol w="947880"/>
                <a:gridCol w="94788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ción de Liquidez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st Acid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. Circulante - Exist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Endeud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0120" y="1285920"/>
          <a:ext cx="7716960" cy="4449600"/>
        </p:xfrm>
        <a:graphic>
          <a:graphicData uri="http://schemas.openxmlformats.org/drawingml/2006/table">
            <a:tbl>
              <a:tblPr/>
              <a:tblGrid>
                <a:gridCol w="3309840"/>
                <a:gridCol w="2768760"/>
                <a:gridCol w="819000"/>
                <a:gridCol w="81936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ón de endeudamient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on Deuda/Patrimoni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r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bertura de Interese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ado Oper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Financie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Ren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865160" y="2100240"/>
          <a:ext cx="5443560" cy="2841480"/>
        </p:xfrm>
        <a:graphic>
          <a:graphicData uri="http://schemas.openxmlformats.org/drawingml/2006/table">
            <a:tbl>
              <a:tblPr/>
              <a:tblGrid>
                <a:gridCol w="952560"/>
                <a:gridCol w="2768400"/>
                <a:gridCol w="903600"/>
                <a:gridCol w="8190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A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ado Oper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E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idad del Ejerc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,0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r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4000" y="1700280"/>
          <a:ext cx="8459640" cy="3914640"/>
        </p:xfrm>
        <a:graphic>
          <a:graphicData uri="http://schemas.openxmlformats.org/drawingml/2006/table">
            <a:tbl>
              <a:tblPr/>
              <a:tblGrid>
                <a:gridCol w="4056120"/>
                <a:gridCol w="2454120"/>
                <a:gridCol w="974880"/>
                <a:gridCol w="97452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ón de Existencia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o de 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57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77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ist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on de Cuentas por Cobrar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gresos por 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7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1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entas por Cob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ón de Activo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formació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visión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álisis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formación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mpresa servicios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rvicio diario de 2,2 Millones de Pasaj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ualmente cuenta con 85 Kms. de vías en 92 Es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uevos proyectos sumarán 20 kms. y 13 estaciones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mpresa Privada-Esta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rfo 59,5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sco 40,4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yectos Ampliación de Lín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dquisición de nuevos co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lumna vertebral de Transanti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existencia de Compe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mpresa de SERVI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" y="1763640"/>
            <a:ext cx="8883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2819" r="0" b="2750"/>
          <a:stretch/>
        </p:blipFill>
        <p:spPr>
          <a:xfrm>
            <a:off x="71280" y="1486080"/>
            <a:ext cx="8964720" cy="2447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52280" y="4221000"/>
            <a:ext cx="88837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0320" y="1776240"/>
            <a:ext cx="88833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8883720" cy="224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08000" y="3645000"/>
            <a:ext cx="888372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3301" r="0" b="0"/>
          <a:stretch/>
        </p:blipFill>
        <p:spPr>
          <a:xfrm>
            <a:off x="152280" y="1287360"/>
            <a:ext cx="8883720" cy="214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1079" r="0" b="0"/>
          <a:stretch/>
        </p:blipFill>
        <p:spPr>
          <a:xfrm>
            <a:off x="152280" y="3500280"/>
            <a:ext cx="888372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52280" y="5318280"/>
            <a:ext cx="8883720" cy="1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7:47:26Z</dcterms:created>
  <dc:creator>Toshiba</dc:creator>
  <dc:description/>
  <dc:language>en-US</dc:language>
  <cp:lastModifiedBy>Toshiba</cp:lastModifiedBy>
  <dcterms:modified xsi:type="dcterms:W3CDTF">2009-05-05T19:00:02Z</dcterms:modified>
  <cp:revision>7</cp:revision>
  <dc:subject/>
  <dc:title>Analisis Financiero Metro Santiago</dc:title>
</cp:coreProperties>
</file>