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BAF-EDC4-4095-97EF-F66D51D4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02A-F785-4480-9C45-718E4C9C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F2B-6A75-475A-9D6B-8CC05F87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3BA-4966-425A-ADBA-60E36316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596-7366-45A0-9A1F-5E6A012A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E6F-0C70-49F5-AA04-84B3E516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079-8C14-4664-B449-CBA2FF05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587-00FA-4172-89B1-F2074AF4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E41-1AB4-406C-BD6A-E33EB820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0B8-F438-4C67-8D76-0DC474B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106-7825-4755-848B-ECDB2AC1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37F-67B4-4F11-9F3F-F95D0107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E2D6-AA8A-414C-875F-DBC7F8C82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Metro Santi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éctor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2680" y="1552680"/>
            <a:ext cx="8918640" cy="3752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8000" y="5462640"/>
            <a:ext cx="888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Liquid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347760" y="1957320"/>
          <a:ext cx="9156960" cy="2371680"/>
        </p:xfrm>
        <a:graphic>
          <a:graphicData uri="http://schemas.openxmlformats.org/drawingml/2006/table">
            <a:tbl>
              <a:tblPr/>
              <a:tblGrid>
                <a:gridCol w="3281400"/>
                <a:gridCol w="3979800"/>
                <a:gridCol w="947880"/>
                <a:gridCol w="94788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ción de Liquidez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Acid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. Circulante - 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Endeud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0120" y="1285920"/>
          <a:ext cx="7716960" cy="4449600"/>
        </p:xfrm>
        <a:graphic>
          <a:graphicData uri="http://schemas.openxmlformats.org/drawingml/2006/table">
            <a:tbl>
              <a:tblPr/>
              <a:tblGrid>
                <a:gridCol w="3309840"/>
                <a:gridCol w="2768760"/>
                <a:gridCol w="819000"/>
                <a:gridCol w="81936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ón de endeudamient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on Deuda/Patrimoni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ertura de Interese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Ren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65160" y="2100240"/>
          <a:ext cx="5443560" cy="2841480"/>
        </p:xfrm>
        <a:graphic>
          <a:graphicData uri="http://schemas.openxmlformats.org/drawingml/2006/table">
            <a:tbl>
              <a:tblPr/>
              <a:tblGrid>
                <a:gridCol w="952560"/>
                <a:gridCol w="2768400"/>
                <a:gridCol w="903600"/>
                <a:gridCol w="819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A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 del Ejerc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700280"/>
          <a:ext cx="8459640" cy="3914640"/>
        </p:xfrm>
        <a:graphic>
          <a:graphicData uri="http://schemas.openxmlformats.org/drawingml/2006/table">
            <a:tbl>
              <a:tblPr/>
              <a:tblGrid>
                <a:gridCol w="4056120"/>
                <a:gridCol w="2454120"/>
                <a:gridCol w="974880"/>
                <a:gridCol w="97452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Existencia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 de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7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7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on de Cuentas por Cobrar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gresos por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7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entas por Cob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Activo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servicios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rvicio diario de 2,2 Millones de Pasa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ualmente cuenta con 85 Kms. de vías en 92 Es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uevos proyectos sumarán 20 kms. y 13 estaciones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Privada-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rfo 59,5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sco 40,4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s Ampliación de Lín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quisición de nuevos co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umna vertebral de Transanti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existencia de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presa de SERVI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" y="1763640"/>
            <a:ext cx="8883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2819" r="0" b="2750"/>
          <a:stretch/>
        </p:blipFill>
        <p:spPr>
          <a:xfrm>
            <a:off x="71280" y="1486080"/>
            <a:ext cx="8964720" cy="2447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2280" y="4221000"/>
            <a:ext cx="8883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0320" y="1776240"/>
            <a:ext cx="88833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883720" cy="224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8000" y="3645000"/>
            <a:ext cx="88837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3301" r="0" b="0"/>
          <a:stretch/>
        </p:blipFill>
        <p:spPr>
          <a:xfrm>
            <a:off x="152280" y="1287360"/>
            <a:ext cx="8883720" cy="214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079" r="0" b="0"/>
          <a:stretch/>
        </p:blipFill>
        <p:spPr>
          <a:xfrm>
            <a:off x="152280" y="3500280"/>
            <a:ext cx="888372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5318280"/>
            <a:ext cx="888372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7:47:26Z</dcterms:created>
  <dc:creator>Toshiba</dc:creator>
  <dc:description/>
  <dc:language>en-US</dc:language>
  <cp:lastModifiedBy>Toshiba</cp:lastModifiedBy>
  <dcterms:modified xsi:type="dcterms:W3CDTF">2009-05-05T19:00:02Z</dcterms:modified>
  <cp:revision>7</cp:revision>
  <dc:subject/>
  <dc:title>Analisis Financiero Metro Santiago</dc:title>
</cp:coreProperties>
</file>