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AE0-6C1B-45F3-80DA-5138BC7B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AA8-33E5-4FC1-A65D-15197CD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720-8F0C-41BE-9690-34AFF659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769-57C8-4AFC-B17D-1FD52886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C80-2A66-4F58-B479-C5BA0297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A32-DE3C-45F3-9591-30C489EB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AE0-2E41-4E7C-88B9-936319C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38B-1D5A-4BAA-B172-CAF359E6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F25-73D9-4CFE-84FA-FBEA84E9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08D-5F6F-4D9A-9235-6D88B9F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31D-808C-428B-9C48-2868066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123-A60A-41A6-AC3D-80E2823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C952-7D71-412E-8501-06451C4A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etro Santi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éctor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2680" y="1552680"/>
            <a:ext cx="8918640" cy="37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5462640"/>
            <a:ext cx="888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47760" y="1957320"/>
          <a:ext cx="9156960" cy="2371680"/>
        </p:xfrm>
        <a:graphic>
          <a:graphicData uri="http://schemas.openxmlformats.org/drawingml/2006/table">
            <a:tbl>
              <a:tblPr/>
              <a:tblGrid>
                <a:gridCol w="3281400"/>
                <a:gridCol w="3979800"/>
                <a:gridCol w="947880"/>
                <a:gridCol w="94788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ción de Liquidez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Acid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. Circulante - 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Endeud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0120" y="1285920"/>
          <a:ext cx="7716960" cy="4449600"/>
        </p:xfrm>
        <a:graphic>
          <a:graphicData uri="http://schemas.openxmlformats.org/drawingml/2006/table">
            <a:tbl>
              <a:tblPr/>
              <a:tblGrid>
                <a:gridCol w="3309840"/>
                <a:gridCol w="2768760"/>
                <a:gridCol w="819000"/>
                <a:gridCol w="8193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ón de endeudamient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on Deuda/Patrimoni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 de Interese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Re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5160" y="2100240"/>
          <a:ext cx="5443560" cy="2841480"/>
        </p:xfrm>
        <a:graphic>
          <a:graphicData uri="http://schemas.openxmlformats.org/drawingml/2006/table">
            <a:tbl>
              <a:tblPr/>
              <a:tblGrid>
                <a:gridCol w="952560"/>
                <a:gridCol w="2768400"/>
                <a:gridCol w="903600"/>
                <a:gridCol w="819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A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 del 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00280"/>
          <a:ext cx="8459640" cy="3914640"/>
        </p:xfrm>
        <a:graphic>
          <a:graphicData uri="http://schemas.openxmlformats.org/drawingml/2006/table">
            <a:tbl>
              <a:tblPr/>
              <a:tblGrid>
                <a:gridCol w="4056120"/>
                <a:gridCol w="2454120"/>
                <a:gridCol w="974880"/>
                <a:gridCol w="97452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Existencia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 de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7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on de Cuentas por Cobrar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por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entas por Cob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Activo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servicios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rvicio diario de 2,2 Millones de Pasa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ualmente cuenta con 85 Kms. de vías en 92 Es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uevos proyectos sumarán 20 kms. y 13 estacione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Privada-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rfo 59,5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sco 40,4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s Ampliación de Lín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quisición de nuevos c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umna vertebral de Tran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existencia de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presa de SERV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" y="1763640"/>
            <a:ext cx="888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2819" r="0" b="2750"/>
          <a:stretch/>
        </p:blipFill>
        <p:spPr>
          <a:xfrm>
            <a:off x="71280" y="1486080"/>
            <a:ext cx="89647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21000"/>
            <a:ext cx="8883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0320" y="1776240"/>
            <a:ext cx="88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83720" cy="22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8883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3301" r="0" b="0"/>
          <a:stretch/>
        </p:blipFill>
        <p:spPr>
          <a:xfrm>
            <a:off x="152280" y="1287360"/>
            <a:ext cx="8883720" cy="21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079" r="0" b="0"/>
          <a:stretch/>
        </p:blipFill>
        <p:spPr>
          <a:xfrm>
            <a:off x="152280" y="3500280"/>
            <a:ext cx="888372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5318280"/>
            <a:ext cx="888372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47:26Z</dcterms:created>
  <dc:creator>Toshiba</dc:creator>
  <dc:description/>
  <dc:language>en-US</dc:language>
  <cp:lastModifiedBy>Toshiba</cp:lastModifiedBy>
  <dcterms:modified xsi:type="dcterms:W3CDTF">2009-05-05T19:00:02Z</dcterms:modified>
  <cp:revision>7</cp:revision>
  <dc:subject/>
  <dc:title>Analisis Financiero Metro Santiago</dc:title>
</cp:coreProperties>
</file>