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C2A8C5F-D5CF-4D4B-95CE-55577532E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928587-6233-4FBF-8C83-A50B62B5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1973DF-A34D-45C1-9BDE-EAC175C49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F8E612-9C4C-489E-A076-A334A29A7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8CB01-9A97-4517-B598-88792DF16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32789-2C5B-486E-B59F-BDC947F04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5D5AA-CD2E-47EA-8F44-61F1FC2E4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5AB2D-F7A4-49B8-A7A4-1532ED334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A0CC4-2B9E-46FB-B223-DF943F199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A3794-3E88-4332-9330-60E3820A1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35A4A-A91E-4EDB-8C82-C049F3E05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372D01-B3D6-442A-AB62-BD3EDFCB6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96177-C1D6-4B14-A903-58E54272D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54E73-E2E9-41B4-BA86-4CA3580D2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5372B-99E4-47FB-AA56-7CFA862C1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93565-759D-4102-B630-6EB5D8C1B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2178E-9B0A-4602-914C-E5F60949C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2510B1-33E1-46D9-BFC1-CBB77A82C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E8E6F0-F42F-430A-8173-DFD112EF1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86C069-66F8-461D-A940-2FC13167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6DB2B4-A7D3-411C-81DC-C5C248E07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5396FD-12ED-4F85-B6DE-70A7F6883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85EE69-2409-40F5-9A9C-331E1789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CD3CED-C98E-4546-AB82-6DF6BB80C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EA3A-37BE-43DB-AB81-B3F2A1BF8E72}"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82FE-E745-4172-BEB4-FC857E13E70F}"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0"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1"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2"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33"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34"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35"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36"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37"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38"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39" name="13 Conector recto de flecha"/>
          <p:cNvCxnSpPr>
            <a:stCxn id="130" idx="3"/>
            <a:endCxn id="131"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0" name="16 Conector recto de flecha"/>
          <p:cNvCxnSpPr>
            <a:stCxn id="131" idx="3"/>
            <a:endCxn id="132"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1" name="19 Conector recto de flecha"/>
          <p:cNvCxnSpPr>
            <a:stCxn id="131" idx="3"/>
            <a:endCxn id="133"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2" name="21 Conector recto de flecha"/>
          <p:cNvCxnSpPr>
            <a:stCxn id="131" idx="3"/>
            <a:endCxn id="134"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43" name="23 Conector recto de flecha"/>
          <p:cNvCxnSpPr>
            <a:stCxn id="133" idx="3"/>
            <a:endCxn id="135"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44" name="25 Conector recto de flecha"/>
          <p:cNvCxnSpPr>
            <a:stCxn id="133" idx="3"/>
            <a:endCxn id="136"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45" name="27 Conector recto de flecha"/>
          <p:cNvCxnSpPr>
            <a:stCxn id="134" idx="3"/>
            <a:endCxn id="137"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46" name="29 Conector recto de flecha"/>
          <p:cNvCxnSpPr>
            <a:stCxn id="134" idx="3"/>
            <a:endCxn id="138" idx="1"/>
          </p:cNvCxnSpPr>
          <p:nvPr/>
        </p:nvCxnSpPr>
        <p:spPr>
          <a:xfrm>
            <a:off x="6289200" y="3462120"/>
            <a:ext cx="367560" cy="433800"/>
          </a:xfrm>
          <a:prstGeom prst="straightConnector1">
            <a:avLst/>
          </a:prstGeom>
          <a:ln w="9360">
            <a:solidFill>
              <a:srgbClr val="0098cc"/>
            </a:solidFill>
            <a:miter/>
            <a:tailEnd len="med" type="arrow" w="med"/>
          </a:ln>
        </p:spPr>
      </p:cxnSp>
      <p:sp>
        <p:nvSpPr>
          <p:cNvPr id="147"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48"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49" name="33 Conector recto de flecha"/>
          <p:cNvCxnSpPr>
            <a:stCxn id="130" idx="3"/>
            <a:endCxn id="147"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0" name="35 Conector recto de flecha"/>
          <p:cNvCxnSpPr>
            <a:stCxn id="147" idx="3"/>
            <a:endCxn id="148" idx="1"/>
          </p:cNvCxnSpPr>
          <p:nvPr/>
        </p:nvCxnSpPr>
        <p:spPr>
          <a:xfrm>
            <a:off x="3987720" y="4168440"/>
            <a:ext cx="527760" cy="5400"/>
          </a:xfrm>
          <a:prstGeom prst="straightConnector1">
            <a:avLst/>
          </a:prstGeom>
          <a:ln w="9360">
            <a:solidFill>
              <a:srgbClr val="0098cc"/>
            </a:solidFill>
            <a:miter/>
            <a:tailEnd len="med" type="arrow" w="med"/>
          </a:ln>
        </p:spPr>
      </p:cxnSp>
      <p:sp>
        <p:nvSpPr>
          <p:cNvPr id="151"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2"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53"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54"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55" name="41 Conector recto de flecha"/>
          <p:cNvCxnSpPr>
            <a:stCxn id="130" idx="3"/>
            <a:endCxn id="151"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56" name="43 Conector recto de flecha"/>
          <p:cNvCxnSpPr>
            <a:stCxn id="151" idx="3"/>
            <a:endCxn id="154"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57" name="45 Conector recto de flecha"/>
          <p:cNvCxnSpPr>
            <a:stCxn id="151" idx="3"/>
            <a:endCxn id="153"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58" name="47 Conector recto de flecha"/>
          <p:cNvCxnSpPr>
            <a:stCxn id="151" idx="3"/>
            <a:endCxn id="152"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2"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6"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08-04-09T17:46:16Z</dcterms:modified>
  <cp:revision>35</cp:revision>
  <dc:subject/>
  <dc:title>Diapositiva 1</dc:title>
</cp:coreProperties>
</file>