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E6F6058-0B5A-4698-907E-724564A97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A4B93B-949B-4F84-811F-95F3A958C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C68136E-BD32-441D-B1F7-C589F4C7A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45B508F-734D-4137-BA0A-1B57F488D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5418F-0086-48C4-8BAA-DCFA23A9E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33DB3-6768-46E6-816B-2707FEE55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708FD-9D6D-43B9-808F-A83D71F84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0DF1D-46C4-488A-92B0-595146003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0B1E6-C9D5-439B-B690-D2D6EC7D6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9B328-CF20-4880-A809-800D1F79C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6F965-170D-416D-8059-E1C83FB60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7C62FC-0819-4187-81A6-B8BEAC9D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1ABB1-DB92-4A25-B79E-9CEF5B984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BF943-2024-4225-9D4F-D134C7FED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BE89D-04A2-4D7D-AF9D-2AC6ED65B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D1A81-C15A-4010-B619-BB19A96BC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80A1C-6074-4971-9027-A6E5F25F5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F83EAF-78EB-4647-A098-21D250BE8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B290619-3224-420C-BC30-3208DEDD9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7701BB-802A-4709-BEA3-E3177467A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9C4906-2838-4C97-9A98-FFFDDE396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66F42A-788F-4A28-93FF-DF67314E9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18A6CE-7190-464A-B9CB-100469AB6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90EC8B-C547-4106-A2E1-262635814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51B3-CF75-4989-9927-2EDEB8883920}"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40C3-5ED5-4AFD-B9C1-A4BAC0A65098}"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0"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1"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2"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33"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34"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35"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36"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37"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38"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39" name="13 Conector recto de flecha"/>
          <p:cNvCxnSpPr>
            <a:stCxn id="130" idx="3"/>
            <a:endCxn id="131"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0" name="16 Conector recto de flecha"/>
          <p:cNvCxnSpPr>
            <a:stCxn id="131" idx="3"/>
            <a:endCxn id="132"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1" name="19 Conector recto de flecha"/>
          <p:cNvCxnSpPr>
            <a:stCxn id="131" idx="3"/>
            <a:endCxn id="133"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2" name="21 Conector recto de flecha"/>
          <p:cNvCxnSpPr>
            <a:stCxn id="131" idx="3"/>
            <a:endCxn id="134"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43" name="23 Conector recto de flecha"/>
          <p:cNvCxnSpPr>
            <a:stCxn id="133" idx="3"/>
            <a:endCxn id="135"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44" name="25 Conector recto de flecha"/>
          <p:cNvCxnSpPr>
            <a:stCxn id="133" idx="3"/>
            <a:endCxn id="136"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45" name="27 Conector recto de flecha"/>
          <p:cNvCxnSpPr>
            <a:stCxn id="134" idx="3"/>
            <a:endCxn id="137"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46" name="29 Conector recto de flecha"/>
          <p:cNvCxnSpPr>
            <a:stCxn id="134" idx="3"/>
            <a:endCxn id="138" idx="1"/>
          </p:cNvCxnSpPr>
          <p:nvPr/>
        </p:nvCxnSpPr>
        <p:spPr>
          <a:xfrm>
            <a:off x="6289200" y="3462120"/>
            <a:ext cx="367560" cy="433800"/>
          </a:xfrm>
          <a:prstGeom prst="straightConnector1">
            <a:avLst/>
          </a:prstGeom>
          <a:ln w="9360">
            <a:solidFill>
              <a:srgbClr val="0098cc"/>
            </a:solidFill>
            <a:miter/>
            <a:tailEnd len="med" type="arrow" w="med"/>
          </a:ln>
        </p:spPr>
      </p:cxnSp>
      <p:sp>
        <p:nvSpPr>
          <p:cNvPr id="147"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48"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49" name="33 Conector recto de flecha"/>
          <p:cNvCxnSpPr>
            <a:stCxn id="130" idx="3"/>
            <a:endCxn id="147"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0" name="35 Conector recto de flecha"/>
          <p:cNvCxnSpPr>
            <a:stCxn id="147" idx="3"/>
            <a:endCxn id="148" idx="1"/>
          </p:cNvCxnSpPr>
          <p:nvPr/>
        </p:nvCxnSpPr>
        <p:spPr>
          <a:xfrm>
            <a:off x="3987720" y="4168440"/>
            <a:ext cx="527760" cy="5400"/>
          </a:xfrm>
          <a:prstGeom prst="straightConnector1">
            <a:avLst/>
          </a:prstGeom>
          <a:ln w="9360">
            <a:solidFill>
              <a:srgbClr val="0098cc"/>
            </a:solidFill>
            <a:miter/>
            <a:tailEnd len="med" type="arrow" w="med"/>
          </a:ln>
        </p:spPr>
      </p:cxnSp>
      <p:sp>
        <p:nvSpPr>
          <p:cNvPr id="151"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2"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53"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54"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55" name="41 Conector recto de flecha"/>
          <p:cNvCxnSpPr>
            <a:stCxn id="130" idx="3"/>
            <a:endCxn id="151"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56" name="43 Conector recto de flecha"/>
          <p:cNvCxnSpPr>
            <a:stCxn id="151" idx="3"/>
            <a:endCxn id="154"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57" name="45 Conector recto de flecha"/>
          <p:cNvCxnSpPr>
            <a:stCxn id="151" idx="3"/>
            <a:endCxn id="153"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58" name="47 Conector recto de flecha"/>
          <p:cNvCxnSpPr>
            <a:stCxn id="151" idx="3"/>
            <a:endCxn id="152"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2"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6"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08-04-09T17:46:16Z</dcterms:modified>
  <cp:revision>35</cp:revision>
  <dc:subject/>
  <dc:title>Diapositiva 1</dc:title>
</cp:coreProperties>
</file>