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91FF5CE-70BF-4F51-8722-7619CC57B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3F42D8-0435-4BF0-9CF4-F652BE48B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E70AC42-CC6F-482D-B44B-F4A3B567B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D4B43D3-6C86-4659-8DFD-47DF3D62E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0D6DB-68BC-45D3-A803-468B1573A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439C4-AFA2-48C7-BC75-E32DFE9D2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2A167-BD93-4DCC-9235-005BBA329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1B119-CA01-4E70-B18A-FE6E24166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24FD7-495D-43F0-9B14-161F0B3E4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CFE82-64F5-49BD-AC11-F2630A78C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339BD-ADE0-4AF5-BE98-89D74A2B9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E47FA2-84CE-428E-B127-C3A36FEBB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99310-DA72-43A6-B3F2-0B7B1DB8B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6A720-8169-4C94-A7D2-75DEB9979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A031A-036C-4700-804D-3803EFAFD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76AD0-9BB7-473F-B295-700AFF621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25866-5687-49F4-B00A-CF13D12CD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DBC0CD-8C8D-4E95-AE83-7515C5FC2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E700C8-1B2E-49D5-80BB-93CE3C2F6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0ADA06-E271-4C17-8C50-9738B8F58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BD5B35B-1FE5-4C6E-8158-E3CD3D430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81A199-AB7A-4FDF-86DF-ACB3D6375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E412CA-350D-4348-9745-1F26A9978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AC17FB-F708-4D41-B375-20B9F0470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AE58-3E7F-4AC6-9882-919C144AEE8A}"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7BB0-045E-40EF-89C4-B41B2EB9A2DC}"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0"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1"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2"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33"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34"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35"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36"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37"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38"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39" name="13 Conector recto de flecha"/>
          <p:cNvCxnSpPr>
            <a:stCxn id="130" idx="3"/>
            <a:endCxn id="131"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0" name="16 Conector recto de flecha"/>
          <p:cNvCxnSpPr>
            <a:stCxn id="131" idx="3"/>
            <a:endCxn id="132"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1" name="19 Conector recto de flecha"/>
          <p:cNvCxnSpPr>
            <a:stCxn id="131" idx="3"/>
            <a:endCxn id="133"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2" name="21 Conector recto de flecha"/>
          <p:cNvCxnSpPr>
            <a:stCxn id="131" idx="3"/>
            <a:endCxn id="134"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43" name="23 Conector recto de flecha"/>
          <p:cNvCxnSpPr>
            <a:stCxn id="133" idx="3"/>
            <a:endCxn id="135"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44" name="25 Conector recto de flecha"/>
          <p:cNvCxnSpPr>
            <a:stCxn id="133" idx="3"/>
            <a:endCxn id="136"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45" name="27 Conector recto de flecha"/>
          <p:cNvCxnSpPr>
            <a:stCxn id="134" idx="3"/>
            <a:endCxn id="137"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46" name="29 Conector recto de flecha"/>
          <p:cNvCxnSpPr>
            <a:stCxn id="134" idx="3"/>
            <a:endCxn id="138" idx="1"/>
          </p:cNvCxnSpPr>
          <p:nvPr/>
        </p:nvCxnSpPr>
        <p:spPr>
          <a:xfrm>
            <a:off x="6289200" y="3462120"/>
            <a:ext cx="367560" cy="433800"/>
          </a:xfrm>
          <a:prstGeom prst="straightConnector1">
            <a:avLst/>
          </a:prstGeom>
          <a:ln w="9360">
            <a:solidFill>
              <a:srgbClr val="0098cc"/>
            </a:solidFill>
            <a:miter/>
            <a:tailEnd len="med" type="arrow" w="med"/>
          </a:ln>
        </p:spPr>
      </p:cxnSp>
      <p:sp>
        <p:nvSpPr>
          <p:cNvPr id="147"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48"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49" name="33 Conector recto de flecha"/>
          <p:cNvCxnSpPr>
            <a:stCxn id="130" idx="3"/>
            <a:endCxn id="147"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0" name="35 Conector recto de flecha"/>
          <p:cNvCxnSpPr>
            <a:stCxn id="147" idx="3"/>
            <a:endCxn id="148" idx="1"/>
          </p:cNvCxnSpPr>
          <p:nvPr/>
        </p:nvCxnSpPr>
        <p:spPr>
          <a:xfrm>
            <a:off x="3987720" y="4168440"/>
            <a:ext cx="527760" cy="5400"/>
          </a:xfrm>
          <a:prstGeom prst="straightConnector1">
            <a:avLst/>
          </a:prstGeom>
          <a:ln w="9360">
            <a:solidFill>
              <a:srgbClr val="0098cc"/>
            </a:solidFill>
            <a:miter/>
            <a:tailEnd len="med" type="arrow" w="med"/>
          </a:ln>
        </p:spPr>
      </p:cxnSp>
      <p:sp>
        <p:nvSpPr>
          <p:cNvPr id="151"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2"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53"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54"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55" name="41 Conector recto de flecha"/>
          <p:cNvCxnSpPr>
            <a:stCxn id="130" idx="3"/>
            <a:endCxn id="151"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56" name="43 Conector recto de flecha"/>
          <p:cNvCxnSpPr>
            <a:stCxn id="151" idx="3"/>
            <a:endCxn id="154"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57" name="45 Conector recto de flecha"/>
          <p:cNvCxnSpPr>
            <a:stCxn id="151" idx="3"/>
            <a:endCxn id="153"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58" name="47 Conector recto de flecha"/>
          <p:cNvCxnSpPr>
            <a:stCxn id="151" idx="3"/>
            <a:endCxn id="152"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2"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6"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08-04-09T17:46:16Z</dcterms:modified>
  <cp:revision>35</cp:revision>
  <dc:subject/>
  <dc:title>Diapositiva 1</dc:title>
</cp:coreProperties>
</file>