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209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51C1B-2967-4C1C-87EE-EA10D2F04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27E24-E392-45D5-88F3-2AB96DFD0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84983-819C-415B-9C36-1ED79A3BE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8D254-54A7-45C1-BD7D-F76504E52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1DD11-9482-4108-8153-E5527CC39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6A5C8-0642-4981-AE05-62ED050CF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48979-C324-40BF-9859-DF7D8EADD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95920-0B04-48F5-977C-23E36C879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A8F6C-5247-4024-B9E9-1594B8ECA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DAE1F-599A-4E53-90A6-B0B20AFC5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6B330-C0F5-4974-8FF9-ABEFC55D7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BD1F5-E6D4-424D-A830-93C05B4A8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79BE5-096F-41A5-876B-C16E47459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7E6EC-A2A1-45B8-90DB-B61876188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65E59-82B6-49C6-8711-1A98218C1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2B5CF-55CE-4D1C-A581-90A499C6D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16C52-AB4F-4FD7-8511-9665D4A03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5923C-34C9-46DC-B58D-54D653111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3F080-380A-4A85-8CD0-A51D0C632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8AECB-7FF6-4703-BD13-93E670918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79DB2-1912-4F41-A26D-B2DBFCF21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6D583-66C0-45B5-9A63-65B29C201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655AA-015A-470B-9E75-8684FAB4A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3115E-2B5F-4585-B9E9-6D16BBC46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8B0CF-C9BF-47DD-A56B-0459C617BAC9}" type="slidenum">
              <a:rPr b="0" lang="es-MX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566EA-7B99-47FF-A2AC-DA932C83FCEC}" type="slidenum">
              <a:rPr b="0" lang="es-MX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álisis Financier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 análisis de los valores que muestran los estados financieros es de interés para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ministración: en qué medida se están cumpliendo los objetivos trazad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gentes Externo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nco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valuar la capacidad de pag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cionistas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ntabilidad versus riesg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reedores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pacidad de pag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dices de Liquidez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lación de Liquidez =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Activos circulan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sivos circulan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de la capacidad de la empresa para pagar sus deud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 corto plaz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st Acido =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Act. circulante - Existenci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sivo circulan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 más exigente que el anteri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dices de Endeudamiento o solvencia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miten evaluar la importancia de la deuda como proporción de los recursos totales empleados por la empres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 proporción de financiamiento se conoce también como “apalancamiento financiero”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dices de Endeudamiento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53416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azón de Endeudamiento =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Pasivo To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 To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azón Deuda/Patrimonio =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Pasivo To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trimon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bertura de Interes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Resultado Operacion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stos Financier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dices de Rentabilidad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53416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Rentabilidad sobre el patrimonio (ROI) y la rentabilidad sobre activos definidas anteriorment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uando hay impuesto a la renta, la definición más correcta de la rentabilidad sobre activos es la siguient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Ra =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Utilidad del Ej. + Intereses x (1-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ctivos Tota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dices de Rentabilida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534160" cy="304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ntabilidad Operacional sobre Activos (ROA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OA=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Resultado Operacion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s Tota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OA =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Resultado Operacion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x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    Ventas       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ent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Activos Tota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583640" y="5638680"/>
            <a:ext cx="284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Margen de Oper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408640" y="5638680"/>
            <a:ext cx="31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Rotación de los Activ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V="1">
            <a:off x="2286000" y="4647960"/>
            <a:ext cx="685800" cy="990360"/>
          </a:xfrm>
          <a:prstGeom prst="line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 flipV="1">
            <a:off x="6781320" y="4571640"/>
            <a:ext cx="381240" cy="1143000"/>
          </a:xfrm>
          <a:prstGeom prst="line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dices de Actividad: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otación de existencias =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Costo de vent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(vec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stenci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úmero de veces que se renueva el inventario en un ejercici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stencias en días =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  Existencias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(día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sto de ventas/36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° de días que habrá existencias sin necesidad de producir o compr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609480" y="6091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Rotación ctas por cobrar =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Ingresos por ventas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tas por cobr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eríodo de cobro = 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    Ctas por cobrar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Ingresos por venta/36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Número de días que las ventas permanecen como cuentas por cobr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Rotación de los Activos =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     Ventas      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ctivos Tota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aciones del uso de razones financiera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5120" indent="-19512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19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ólo usa información cont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95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9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95120" indent="-19512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19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siempre los valores contables reflejan valores de mercado. Es bueno complementar el análisis con información com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85920" indent="2822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9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% de cuentas por cobrar que es recuper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85920" indent="2822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9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ál es el estado de las existenci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85920" indent="2822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9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ál es el valor de mercado de los activos fij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85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9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95120" indent="-19512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19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tiliza datos históricos. Es bueno complementarlo con información que permita proyecta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152280" y="1098720"/>
            <a:ext cx="8839440" cy="553068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288000" y="228600"/>
            <a:ext cx="130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Ejemplo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324000" y="1268280"/>
            <a:ext cx="8208720" cy="48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Arial"/>
              </a:rPr>
              <a:t>Primera Parte:</a:t>
            </a:r>
            <a:br>
              <a:rPr sz="4000"/>
            </a:br>
            <a:br>
              <a:rPr sz="4000"/>
            </a:br>
            <a:r>
              <a:rPr b="0" lang="es-ES_tradnl" sz="4000" spc="-1" strike="noStrike">
                <a:solidFill>
                  <a:srgbClr val="ffffff"/>
                </a:solidFill>
                <a:latin typeface="Arial"/>
              </a:rPr>
              <a:t>Contabilidad Financiera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ffff"/>
                </a:solidFill>
                <a:latin typeface="Arial"/>
              </a:rPr>
              <a:t>11. Análisis Financier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304920" y="1192320"/>
            <a:ext cx="8458200" cy="44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228600" y="650880"/>
            <a:ext cx="8691480" cy="585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685800" y="9140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alizar los estados financieros de una empresa consiste en examinarlos desde el punto de vista de su situación económica y financier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Situación Económic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Capacidad o grado de eficiencia para producir utilidad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Situación Financier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Capacidad de la empresa para pagar sus deud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94920" y="333000"/>
            <a:ext cx="8062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eptos Prelimina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04920" y="1474560"/>
            <a:ext cx="8610480" cy="50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finiciones de Rentabilida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entiende por rentabilidad la ganancias que produce un activo en relación al monto invertid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 rentabilidad sobre el patrimonio mide las ganancias que reciben los dueños del patrimonio de la empresa en relación a su propia inversión, es decir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 =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Utilidad del Ejercic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trimon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304920" y="836640"/>
            <a:ext cx="8610480" cy="568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finiciones de Rentabilida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La Rentabilidad sobre Activos, en cambio, mide las gananci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que reciben todos los que tienen intereses en la empres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(pasivo y patrimonio) en relación a los montos invertido, 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cir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Ra =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Utilidad del Ejercicio + Intere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ctivos Tota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685800" y="1413000"/>
            <a:ext cx="7772400" cy="468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 rentabilidad del patrimonio está influenciada por la política de financiamiento de la empres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 rentabilidad de los activos es una medida de eficiencia, y es independiente de cómo se financian los activo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uando una empresa se endeuda aumenta la rentabilidad esperada de los accionistas, pero también aumenta el riesg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66840" y="549360"/>
            <a:ext cx="838188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lación entre la Deuda, Riesgo y Rentabilida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zones o Indices Financier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104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 análisis financiero consiste en la comparación de índice o razones calculadas a partir de los estados financier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pongamos que una empresa tiene una rentabilidad de 10%. ¿Es esto bueno o malo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trones de Comparació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jetivos o estándares de la empres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volución históric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ultados de otras empresas del sect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685800" y="91404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Normalmente se consideran las siguientes familias 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Ratios o razones financiera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Liquidez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Endeudamien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Rentabilid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Activid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dices de Liquidez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miten evaluar la capacidad de la empresa para pagar oportunamente sus obligaciones de corto plaz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n especialmente relevantes para bancos y proveedores que otorgan créditos de corto plaz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Soporte Técnico</dc:creator>
  <dc:description/>
  <dc:language>en-US</dc:language>
  <cp:lastModifiedBy>ivan.alvarez</cp:lastModifiedBy>
  <cp:lastPrinted>1999-03-18T21:04:13Z</cp:lastPrinted>
  <dcterms:modified xsi:type="dcterms:W3CDTF">2006-04-24T12:13:18Z</dcterms:modified>
  <cp:revision>10</cp:revision>
  <dc:subject/>
  <dc:title>Análisis Financiero</dc:title>
</cp:coreProperties>
</file>