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B331-E94E-44FF-A4FA-AF0791800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4927-B0AD-4330-98DA-0674673D6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D9BB-8A66-4E6D-A223-C23C71334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6484-E89A-424E-9BAA-8DAEF6509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DEFC4-2735-4C8D-B101-263B9CB99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11BF3-EA5F-450B-93BD-02B36C128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D2E49-2AC6-4D9F-A0F8-0C9EEDCFC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D33A1-78D8-4EF3-B159-DB519FB3E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1B2ED-D50C-47B3-B73E-6BFE96CE7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26F64-9473-41CA-8BD8-C8569911F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408B1-8E30-4DAD-A2A8-23545C3B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8EBC-6342-4132-AE03-A17888B96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495D5-3C5C-4799-9ADA-41FC832E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2E0C6-C064-4171-8C58-7CC95289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8ED76-5036-4FFC-BA6F-741AEA017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7E40D-5913-4844-8587-2786DE37E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A188D-EAAF-4B05-AB4E-E838ACB34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5526-E108-46B5-9309-902163034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7BA2-9DD4-4EAE-82C3-E23E2B9DF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F324-D96C-4674-9BC3-B3D70F8A0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FE12-2066-42EF-954F-043830BAC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AFFA-EFA4-47B3-AA13-F2482500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288D-E326-4B62-A07A-FC641904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3106-F115-4633-8D83-6B87F3AC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68F50-BD1F-4005-A24A-57661B9EFD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0E90A-6696-4A79-B9B9-27BA36A447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rimera Parte: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ontabilidad Financiera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3301560"/>
            <a:ext cx="7772400" cy="27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6: Patrimon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jemplo 2</a:t>
            </a:r>
            <a:r>
              <a:rPr b="0" i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638360"/>
            <a:ext cx="8915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cide pagar dividendos de $1.5 por acción a un accionista mayoritario que posee el 40% del capital (200.000) con acciones suscritas y pagadas. El pago se efectúa con $1 en efectivo y $0.5 en acciones en cartera de la empres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por Pag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.0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es Negociab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jemplo 3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7760" y="1523880"/>
            <a:ext cx="906624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miten 500.000 acciones de pagos a un valor libro de $1.2 por acción. Se colocan obteniendo $650.000. El costo de la Operación de Colocación es de $15.00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63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 Financier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1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Pagado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6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bre Precio Vta. Acciones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920" y="1519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6.1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Asientos de Apertura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90662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EDAD DE PERSON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jemplo: Juan Pérez y Oscar González crean un sociedad Ltda., cada uno se compromete a aportar $1.000.00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.Pérez aporte por Enterar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1.0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.González aporte por Enterar (A)        1.0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0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6.1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Asientos de Apertura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7627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EDADES ANONIMA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istingue entre capital Autorizado, Suscrito y Pag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orizado: Aquel que figura en el estatuto y que se estima suficiente para el desenvolvimiento de la socie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scrito: Parte del capital autorizado que los accionistas se comprometen a apor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ado: Monto de las suscripciones efectivamente pagad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46680" y="3567240"/>
            <a:ext cx="175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560" y="475920"/>
            <a:ext cx="8762760" cy="592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constituye una  S.A. por un capital de MM$ 10, el que se divide en 100.000 acciones a $100 c/ac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icialmen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es por Suscribi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Autoriza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46680" y="3567240"/>
            <a:ext cx="175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685360" cy="624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los accionistas suscriben 80.000 accion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ist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es por Suscribi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se pagan las acciones suscrita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ist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Autoriza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MM$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es por suscribi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(MM$  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Paga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MM$ 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1345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6.2 Distribución de Utilidade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EDAD DE PERSONAS : Cada miembro tiene una cuenta particular, que se carga con los retiros a cuenta de la utilidad del ejercicio y se abona con las utilidades distribuid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jempl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l Sr. Pérez retira $10.000 a cuenta de la Utilidad del Ejercic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.Pérez Cta. particul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52280" y="875880"/>
            <a:ext cx="8839440" cy="500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al final del Ejercicio se tienen utilidades $300.000 y se decide capitalizar el 50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del Ejercic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.Pérez Cta.Particul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.González Cta.particul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s (Patrimonio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1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la Cuenta Particular tiene saldo deudor, representa un activo de la empresa. En caso contrario, refleja un pasiv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3640" y="609480"/>
            <a:ext cx="8134200" cy="57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Sociedades Anónima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pag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 revalorización de capi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breprecio en venta de ac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 mayor valor retasación técnica Activo Fi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Reteni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s futuros dividen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Acumul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didas Acumul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(Pérdida) del Ejerci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Provisorios (men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134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jemplo 1</a:t>
            </a:r>
            <a:r>
              <a:rPr b="0" i="1" lang="en-US" sz="32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99172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gistro de acuerdo a la junta de accionistas en virtud del cual, con cargo a las utilidades del ejercicio de $90.000 se distribuirán dividendos por $40.000, capitalizándose el res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ercicio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videndos por Pagar (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4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Acumulada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6T18:48:24Z</dcterms:created>
  <dc:creator>Michael Jorratt</dc:creator>
  <dc:description/>
  <dc:language>en-US</dc:language>
  <cp:lastModifiedBy>IVAN ALVAREZ VALDES</cp:lastModifiedBy>
  <cp:lastPrinted>1999-03-18T21:00:01Z</cp:lastPrinted>
  <dcterms:modified xsi:type="dcterms:W3CDTF">2006-04-17T03:19:12Z</dcterms:modified>
  <cp:revision>11</cp:revision>
  <dc:subject/>
  <dc:title>Patrimonio CONTABILIDAD Y CONTROL DE GESTION</dc:title>
</cp:coreProperties>
</file>