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D95A-A5BE-4422-8F45-402AC476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71DF-E168-4D60-BB46-71EB868D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4799-C648-4793-BAB5-ADCEF63B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153F-D8E4-4D28-B777-C2F49BB3B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A9FC-119E-47C1-A929-A0B99D24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0F25-4BFA-4BA7-B0EE-91712231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3361-A630-49E7-8DF9-9EBE7C70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F91C-4D3C-4336-94DB-9D475E48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3CFF-3158-4022-B04E-C22F581B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8669-A4EC-429B-A5FA-EB3419D9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F891-DF24-4555-BC9E-0DBAA9A4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5A8D-0207-4751-9A06-F912BF48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ABE5-37DF-4C11-8E36-8FC2AA26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603B-BDF8-41F4-B937-33DE1284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16AC-0373-4E3F-831C-6F1CFBE4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C4E5-2CC9-4F37-A47C-BF96D1591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D881-02A4-4B80-A1E5-7F0A5997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1CA6-260A-42A1-A01A-A985DA6D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B324-01FC-4D56-B517-A7208ECA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1005-EF0D-4349-A809-7A1A3028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E199-2B3B-4D80-B392-3B1369EB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3EE3-E68D-4798-B0D5-3218939B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F4C2-F6FD-4AF2-B9AC-CA234670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B68B-0502-4E83-A253-F36457EC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F40D-2AFF-4511-964C-BD955B1F5AEB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38B8-0C04-41F4-BAFE-21889DC42EF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34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ítulo 5: Pas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mpra una camioneta vía leasing. El contrato establece 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6 cuotas iguales de m$ 1.000, las que incluyen 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mensual del 1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.01) 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= 6.000 - 5.795,5 =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gistr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 primer 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676520"/>
            <a:ext cx="86421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Qué parte de la cuota mensual corresponde a interés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nto a capit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 por amortizar   Interé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4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7,9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2,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853,4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48,5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1,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901,9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39,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,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940,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9,4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70,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970,4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9,7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0,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990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9,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0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7627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Tribu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uota del leasing es un gasto. Sólo se registra como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última cuota (opción), la cual se depre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ota contrato de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gast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5589720"/>
            <a:ext cx="7920000" cy="45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ventaja fundamental del leasing es tributa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, Documentos por pagar y 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dela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5993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Monto que se pagará al tenedor del 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asa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asa de interés que se devengar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P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ital no amortizado más intereses devengados y no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merc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ecio al que se transa el bono (en función de la tasa de interés de mercad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up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ago parcial del bono, que puede incluir amortización del capital y/o intere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6,5%. Anualmente se amortizará la quinta parte del valor de emisión y se pagarán los intereses devengados.  Como la tasa de interés de mercado es de 7,2%, el bono se transó en MM$ 687,46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82,4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12,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er cupón (pago de capital e interes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13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7,5%. Anualmente se amortizará la quinta parte del valor de emisión y se pagarán los intereses devengados. Como la tasa de interés de mercado era de 6,8%, el bono se transó en MM$ 712,65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7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2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7627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contrato de arrendamiento con opción de comp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solicita a otra (la empresa de leasing) que adquiera un determinado bien para dárselo simultáneamente en arrenda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contrato establece el pago de una cuota de arrendamiento por un cierto lap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final de ese lapso el arrendatario tiene 3 op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olver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guir arrendánd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r la opción y quedarse con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Financie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Leasing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Diferid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de las cuotas de arren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atoria de las cu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que generará el contrato durante su vigencia, 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r (2) -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1:18:56Z</dcterms:created>
  <dc:creator>Michael Jorratt</dc:creator>
  <dc:description/>
  <dc:language>en-US</dc:language>
  <cp:lastModifiedBy>IVAN ALVAREZ VALDES</cp:lastModifiedBy>
  <cp:lastPrinted>1999-03-18T20:56:04Z</cp:lastPrinted>
  <dcterms:modified xsi:type="dcterms:W3CDTF">2006-04-10T04:49:51Z</dcterms:modified>
  <cp:revision>12</cp:revision>
  <dc:subject/>
  <dc:title>Primera Parte: Contabilidad Financiera</dc:title>
</cp:coreProperties>
</file>