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E3D0-5C29-4A37-954E-3C8AF0A0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CF7F-DDF2-4B1A-B929-1B9ECD18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2C39-4BCF-495B-AF46-FE8BE06C3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A7B5-40B5-4FEF-AE24-016F0BAA0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7E0C-EB2A-48E8-BA97-5D65B46F9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77B5-B83A-43BF-9570-A437AC6D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4C80-1C71-4E75-BC41-647744EA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1155-F82C-44E5-8541-836202FC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95D3-A4DD-4758-A39A-217CEBBA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AECF-131D-4540-BD87-EAAB61D3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988A-94E0-41B3-9953-3F4B7F8D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7AD3-CEB2-4149-A0BC-08AD3FA3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73EE-7A48-482E-BEAC-CC71F0EF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CED8-7E1D-4B89-94C8-B16E9D43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A79B-6DB4-40E1-B59C-A87642CC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7C04-EF87-488D-B5FC-4519EF11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8110-136D-433F-B57B-FA86B12A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9D2E-10F7-4B3A-B775-18878CA7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65FC-DFEC-4AAA-A27A-264625F6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9557-C3AD-47E4-8242-E5E4594B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6DC1-F927-4587-8EFD-54665799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6514-8324-489F-BC3A-29EEB16D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9093-8057-4B42-A7E8-CA63865A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F9EE-B9A2-495E-99D6-717CF678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E4B0-699F-463B-A54E-95E33F356E7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2244-DE46-48CD-AB71-0E899C8432B1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34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ítulo 5: Pas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mpra una camioneta vía leasing. El contrato establece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6 cuotas iguales de m$ 1.000, las que incluyen 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mensual del 1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.01) 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= 6.000 - 5.795,5 =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gistr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 primer 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676520"/>
            <a:ext cx="86421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Qué parte de la cuota mensual corresponde a interés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nto a capit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 por amortizar   Interé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4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7,9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2,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853,4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48,5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1,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901,9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39,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,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940,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9,4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70,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970,4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9,7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0,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990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9,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0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7627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Tribu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uota del leasing es un gasto. Sólo se registra como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última cuota (opción), la cual se depre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ota contrato de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gast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5589720"/>
            <a:ext cx="7920000" cy="45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ventaja fundamental del leasing es tributa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, Documentos por pagar y 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dela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5993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Monto que se pagará al tenedor del 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asa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asa de interés que se devengar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P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ital no amortizado más intereses devengados y no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merc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ecio al que se transa el bono (en función de la tasa de interés de mercad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up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ago parcial del bono, que puede incluir amortización del capital y/o intere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6,5%. Anualmente se amortizará la quinta parte del valor de emisión y se pagarán los intereses devengados.  Como la tasa de interés de mercado es de 7,2%, el bono se transó en MM$ 687,46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82,4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12,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er cupón (pago de capital e interes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13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7,5%. Anualmente se amortizará la quinta parte del valor de emisión y se pagarán los intereses devengados. Como la tasa de interés de mercado era de 6,8%, el bono se transó en MM$ 712,65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7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2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7627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contrato de arrendamiento con opción de comp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solicita a otra (la empresa de leasing) que adquiera un determinado bien para dárselo simultáneamente en arrenda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contrato establece el pago de una cuota de arrendamiento por un cierto lap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final de ese lapso el arrendatario tiene 3 op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olver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guir arrendánd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r la opción y quedarse con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Financie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Leasing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Diferid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de las cuotas de arren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atoria de las cu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que generará el contrato durante su vigencia, 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r (2) -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1:18:56Z</dcterms:created>
  <dc:creator>Michael Jorratt</dc:creator>
  <dc:description/>
  <dc:language>en-US</dc:language>
  <cp:lastModifiedBy>IVAN ALVAREZ VALDES</cp:lastModifiedBy>
  <cp:lastPrinted>1999-03-18T20:56:04Z</cp:lastPrinted>
  <dcterms:modified xsi:type="dcterms:W3CDTF">2006-04-10T04:49:51Z</dcterms:modified>
  <cp:revision>12</cp:revision>
  <dc:subject/>
  <dc:title>Primera Parte: Contabilidad Financiera</dc:title>
</cp:coreProperties>
</file>