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9249-6EEC-4FEB-A34D-AD830C68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C2CE-AA03-4B7C-B7E5-30ED5D9D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4175-47C6-4EDB-BB51-5904290C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3E67-1BD4-41F2-917A-D5604430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F162-E3FF-4669-96CD-4CD8784F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A9E8-FBC9-4376-8EFA-80449DB7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F85C-3AB6-4E0F-AABE-90E848FE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E946-35EB-4B8E-AB6A-7F8FCD0B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427E-03FC-4C1D-A224-B21C3E38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AD6B-BAF9-4988-8263-08EDD128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FCB7-D10C-4724-B74A-D8439BEC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12DD-51BE-4716-8D6F-7A58ECF4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3247-17E2-4220-891E-13002479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C0A9-E1B7-4A78-99A6-871E501E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85E0-5940-4908-88F4-301708E9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76AC-4985-4BEF-9A0E-033C59BB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915C-012A-425D-A62F-92FA5D2A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F63D-03E0-4A17-A65A-F15FA3AD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AB7-E4B5-481E-BAC4-16361881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0FC2-A707-4B4F-BDEE-8552516E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F2BE-1B14-44DB-9BE4-A6EE0AC0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11F7-EA43-4318-B690-A72CD891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945A-940C-4BEB-97EF-82CC9244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1BBA-6F86-495E-A539-C11F7813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2BE0-74D6-4E2D-A9B5-886920D56262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698C-13B2-4BBB-9766-A52E748CAE6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Vicente Astorga Pizarro</cp:lastModifiedBy>
  <cp:lastPrinted>1999-03-18T20:54:39Z</cp:lastPrinted>
  <dcterms:modified xsi:type="dcterms:W3CDTF">2007-03-26T02:34:28Z</dcterms:modified>
  <cp:revision>23</cp:revision>
  <dc:subject/>
  <dc:title>Primera Parte: Contabilidad Financiera</dc:title>
</cp:coreProperties>
</file>