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3A7740-E217-4DDC-93FE-251185F09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131C84-CEA1-4572-B2DF-EFBD29241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6ADBC21-2E42-4525-A430-D1EA948FD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2B74526-199E-4DE2-8E6D-407DFCF9F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759E3-9BFB-4022-AD77-771A30C74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A2F79-79CE-4554-8571-E02AC9A68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A501C-975C-4552-921F-786714CF1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27886-98EC-465B-9FC5-0145DF8CF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35838-48E0-4DD7-8F9F-16842AC83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B9B5E-CE25-40F9-8E4F-FC58D1279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DF51F-C8E9-4B97-BCE5-13A818B53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27CD14-B882-4C4A-9186-23BD4C276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B8154-04CF-4469-BE4B-60E3C132D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409F4-53DC-43CB-937E-A0AA36BF8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BCD7F-B3D2-4016-B91E-8FB4D8CB7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D5AF8-CA4F-4395-8075-81E3AE565D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BC3F9-32EE-446B-8CD6-65CDD6387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30DD7A2-390B-495D-8089-8AD496DFB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2FD910-9C67-4B7E-91D1-C3CDCF21A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140D71-77DB-4937-84AF-E5861923A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69F0BD-DA1D-4D47-9772-71059FC1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37754D-846D-403F-9375-099F5E0C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9406E7-33A2-4234-A6AE-98E9F9B8C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7DD3F6F-AA7B-4037-89CE-B66A63CF5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26F13-4DA3-45AA-94C8-F4EBE9FDC1AB}"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89F8-4487-4CE9-B023-141311D877EB}"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85760" indent="-21708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i="1" lang="es-ES_tradnl" sz="1800" spc="-1" strike="noStrike">
                <a:solidFill>
                  <a:srgbClr val="ffffff"/>
                </a:solidFill>
                <a:latin typeface="Garamond"/>
              </a:rPr>
              <a:t>Fuente: Colegio de Contadores de Chile, Boletín N°1.</a:t>
            </a:r>
            <a:endParaRPr b="0" lang="en-US" sz="1800" spc="-1" strike="noStrike">
              <a:solidFill>
                <a:srgbClr val="ffffff"/>
              </a:solidFill>
              <a:latin typeface="Garamond"/>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IVAN ALVAREZ VALDES</cp:lastModifiedBy>
  <cp:lastPrinted>1999-03-18T20:46:15Z</cp:lastPrinted>
  <dcterms:modified xsi:type="dcterms:W3CDTF">2006-03-12T21:02:21Z</dcterms:modified>
  <cp:revision>20</cp:revision>
  <dc:subject/>
  <dc:title>Vender una idea o un producto</dc:title>
</cp:coreProperties>
</file>