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1439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1439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41439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4400" y="16761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4600" y="16761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1439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4400" y="41439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4600" y="41439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16761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88640"/>
            <a:ext cx="8305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6761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1439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41439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761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1439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41920" y="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-</a:t>
            </a:r>
            <a:fld id="{2C5626FD-B2B7-4D13-8698-AACF4C52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419112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de las actividades más difíciles en el cálculo de costos es determinar la cantidad apropiada de costos indirectos a asignar a cada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896000" y="3776760"/>
          <a:ext cx="354456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3776760"/>
                    <a:ext cx="354456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" name=""/>
          <p:cNvGrpSpPr/>
          <p:nvPr/>
        </p:nvGrpSpPr>
        <p:grpSpPr>
          <a:xfrm>
            <a:off x="5284800" y="2154240"/>
            <a:ext cx="2222640" cy="1668600"/>
            <a:chOff x="5284800" y="2154240"/>
            <a:chExt cx="2222640" cy="1668600"/>
          </a:xfrm>
        </p:grpSpPr>
        <p:sp>
          <p:nvSpPr>
            <p:cNvPr id="43" name=""/>
            <p:cNvSpPr/>
            <p:nvPr/>
          </p:nvSpPr>
          <p:spPr>
            <a:xfrm>
              <a:off x="5284800" y="2154240"/>
              <a:ext cx="2222640" cy="1668600"/>
            </a:xfrm>
            <a:custGeom>
              <a:avLst/>
              <a:gdLst/>
              <a:ahLst/>
              <a:rect l="l" t="t" r="r" b="b"/>
              <a:pathLst>
                <a:path w="1400" h="1051">
                  <a:moveTo>
                    <a:pt x="808" y="1046"/>
                  </a:moveTo>
                  <a:lnTo>
                    <a:pt x="856" y="1036"/>
                  </a:lnTo>
                  <a:lnTo>
                    <a:pt x="901" y="1023"/>
                  </a:lnTo>
                  <a:lnTo>
                    <a:pt x="945" y="1008"/>
                  </a:lnTo>
                  <a:lnTo>
                    <a:pt x="990" y="991"/>
                  </a:lnTo>
                  <a:lnTo>
                    <a:pt x="1031" y="972"/>
                  </a:lnTo>
                  <a:lnTo>
                    <a:pt x="1073" y="949"/>
                  </a:lnTo>
                  <a:lnTo>
                    <a:pt x="1110" y="927"/>
                  </a:lnTo>
                  <a:lnTo>
                    <a:pt x="1147" y="902"/>
                  </a:lnTo>
                  <a:lnTo>
                    <a:pt x="1183" y="876"/>
                  </a:lnTo>
                  <a:lnTo>
                    <a:pt x="1214" y="848"/>
                  </a:lnTo>
                  <a:lnTo>
                    <a:pt x="1244" y="819"/>
                  </a:lnTo>
                  <a:lnTo>
                    <a:pt x="1272" y="788"/>
                  </a:lnTo>
                  <a:lnTo>
                    <a:pt x="1298" y="754"/>
                  </a:lnTo>
                  <a:lnTo>
                    <a:pt x="1321" y="722"/>
                  </a:lnTo>
                  <a:lnTo>
                    <a:pt x="1339" y="688"/>
                  </a:lnTo>
                  <a:lnTo>
                    <a:pt x="1357" y="652"/>
                  </a:lnTo>
                  <a:lnTo>
                    <a:pt x="1372" y="617"/>
                  </a:lnTo>
                  <a:lnTo>
                    <a:pt x="1383" y="580"/>
                  </a:lnTo>
                  <a:lnTo>
                    <a:pt x="1391" y="544"/>
                  </a:lnTo>
                  <a:lnTo>
                    <a:pt x="1397" y="505"/>
                  </a:lnTo>
                  <a:lnTo>
                    <a:pt x="1399" y="467"/>
                  </a:lnTo>
                  <a:lnTo>
                    <a:pt x="1399" y="456"/>
                  </a:lnTo>
                  <a:lnTo>
                    <a:pt x="1397" y="428"/>
                  </a:lnTo>
                  <a:lnTo>
                    <a:pt x="1394" y="398"/>
                  </a:lnTo>
                  <a:lnTo>
                    <a:pt x="1387" y="371"/>
                  </a:lnTo>
                  <a:lnTo>
                    <a:pt x="1377" y="343"/>
                  </a:lnTo>
                  <a:lnTo>
                    <a:pt x="1365" y="314"/>
                  </a:lnTo>
                  <a:lnTo>
                    <a:pt x="1349" y="288"/>
                  </a:lnTo>
                  <a:lnTo>
                    <a:pt x="1331" y="260"/>
                  </a:lnTo>
                  <a:lnTo>
                    <a:pt x="1310" y="235"/>
                  </a:lnTo>
                  <a:lnTo>
                    <a:pt x="1288" y="211"/>
                  </a:lnTo>
                  <a:lnTo>
                    <a:pt x="1265" y="188"/>
                  </a:lnTo>
                  <a:lnTo>
                    <a:pt x="1237" y="165"/>
                  </a:lnTo>
                  <a:lnTo>
                    <a:pt x="1206" y="143"/>
                  </a:lnTo>
                  <a:lnTo>
                    <a:pt x="1175" y="122"/>
                  </a:lnTo>
                  <a:lnTo>
                    <a:pt x="1142" y="103"/>
                  </a:lnTo>
                  <a:lnTo>
                    <a:pt x="1106" y="85"/>
                  </a:lnTo>
                  <a:lnTo>
                    <a:pt x="1070" y="70"/>
                  </a:lnTo>
                  <a:lnTo>
                    <a:pt x="1031" y="56"/>
                  </a:lnTo>
                  <a:lnTo>
                    <a:pt x="993" y="43"/>
                  </a:lnTo>
                  <a:lnTo>
                    <a:pt x="951" y="31"/>
                  </a:lnTo>
                  <a:lnTo>
                    <a:pt x="910" y="21"/>
                  </a:lnTo>
                  <a:lnTo>
                    <a:pt x="868" y="14"/>
                  </a:lnTo>
                  <a:lnTo>
                    <a:pt x="825" y="8"/>
                  </a:lnTo>
                  <a:lnTo>
                    <a:pt x="781" y="4"/>
                  </a:lnTo>
                  <a:lnTo>
                    <a:pt x="737" y="1"/>
                  </a:lnTo>
                  <a:lnTo>
                    <a:pt x="692" y="0"/>
                  </a:lnTo>
                  <a:lnTo>
                    <a:pt x="647" y="2"/>
                  </a:lnTo>
                  <a:lnTo>
                    <a:pt x="603" y="5"/>
                  </a:lnTo>
                  <a:lnTo>
                    <a:pt x="560" y="9"/>
                  </a:lnTo>
                  <a:lnTo>
                    <a:pt x="518" y="16"/>
                  </a:lnTo>
                  <a:lnTo>
                    <a:pt x="475" y="25"/>
                  </a:lnTo>
                  <a:lnTo>
                    <a:pt x="433" y="35"/>
                  </a:lnTo>
                  <a:lnTo>
                    <a:pt x="391" y="47"/>
                  </a:lnTo>
                  <a:lnTo>
                    <a:pt x="353" y="60"/>
                  </a:lnTo>
                  <a:lnTo>
                    <a:pt x="315" y="76"/>
                  </a:lnTo>
                  <a:lnTo>
                    <a:pt x="279" y="92"/>
                  </a:lnTo>
                  <a:lnTo>
                    <a:pt x="245" y="109"/>
                  </a:lnTo>
                  <a:lnTo>
                    <a:pt x="213" y="129"/>
                  </a:lnTo>
                  <a:lnTo>
                    <a:pt x="182" y="150"/>
                  </a:lnTo>
                  <a:lnTo>
                    <a:pt x="154" y="171"/>
                  </a:lnTo>
                  <a:lnTo>
                    <a:pt x="127" y="195"/>
                  </a:lnTo>
                  <a:lnTo>
                    <a:pt x="103" y="219"/>
                  </a:lnTo>
                  <a:lnTo>
                    <a:pt x="81" y="245"/>
                  </a:lnTo>
                  <a:lnTo>
                    <a:pt x="61" y="270"/>
                  </a:lnTo>
                  <a:lnTo>
                    <a:pt x="44" y="297"/>
                  </a:lnTo>
                  <a:lnTo>
                    <a:pt x="30" y="325"/>
                  </a:lnTo>
                  <a:lnTo>
                    <a:pt x="18" y="351"/>
                  </a:lnTo>
                  <a:lnTo>
                    <a:pt x="9" y="379"/>
                  </a:lnTo>
                  <a:lnTo>
                    <a:pt x="3" y="409"/>
                  </a:lnTo>
                  <a:lnTo>
                    <a:pt x="0" y="439"/>
                  </a:lnTo>
                  <a:lnTo>
                    <a:pt x="0" y="466"/>
                  </a:lnTo>
                  <a:lnTo>
                    <a:pt x="2" y="495"/>
                  </a:lnTo>
                  <a:lnTo>
                    <a:pt x="7" y="524"/>
                  </a:lnTo>
                  <a:lnTo>
                    <a:pt x="16" y="552"/>
                  </a:lnTo>
                  <a:lnTo>
                    <a:pt x="26" y="580"/>
                  </a:lnTo>
                  <a:lnTo>
                    <a:pt x="39" y="608"/>
                  </a:lnTo>
                  <a:lnTo>
                    <a:pt x="55" y="635"/>
                  </a:lnTo>
                  <a:lnTo>
                    <a:pt x="74" y="662"/>
                  </a:lnTo>
                  <a:lnTo>
                    <a:pt x="93" y="687"/>
                  </a:lnTo>
                  <a:lnTo>
                    <a:pt x="118" y="710"/>
                  </a:lnTo>
                  <a:lnTo>
                    <a:pt x="143" y="735"/>
                  </a:lnTo>
                  <a:lnTo>
                    <a:pt x="172" y="756"/>
                  </a:lnTo>
                  <a:lnTo>
                    <a:pt x="202" y="777"/>
                  </a:lnTo>
                  <a:lnTo>
                    <a:pt x="234" y="797"/>
                  </a:lnTo>
                  <a:lnTo>
                    <a:pt x="268" y="816"/>
                  </a:lnTo>
                  <a:lnTo>
                    <a:pt x="303" y="834"/>
                  </a:lnTo>
                  <a:lnTo>
                    <a:pt x="341" y="848"/>
                  </a:lnTo>
                  <a:lnTo>
                    <a:pt x="380" y="862"/>
                  </a:lnTo>
                  <a:lnTo>
                    <a:pt x="419" y="875"/>
                  </a:lnTo>
                  <a:lnTo>
                    <a:pt x="461" y="885"/>
                  </a:lnTo>
                  <a:lnTo>
                    <a:pt x="503" y="895"/>
                  </a:lnTo>
                  <a:lnTo>
                    <a:pt x="547" y="901"/>
                  </a:lnTo>
                  <a:lnTo>
                    <a:pt x="588" y="908"/>
                  </a:lnTo>
                  <a:lnTo>
                    <a:pt x="633" y="911"/>
                  </a:lnTo>
                  <a:lnTo>
                    <a:pt x="676" y="913"/>
                  </a:lnTo>
                  <a:lnTo>
                    <a:pt x="721" y="913"/>
                  </a:lnTo>
                  <a:lnTo>
                    <a:pt x="767" y="911"/>
                  </a:lnTo>
                  <a:lnTo>
                    <a:pt x="810" y="908"/>
                  </a:lnTo>
                  <a:lnTo>
                    <a:pt x="853" y="901"/>
                  </a:lnTo>
                  <a:lnTo>
                    <a:pt x="895" y="895"/>
                  </a:lnTo>
                  <a:lnTo>
                    <a:pt x="928" y="888"/>
                  </a:lnTo>
                  <a:lnTo>
                    <a:pt x="925" y="894"/>
                  </a:lnTo>
                  <a:lnTo>
                    <a:pt x="915" y="920"/>
                  </a:lnTo>
                  <a:lnTo>
                    <a:pt x="900" y="944"/>
                  </a:lnTo>
                  <a:lnTo>
                    <a:pt x="884" y="967"/>
                  </a:lnTo>
                  <a:lnTo>
                    <a:pt x="865" y="988"/>
                  </a:lnTo>
                  <a:lnTo>
                    <a:pt x="843" y="1005"/>
                  </a:lnTo>
                  <a:lnTo>
                    <a:pt x="820" y="1024"/>
                  </a:lnTo>
                  <a:lnTo>
                    <a:pt x="797" y="1039"/>
                  </a:lnTo>
                  <a:lnTo>
                    <a:pt x="770" y="1050"/>
                  </a:lnTo>
                  <a:lnTo>
                    <a:pt x="808" y="10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61120" y="2373480"/>
              <a:ext cx="2130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gnar CI es difíc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408080" y="2984400"/>
            <a:ext cx="1839600" cy="920880"/>
            <a:chOff x="7408080" y="2984400"/>
            <a:chExt cx="1839600" cy="920880"/>
          </a:xfrm>
        </p:grpSpPr>
        <p:sp>
          <p:nvSpPr>
            <p:cNvPr id="46" name=""/>
            <p:cNvSpPr/>
            <p:nvPr/>
          </p:nvSpPr>
          <p:spPr>
            <a:xfrm>
              <a:off x="7620120" y="2984400"/>
              <a:ext cx="1349280" cy="920880"/>
            </a:xfrm>
            <a:custGeom>
              <a:avLst/>
              <a:gdLst/>
              <a:ahLst/>
              <a:rect l="l" t="t" r="r" b="b"/>
              <a:pathLst>
                <a:path w="850" h="580">
                  <a:moveTo>
                    <a:pt x="425" y="435"/>
                  </a:moveTo>
                  <a:lnTo>
                    <a:pt x="451" y="434"/>
                  </a:lnTo>
                  <a:lnTo>
                    <a:pt x="477" y="433"/>
                  </a:lnTo>
                  <a:lnTo>
                    <a:pt x="504" y="431"/>
                  </a:lnTo>
                  <a:lnTo>
                    <a:pt x="532" y="428"/>
                  </a:lnTo>
                  <a:lnTo>
                    <a:pt x="557" y="424"/>
                  </a:lnTo>
                  <a:lnTo>
                    <a:pt x="583" y="419"/>
                  </a:lnTo>
                  <a:lnTo>
                    <a:pt x="607" y="413"/>
                  </a:lnTo>
                  <a:lnTo>
                    <a:pt x="631" y="407"/>
                  </a:lnTo>
                  <a:lnTo>
                    <a:pt x="655" y="400"/>
                  </a:lnTo>
                  <a:lnTo>
                    <a:pt x="676" y="392"/>
                  </a:lnTo>
                  <a:lnTo>
                    <a:pt x="698" y="383"/>
                  </a:lnTo>
                  <a:lnTo>
                    <a:pt x="718" y="374"/>
                  </a:lnTo>
                  <a:lnTo>
                    <a:pt x="737" y="365"/>
                  </a:lnTo>
                  <a:lnTo>
                    <a:pt x="755" y="354"/>
                  </a:lnTo>
                  <a:lnTo>
                    <a:pt x="771" y="343"/>
                  </a:lnTo>
                  <a:lnTo>
                    <a:pt x="786" y="331"/>
                  </a:lnTo>
                  <a:lnTo>
                    <a:pt x="800" y="320"/>
                  </a:lnTo>
                  <a:lnTo>
                    <a:pt x="811" y="307"/>
                  </a:lnTo>
                  <a:lnTo>
                    <a:pt x="821" y="294"/>
                  </a:lnTo>
                  <a:lnTo>
                    <a:pt x="830" y="281"/>
                  </a:lnTo>
                  <a:lnTo>
                    <a:pt x="836" y="268"/>
                  </a:lnTo>
                  <a:lnTo>
                    <a:pt x="843" y="254"/>
                  </a:lnTo>
                  <a:lnTo>
                    <a:pt x="846" y="240"/>
                  </a:lnTo>
                  <a:lnTo>
                    <a:pt x="848" y="227"/>
                  </a:lnTo>
                  <a:lnTo>
                    <a:pt x="849" y="213"/>
                  </a:lnTo>
                  <a:lnTo>
                    <a:pt x="848" y="199"/>
                  </a:lnTo>
                  <a:lnTo>
                    <a:pt x="844" y="185"/>
                  </a:lnTo>
                  <a:lnTo>
                    <a:pt x="839" y="171"/>
                  </a:lnTo>
                  <a:lnTo>
                    <a:pt x="833" y="158"/>
                  </a:lnTo>
                  <a:lnTo>
                    <a:pt x="825" y="145"/>
                  </a:lnTo>
                  <a:lnTo>
                    <a:pt x="815" y="132"/>
                  </a:lnTo>
                  <a:lnTo>
                    <a:pt x="804" y="119"/>
                  </a:lnTo>
                  <a:lnTo>
                    <a:pt x="791" y="107"/>
                  </a:lnTo>
                  <a:lnTo>
                    <a:pt x="776" y="96"/>
                  </a:lnTo>
                  <a:lnTo>
                    <a:pt x="761" y="84"/>
                  </a:lnTo>
                  <a:lnTo>
                    <a:pt x="743" y="74"/>
                  </a:lnTo>
                  <a:lnTo>
                    <a:pt x="726" y="64"/>
                  </a:lnTo>
                  <a:lnTo>
                    <a:pt x="705" y="54"/>
                  </a:lnTo>
                  <a:lnTo>
                    <a:pt x="684" y="45"/>
                  </a:lnTo>
                  <a:lnTo>
                    <a:pt x="663" y="37"/>
                  </a:lnTo>
                  <a:lnTo>
                    <a:pt x="640" y="30"/>
                  </a:lnTo>
                  <a:lnTo>
                    <a:pt x="616" y="23"/>
                  </a:lnTo>
                  <a:lnTo>
                    <a:pt x="591" y="17"/>
                  </a:lnTo>
                  <a:lnTo>
                    <a:pt x="567" y="12"/>
                  </a:lnTo>
                  <a:lnTo>
                    <a:pt x="540" y="8"/>
                  </a:lnTo>
                  <a:lnTo>
                    <a:pt x="514" y="5"/>
                  </a:lnTo>
                  <a:lnTo>
                    <a:pt x="487" y="2"/>
                  </a:lnTo>
                  <a:lnTo>
                    <a:pt x="461" y="0"/>
                  </a:lnTo>
                  <a:lnTo>
                    <a:pt x="435" y="0"/>
                  </a:lnTo>
                  <a:lnTo>
                    <a:pt x="407" y="0"/>
                  </a:lnTo>
                  <a:lnTo>
                    <a:pt x="380" y="1"/>
                  </a:lnTo>
                  <a:lnTo>
                    <a:pt x="354" y="3"/>
                  </a:lnTo>
                  <a:lnTo>
                    <a:pt x="328" y="6"/>
                  </a:lnTo>
                  <a:lnTo>
                    <a:pt x="301" y="9"/>
                  </a:lnTo>
                  <a:lnTo>
                    <a:pt x="276" y="13"/>
                  </a:lnTo>
                  <a:lnTo>
                    <a:pt x="251" y="18"/>
                  </a:lnTo>
                  <a:lnTo>
                    <a:pt x="227" y="25"/>
                  </a:lnTo>
                  <a:lnTo>
                    <a:pt x="203" y="32"/>
                  </a:lnTo>
                  <a:lnTo>
                    <a:pt x="180" y="39"/>
                  </a:lnTo>
                  <a:lnTo>
                    <a:pt x="159" y="47"/>
                  </a:lnTo>
                  <a:lnTo>
                    <a:pt x="139" y="57"/>
                  </a:lnTo>
                  <a:lnTo>
                    <a:pt x="118" y="66"/>
                  </a:lnTo>
                  <a:lnTo>
                    <a:pt x="101" y="77"/>
                  </a:lnTo>
                  <a:lnTo>
                    <a:pt x="83" y="88"/>
                  </a:lnTo>
                  <a:lnTo>
                    <a:pt x="68" y="99"/>
                  </a:lnTo>
                  <a:lnTo>
                    <a:pt x="54" y="111"/>
                  </a:lnTo>
                  <a:lnTo>
                    <a:pt x="42" y="123"/>
                  </a:lnTo>
                  <a:lnTo>
                    <a:pt x="30" y="135"/>
                  </a:lnTo>
                  <a:lnTo>
                    <a:pt x="21" y="148"/>
                  </a:lnTo>
                  <a:lnTo>
                    <a:pt x="14" y="162"/>
                  </a:lnTo>
                  <a:lnTo>
                    <a:pt x="8" y="175"/>
                  </a:lnTo>
                  <a:lnTo>
                    <a:pt x="4" y="189"/>
                  </a:lnTo>
                  <a:lnTo>
                    <a:pt x="1" y="203"/>
                  </a:lnTo>
                  <a:lnTo>
                    <a:pt x="0" y="216"/>
                  </a:lnTo>
                  <a:lnTo>
                    <a:pt x="1" y="230"/>
                  </a:lnTo>
                  <a:lnTo>
                    <a:pt x="3" y="244"/>
                  </a:lnTo>
                  <a:lnTo>
                    <a:pt x="8" y="258"/>
                  </a:lnTo>
                  <a:lnTo>
                    <a:pt x="13" y="271"/>
                  </a:lnTo>
                  <a:lnTo>
                    <a:pt x="20" y="284"/>
                  </a:lnTo>
                  <a:lnTo>
                    <a:pt x="30" y="298"/>
                  </a:lnTo>
                  <a:lnTo>
                    <a:pt x="40" y="310"/>
                  </a:lnTo>
                  <a:lnTo>
                    <a:pt x="53" y="322"/>
                  </a:lnTo>
                  <a:lnTo>
                    <a:pt x="67" y="334"/>
                  </a:lnTo>
                  <a:lnTo>
                    <a:pt x="82" y="346"/>
                  </a:lnTo>
                  <a:lnTo>
                    <a:pt x="98" y="357"/>
                  </a:lnTo>
                  <a:lnTo>
                    <a:pt x="116" y="367"/>
                  </a:lnTo>
                  <a:lnTo>
                    <a:pt x="136" y="377"/>
                  </a:lnTo>
                  <a:lnTo>
                    <a:pt x="156" y="386"/>
                  </a:lnTo>
                  <a:lnTo>
                    <a:pt x="178" y="394"/>
                  </a:lnTo>
                  <a:lnTo>
                    <a:pt x="200" y="402"/>
                  </a:lnTo>
                  <a:lnTo>
                    <a:pt x="84" y="579"/>
                  </a:lnTo>
                  <a:lnTo>
                    <a:pt x="297" y="425"/>
                  </a:lnTo>
                  <a:lnTo>
                    <a:pt x="324" y="428"/>
                  </a:lnTo>
                  <a:lnTo>
                    <a:pt x="350" y="431"/>
                  </a:lnTo>
                  <a:lnTo>
                    <a:pt x="377" y="433"/>
                  </a:lnTo>
                  <a:lnTo>
                    <a:pt x="404" y="434"/>
                  </a:lnTo>
                  <a:lnTo>
                    <a:pt x="425" y="4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08080" y="3102120"/>
              <a:ext cx="1839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e acuer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jemplo de Costeo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5400" y="2095560"/>
          <a:ext cx="897228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95560"/>
                    <a:ext cx="8972280" cy="4076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1360" y="2133720"/>
          <a:ext cx="89726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2133720"/>
                    <a:ext cx="8972640" cy="4076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92160" y="2093760"/>
          <a:ext cx="8985240" cy="37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093760"/>
                    <a:ext cx="8985240" cy="375948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124080"/>
            <a:ext cx="8105760" cy="1186200"/>
          </a:xfrm>
          <a:prstGeom prst="rect">
            <a:avLst/>
          </a:prstGeom>
          <a:solidFill>
            <a:srgbClr val="ffcc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o Indirecto = $720,000 + $1,280,000 = $2,000,000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ordar que $2,000,000 era la cantidad original de Costo Indi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09520" y="1847880"/>
          <a:ext cx="882036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847880"/>
                    <a:ext cx="8820360" cy="443880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6080" y="4773600"/>
            <a:ext cx="8530920" cy="17424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e resultado no es poco común cuando se usa el AB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uchas empresas encuentran que las producciones especializadas, de bajo volumen tiene mayores CI que los determinados previamente por el costeo tradi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1360" y="1638360"/>
          <a:ext cx="8801280" cy="29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638360"/>
                    <a:ext cx="8801280" cy="2933640"/>
                  </a:xfrm>
                  <a:prstGeom prst="rect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tradicional vs.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71360" y="1542960"/>
          <a:ext cx="889632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542960"/>
                    <a:ext cx="8896320" cy="5315040"/>
                  </a:xfrm>
                  <a:prstGeom prst="rect">
                    <a:avLst/>
                  </a:prstGeom>
                  <a:ln w="507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os y Cost Drivers en Costeo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1604880"/>
            <a:ext cx="8762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624"/>
              </a:spcBef>
              <a:buClr>
                <a:srgbClr val="9900cc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car las actividades que consumen recurs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624"/>
              </a:spcBef>
              <a:buClr>
                <a:srgbClr val="9900cc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r los costos a cada acti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624"/>
              </a:spcBef>
              <a:buClr>
                <a:srgbClr val="9900cc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car los cost drivers asociados a cada activ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624"/>
              </a:spcBef>
              <a:buClr>
                <a:srgbClr val="9900cc"/>
              </a:buClr>
              <a:buSzPct val="11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r la tasa de CI para cada cos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624"/>
              </a:spcBef>
              <a:buClr>
                <a:srgbClr val="9900cc"/>
              </a:buClr>
              <a:buSzPct val="110000"/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r los costos a los product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28560" y="5486400"/>
            <a:ext cx="4713840" cy="621720"/>
            <a:chOff x="2428560" y="5486400"/>
            <a:chExt cx="4713840" cy="621720"/>
          </a:xfrm>
        </p:grpSpPr>
        <p:sp>
          <p:nvSpPr>
            <p:cNvPr id="51" name=""/>
            <p:cNvSpPr/>
            <p:nvPr/>
          </p:nvSpPr>
          <p:spPr>
            <a:xfrm>
              <a:off x="2428560" y="5486400"/>
              <a:ext cx="471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sa                 Actividad Ac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35320" y="559260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3520" y="4267080"/>
            <a:ext cx="8380080" cy="791280"/>
            <a:chOff x="533520" y="4267080"/>
            <a:chExt cx="8380080" cy="791280"/>
          </a:xfrm>
        </p:grpSpPr>
        <p:sp>
          <p:nvSpPr>
            <p:cNvPr id="54" name=""/>
            <p:cNvSpPr/>
            <p:nvPr/>
          </p:nvSpPr>
          <p:spPr>
            <a:xfrm>
              <a:off x="533520" y="4419360"/>
              <a:ext cx="1238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sa 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75520" y="4267080"/>
              <a:ext cx="71380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sto Indirecto estimado en cada cos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úmero estimado de unidades de actividad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41840" y="4624200"/>
              <a:ext cx="6727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dimiento de Asignación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09680"/>
            <a:ext cx="8574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1f3"/>
                </a:solidFill>
                <a:latin typeface="Arial"/>
              </a:rPr>
              <a:t>Veremos un ejemplo que compara el costeo tradicional con el AB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1f3"/>
                </a:solidFill>
                <a:latin typeface="Arial"/>
              </a:rPr>
              <a:t>Se iniciará con el costeo tradici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jemplo Costeo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5520" y="1523520"/>
            <a:ext cx="8184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mpresa Citrus produce un producto regular y uno de lujo. El costo indirecto es determinado sobre la base horas de mano de obra directa, siendo para el año en curso de $2,000,000.  Otra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3263760"/>
          <a:ext cx="762012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63760"/>
                    <a:ext cx="7620120" cy="237492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34960" y="5716440"/>
            <a:ext cx="822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termine primero el costo unitario de cada modelo usando el costeo tradi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Tradicional vs. ABC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33200" y="1790640"/>
          <a:ext cx="891540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790640"/>
                    <a:ext cx="8915400" cy="24764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ing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4460760"/>
            <a:ext cx="6499440" cy="786600"/>
            <a:chOff x="1523880" y="4460760"/>
            <a:chExt cx="6499440" cy="786600"/>
          </a:xfrm>
        </p:grpSpPr>
        <p:sp>
          <p:nvSpPr>
            <p:cNvPr id="69" name=""/>
            <p:cNvSpPr/>
            <p:nvPr/>
          </p:nvSpPr>
          <p:spPr>
            <a:xfrm>
              <a:off x="1523880" y="4460760"/>
              <a:ext cx="64994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Tasa de   =    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Costo Indirecto Estim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I                    Actividad Estim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98600" y="4557600"/>
              <a:ext cx="181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571760" y="5603760"/>
            <a:ext cx="6426720" cy="786600"/>
            <a:chOff x="1571760" y="5603760"/>
            <a:chExt cx="6426720" cy="786600"/>
          </a:xfrm>
        </p:grpSpPr>
        <p:sp>
          <p:nvSpPr>
            <p:cNvPr id="72" name=""/>
            <p:cNvSpPr/>
            <p:nvPr/>
          </p:nvSpPr>
          <p:spPr>
            <a:xfrm>
              <a:off x="1571760" y="5603760"/>
              <a:ext cx="53575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Tasa de CI        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$2,000,00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               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40,000 HT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04720" y="570060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03320" y="5700600"/>
              <a:ext cx="249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=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$50 por HT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43960" y="1722600"/>
            <a:ext cx="8127000" cy="4535280"/>
            <a:chOff x="543960" y="1722600"/>
            <a:chExt cx="8127000" cy="4535280"/>
          </a:xfrm>
        </p:grpSpPr>
        <p:graphicFrame>
          <p:nvGraphicFramePr>
            <p:cNvPr id="76" name=""/>
            <p:cNvGraphicFramePr/>
            <p:nvPr/>
          </p:nvGraphicFramePr>
          <p:xfrm>
            <a:off x="557280" y="1722600"/>
            <a:ext cx="8113680" cy="4535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280" y="1722600"/>
                      <a:ext cx="8113680" cy="4535280"/>
                    </a:xfrm>
                    <a:prstGeom prst="rect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17920" y="2984400"/>
              <a:ext cx="1955880" cy="1650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3960" y="2044800"/>
              <a:ext cx="4468320" cy="942120"/>
            </a:xfrm>
            <a:prstGeom prst="rect">
              <a:avLst/>
            </a:prstGeom>
            <a:solidFill>
              <a:srgbClr val="dbffb8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El ABC tendrá diferent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ostos por unida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5620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trus planea adoptar el costeo ABC. Usando los siguientes datos de actividad, determine el costo unitario de cada producto con el AB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3352680"/>
          <a:ext cx="853416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352680"/>
                    <a:ext cx="8534160" cy="331488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696000" y="3800520"/>
            <a:ext cx="1117800" cy="157464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1360" y="1924200"/>
          <a:ext cx="88394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924200"/>
                    <a:ext cx="8839440" cy="449568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699280" y="5638680"/>
            <a:ext cx="4716720" cy="424080"/>
          </a:xfrm>
          <a:prstGeom prst="rect">
            <a:avLst/>
          </a:prstGeom>
          <a:solidFill>
            <a:srgbClr val="ccec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400 lujo + 800 regular = 1,200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360" y="1916280"/>
          <a:ext cx="8834400" cy="41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916280"/>
                    <a:ext cx="8834400" cy="412272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80880" y="189000"/>
            <a:ext cx="8305920" cy="1206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01:55:56Z</dcterms:created>
  <dc:creator>Charles Caldwell</dc:creator>
  <dc:description/>
  <cp:keywords/>
  <dc:language>en-US</dc:language>
  <cp:lastModifiedBy>IALVAREZ</cp:lastModifiedBy>
  <cp:lastPrinted>31136-10-21T07:49:06Z</cp:lastPrinted>
  <dcterms:modified xsi:type="dcterms:W3CDTF">2007-05-10T18:54:33Z</dcterms:modified>
  <cp:revision>65</cp:revision>
  <dc:subject>Cost Allocation and Performance Measurement</dc:subject>
  <dc:title>Chapter 21</dc:title>
</cp:coreProperties>
</file>