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9D1-DE92-4CB0-9963-71D5DC72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169-EC47-4EC4-9488-C967B710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F1F-A990-447C-8F50-8A6E43B2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7B0-F553-4165-A5F8-BBC42845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086-6B44-4E5B-A31A-011B1843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D73-671E-449A-AFD1-9510263D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D56-64F4-4DFD-88AB-18CD83D0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91B-CD23-4E5D-A0FA-AD34E4C4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B8F-B6CA-4358-9704-BD7AB587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EBA-9155-4D92-B36D-FD0369EA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982-5046-452E-9490-025908AC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7D3-16CD-491E-B134-04EF9F53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8E39-708F-4B6F-8152-DA35099C46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276640"/>
            <a:ext cx="7086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apítulo 6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trimonio y Formas de Organiza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6680" y="1483920"/>
            <a:ext cx="84564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es de Person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Juan Pérez y Oscar González crean un sociedad de responsabilidad limitada. El primero aporta $500 mil en efectivo y un computador que le costó $800 mil, pero cuyo valor de mercado se estima en $300 mil. El segundo aporta $400 mil en efectivo y mercaderías valoradas en $600 m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52804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an Pé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076640"/>
            <a:ext cx="8528040" cy="18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car Gonzál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76276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es Anónim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istingue entre capital Autorizado, Suscrito y Pa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ado: Aquel que figura en el estatuto y que se estima suficiente para el desenvolvimient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crito: Parte del capital autorizado que los accionistas se comprometen a a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do: Monto de las suscripciones efectivamente pag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 balance se debe mostrar el capital pa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onstituye una  S.A. por un capital de mm$10, el que se divide en 100.000 acciones a $100 c/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accionistas suscriben 80.000 a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520" y="1773360"/>
            <a:ext cx="829476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agan las acciones suscrit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m$ 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557000"/>
            <a:ext cx="89154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miembro tiene una cuenta particular, que se carga con los retiros a cuenta de la utilidad del ejercicio y se abona con las utilidades distribu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r. Pérez retira $10.000 a cuenta de la utilidad del 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Pérez Cta. 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52280" y="1412640"/>
            <a:ext cx="8839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 final del Ejercicio se tienen utilidades $300.000 y se decide capitalizar el 50%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Pér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.Gonzál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s (Patrimoni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Cuenta Particular tiene saldo deudor, representa un activo de la empresa. En caso contrario, refleja un pas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3073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Anó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revalorización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breprecio en venta de accione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mayor valor retasación técnica act.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Rete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futuros divide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 (pérdida) d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os provisorios (me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844640"/>
            <a:ext cx="88124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junta de accionistas de una SA acuerda que, con cargo a las utilidades del ejercicio de $90.000, se distribuirán dividendos por $40.000, capitalizándose el re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videndos por Pagar (P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Acumulada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704960" y="226044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04960" y="614664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40040" y="2647800"/>
            <a:ext cx="2958840" cy="10540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goci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21120" y="3943440"/>
            <a:ext cx="2577960" cy="901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c.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35720" y="5086440"/>
            <a:ext cx="1892160" cy="825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3480" y="1865160"/>
            <a:ext cx="14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66800" y="62848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773000"/>
            <a:ext cx="8915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SA pagará un dividendo de $1,5 por acción. A un accionista mayoritario, que posee 80 mil acciones suscritas y pagadas, equivalentes al 40% del capital, se le pagará con $1 en efectivo y $0,5 en acciones en cartera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es Negoc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760" y="1844640"/>
            <a:ext cx="88869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n 500.000 acciones de pagos a un valor libro de $1,2 por acción. Se colocan obteniendo $650.000. El costo de la colocación fue de $15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3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 Financie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Pagad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bre Precio Vta. Acciones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8459640" cy="18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profundiz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orngren et al (2003): capítulos 12 y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eigs et al (2000): capítulos 11 y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 un contrato en que dos o más personas estipulan poner algo en común con la mira de repartir entre sí los beneficios que de ello proveng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4720" y="4581360"/>
            <a:ext cx="7488000" cy="945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 una persona jurídica distinta de los socios individualmente consid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 Juríd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sona ficticia, que puede adquirir derechos y contraer obligaciones, y es susceptible de ser representada y de actuar por sí en la vida de los negocios como una persona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19440" y="2041560"/>
            <a:ext cx="29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A JUR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14360" y="3108240"/>
            <a:ext cx="206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70160" y="3108240"/>
            <a:ext cx="21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87200" y="4403880"/>
            <a:ext cx="167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 F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5800" y="4403880"/>
            <a:ext cx="22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 FI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9920" y="5851440"/>
            <a:ext cx="27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46000" y="5851440"/>
            <a:ext cx="231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7844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73320" y="289548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7332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0724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309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0" y="41148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9720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834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4492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16120" y="5562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161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546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resa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resa individual de responsabilidad limi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dades de he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dad de responsabilidad limi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dad Anó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dad en comand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341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s de organizar legalmente una empresa con fines de luc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gocio Individ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solo propietario, persona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uno juríd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entidades diferentes contabl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de Perso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formada voluntariamente por  dos o más personas, naturales o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ciedad es una entidad individual diferente de las actividades de cada so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socio es responsable de las deudas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socio tiene igual derecho a administrar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nforman para actividades comerciales, oficinas de profesionales y empresas medi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207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Creada por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ietarios se identifican como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orma por la reunión de un fondo común o aporte de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 tienen responsabilidad limitada al monto de sus apo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dministra por un directorio que delega parte de sus funciones en el Gerente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eden ser abiertas o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cp:keywords/>
  <dc:language>en-US</dc:language>
  <cp:lastModifiedBy>Michel</cp:lastModifiedBy>
  <cp:lastPrinted>1999-03-18T21:00:01Z</cp:lastPrinted>
  <dcterms:modified xsi:type="dcterms:W3CDTF">2008-06-26T04:29:13Z</dcterms:modified>
  <cp:revision>14</cp:revision>
  <dc:subject/>
  <dc:title>Patrimonio CONTABILIDAD Y CONTROL DE GESTION</dc:title>
</cp:coreProperties>
</file>