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31A2-AE63-4614-AD68-2179FFD8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6D5A-B3AB-49AB-BFA1-ABE6D655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C74-299B-481B-A73F-4D20B77F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F4A-6692-46FC-8ABB-39524CFC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4B19-DA1E-49F6-87BA-D6805CC1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6E7-5967-45DF-BA88-82D7D654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6CF4-433C-46D7-B8A6-571CD5C1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090-ACD3-4B09-85C5-734AAFB0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3D5-C391-4F94-8007-3B45970E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026D-6E56-4E21-B2CA-D8DBE968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ED60-3830-4D1C-A4AA-9FC4107A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4A7-0C5D-47DD-A72D-D392FC11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70F4-0D53-425B-AF1B-BAD6D4F6568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6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gunda Par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645000"/>
            <a:ext cx="665640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1: Contabilidad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98064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o relevan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osto futuro que será afectado por una decisión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o hundi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osto inamovible porque ya se produjo o porque una decisión ya tomada lo hace irremed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o increment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ayor costo derivado de la producción de un conjunto adicional de un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Costo de producir una unidad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o control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osto que puede ser modificado por el responsable de un departamento o s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o históric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l que ya se produ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o estánd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osto preestablecido o futu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i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ificación de los Cos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v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ación del Costo de P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77336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7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Exist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rcici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40428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1560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542880"/>
          <a:ext cx="8424720" cy="569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2880"/>
                    <a:ext cx="8424720" cy="56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ahoma"/>
              </a:rPr>
              <a:t>Ejercic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91628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empresa Piolín Ltda. fabrica jaulas de canarios. El proceso productivo consiste en cortar, doblar y soldar varillas de aluminio hasta dar la forma a la jaula, la que luego es pintada. Las distintas gerencias le dan a usted un listado de los costos incurridos por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lasifique los costos de acuerdo a su comportamiento (variables, fijos) y de acuerdo a su identificación con el producto (directos, indirectos y no product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777240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arillas de Alu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in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oldadura y otros materiales para sol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preciación de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guro del local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isión de vend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alarios Personal Administ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puestos Soldad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sonal de mant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per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ergía Eléctrica de la fáb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guro de la planta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eldo Jefe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stemas de Cálculo de Co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8077320" cy="10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étodos de Costeo: Absorbente 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osteo Absorb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osteo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quema del Estado de Resultados con ambos méto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Costeo absorbente vs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or costeo absorben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or costeo variab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abilidad Gerenci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rc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empresa Piolín Ltda. fabrica jaulas para canarios. El proceso productivo consiste en cortar, doblar y soldar varillas de aluminio hasta dar la forma a la jaula, la que luego es pintada. Las distintas gerencias le entregan a usted la siguiente información respecto del perío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00244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Unidades producid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5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Unidades vendid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 de venta unitari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s de varillas de alumini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2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istencias iniciales de varill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8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istencias finales de varill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2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ntur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4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dadura y otros materiales para solda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2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preciación herramient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1.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ro local de vent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3.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isión vendedor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18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larios personal administrativ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6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puestos soldador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1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sonal de manten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4.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perari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18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ergía eléctrica de la fábr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10.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ros de la planta de produc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5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3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ueldo jefe de produc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1.00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9640" y="900000"/>
            <a:ext cx="7993080" cy="49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ado de Resul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gresos por ventas (10.000 * 20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sto de ventas (10.000*4,9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49.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51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27.5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23.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3.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20.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Valor existencias finales de productos terminados = 5.000 * 4,9 = 24.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ado de Resul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ngreso por venta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stos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 producción (10.000 * 4,033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40.33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18.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41.6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 producción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3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9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3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16.1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alor existencias finales de productos terminados = 5.000 * 4,033 = 20.1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ación de Costos Indirectos: Método Conven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abilidad de Cost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2081160" y="3562200"/>
          <a:ext cx="522756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1160" y="3562200"/>
                    <a:ext cx="522756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0720" cy="29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la actualidad, para muchas empresas los costos indirectos representan una fracción relativamente alta de los costos to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lo anterior, la correcta asignación de estos costos cobra mayor releva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onces, surge el Método de Costeo Basado en Actividades como una alternativa al método conven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ABC - Cos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363240"/>
            <a:ext cx="8153280" cy="90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i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ificación de los Cos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41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i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ificación de los Cos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Oficina Computación Personal</cp:lastModifiedBy>
  <cp:lastPrinted>2000-06-08T22:31:45Z</cp:lastPrinted>
  <dcterms:modified xsi:type="dcterms:W3CDTF">2009-05-11T16:39:18Z</dcterms:modified>
  <cp:revision>37</cp:revision>
  <dc:subject/>
  <dc:title>Contabilidad Administrativa</dc:title>
</cp:coreProperties>
</file>