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6CDC-545D-456A-8422-5DCE70C4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B3B6-06B6-4E76-A2DE-2F26A751D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546-0AE9-42FF-9149-26A1C61C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6C6F-E93C-4CB7-8AD1-CB8464E46FD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000000"/>
                </a:solidFill>
                <a:latin typeface="Arial"/>
              </a:rPr>
              <a:t>PRMS: Plano Regulador Metropolitano de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118-A157-4F58-840F-DDE6F559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C14-13A1-490D-811B-A2766FF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F74-036A-40C2-AAE2-C4E33DDB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DAF-E901-4E33-8BE4-016F02D5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CF55-9EB7-41C8-BBB3-C65E9391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EF20-204B-47B0-809B-C120CC4D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AB47-08CB-4D23-A07A-5FEF1048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3294-473F-4D10-9111-0586E546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FEAA-AF98-4EC1-A418-94DC6294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3409-A041-48D0-ADAC-889A91C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6D9D-6EE7-4EEE-8B94-E0FA3BE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0AF-A381-4E65-9548-DDAE3740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D09B-E00F-4A1E-B5BB-F3D93C7A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6877-DDE8-4CD3-BECE-7AE7C88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614C-5FCD-4FD6-AB1E-E8B2E96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6503-60C0-4E62-A5F1-28BEFB0A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6EC-B831-4420-B9E1-8C89EABA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BB7-F497-410C-BFC9-8258BF90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D2B-892F-477A-9672-BDE7E378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7DF-D370-45C8-B0B3-7A66FED9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759-25E2-4EFB-90BE-48AEBDEF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B9D-720B-4558-8650-DACEBDE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EFF-05E9-4B94-A0C1-046ED42A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EB5-7985-4676-B20E-8D52E46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318B-DD4B-4A9E-B879-2BC634A7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54CD-6FC0-41E4-9DAD-C2421FC5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Adaptado por Eduardo Contreras, a partir de trabajo realizado por alumnos del  Curso 2007 de Preparación y Evaluación de Proyectos de Inversiones Públicas. ILPES-CEPAL </a:t>
            </a:r>
            <a:r>
              <a:rPr b="0" lang="es-PE" sz="1200" spc="-1" strike="noStrike">
                <a:solidFill>
                  <a:srgbClr val="006666"/>
                </a:solidFill>
                <a:latin typeface="Arial"/>
              </a:rPr>
              <a:t>(Acosta, José Antonio - Miranda, Eduardo - Miranda, Carlos A- Saavedra, Patricia - Zambrano, Iván) </a:t>
            </a:r>
            <a:br>
              <a:rPr sz="1600"/>
            </a:br>
            <a:br>
              <a:rPr sz="1600"/>
            </a:b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IN 42 A - 2009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95280" y="91440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Caso Comuna “El Mon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yecto de Residuos Sólidos Domiciliarios (RS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6121440" cy="39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6006960" y="25909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307920" y="3886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327672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éfic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87692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5"/>
          <p:cNvSpPr/>
          <p:nvPr/>
        </p:nvSpPr>
        <p:spPr>
          <a:xfrm>
            <a:off x="762120" y="914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atos Adicionales: Proyección de déficit en toneladas sin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762120"/>
            <a:ext cx="73134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000000"/>
                </a:solidFill>
                <a:latin typeface="Arial"/>
              </a:rPr>
              <a:t>Con Proyec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064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s alumnos se organizan en 5 grupos: uno por cada involucrado: 1)Inversionista privado, 2)Municipio de El Monte, 3)Vecinos de El Monte, 4)Vecinos de Santa Marta y 5) autoridades del Sistema Nacional de Invers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Cada grupo del 1 al 4 identifica y expone los beneficios cuantitativos y cualitativos del proyecto para ese  grupo (agente económico) en particu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grupo 5 hace una síntesis y describe los beneficios y costos en términos agregados, para el conjunto de involucr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La empresa privada que está postulando a adjudicarse el proyecto, ha construido la siguiente eval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n este caso las Ventas corresponden a los ingresos de la empresa por el pago que el Municipio de El Monte haría por las toneladas depositadas por a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sta información se ha hecho pública, a partir de estos nuevos datos cada grupo argumenta nuevamente su posición y requerimientos respecto al proye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066680" y="3581280"/>
            <a:ext cx="6882840" cy="1954440"/>
            <a:chOff x="1066680" y="3581280"/>
            <a:chExt cx="6882840" cy="1954440"/>
          </a:xfrm>
        </p:grpSpPr>
        <p:sp>
          <p:nvSpPr>
            <p:cNvPr id="210" name="AutoShape 4"/>
            <p:cNvSpPr/>
            <p:nvPr/>
          </p:nvSpPr>
          <p:spPr>
            <a:xfrm>
              <a:off x="1071000" y="3585600"/>
              <a:ext cx="687276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112760" y="35841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2" name="Group 76"/>
            <p:cNvGrpSpPr/>
            <p:nvPr/>
          </p:nvGrpSpPr>
          <p:grpSpPr>
            <a:xfrm>
              <a:off x="1066680" y="3581280"/>
              <a:ext cx="6882840" cy="1947960"/>
              <a:chOff x="1066680" y="3581280"/>
              <a:chExt cx="6882840" cy="1947960"/>
            </a:xfrm>
          </p:grpSpPr>
          <p:sp>
            <p:nvSpPr>
              <p:cNvPr id="213" name="Rectangle 7"/>
              <p:cNvSpPr/>
              <p:nvPr/>
            </p:nvSpPr>
            <p:spPr>
              <a:xfrm>
                <a:off x="3839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4643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Rectangle 9"/>
              <p:cNvSpPr/>
              <p:nvPr/>
            </p:nvSpPr>
            <p:spPr>
              <a:xfrm>
                <a:off x="544788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6251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055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786132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1149480" y="376236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ntas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417024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6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49741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76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577836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36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658368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129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3879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42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1147320" y="39232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o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417024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49741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Rectangle 22"/>
              <p:cNvSpPr/>
              <p:nvPr/>
            </p:nvSpPr>
            <p:spPr>
              <a:xfrm>
                <a:off x="577836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23"/>
              <p:cNvSpPr/>
              <p:nvPr/>
            </p:nvSpPr>
            <p:spPr>
              <a:xfrm>
                <a:off x="658368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Rectangle 24"/>
              <p:cNvSpPr/>
              <p:nvPr/>
            </p:nvSpPr>
            <p:spPr>
              <a:xfrm>
                <a:off x="73879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Rectangle 25"/>
              <p:cNvSpPr/>
              <p:nvPr/>
            </p:nvSpPr>
            <p:spPr>
              <a:xfrm>
                <a:off x="1160640" y="408276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Rectangle 26"/>
              <p:cNvSpPr/>
              <p:nvPr/>
            </p:nvSpPr>
            <p:spPr>
              <a:xfrm>
                <a:off x="43045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511020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591444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67183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52256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1159560" y="42436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antes Imp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4304520" y="42436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5042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584604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11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665028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04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7454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17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1155240" y="4404600"/>
                <a:ext cx="58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mpue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430452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27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39"/>
              <p:cNvSpPr/>
              <p:nvPr/>
            </p:nvSpPr>
            <p:spPr>
              <a:xfrm>
                <a:off x="511020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99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40"/>
              <p:cNvSpPr/>
              <p:nvPr/>
            </p:nvSpPr>
            <p:spPr>
              <a:xfrm>
                <a:off x="591444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987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41"/>
              <p:cNvSpPr/>
              <p:nvPr/>
            </p:nvSpPr>
            <p:spPr>
              <a:xfrm>
                <a:off x="665028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02782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42"/>
              <p:cNvSpPr/>
              <p:nvPr/>
            </p:nvSpPr>
            <p:spPr>
              <a:xfrm>
                <a:off x="745416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3898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43"/>
              <p:cNvSpPr/>
              <p:nvPr/>
            </p:nvSpPr>
            <p:spPr>
              <a:xfrm>
                <a:off x="1166760" y="456408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después Imp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4304520" y="45640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2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5042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5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584604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41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665028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1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7454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78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1160640" y="472500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43045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511020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591444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67183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752256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1181520" y="4885920"/>
                <a:ext cx="1283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Flujo Caja Operacional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Rectangle 56"/>
              <p:cNvSpPr/>
              <p:nvPr/>
            </p:nvSpPr>
            <p:spPr>
              <a:xfrm>
                <a:off x="4304520" y="48859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7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Rectangle 57"/>
              <p:cNvSpPr/>
              <p:nvPr/>
            </p:nvSpPr>
            <p:spPr>
              <a:xfrm>
                <a:off x="5042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20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Rectangle 58"/>
              <p:cNvSpPr/>
              <p:nvPr/>
            </p:nvSpPr>
            <p:spPr>
              <a:xfrm>
                <a:off x="584604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66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59"/>
              <p:cNvSpPr/>
              <p:nvPr/>
            </p:nvSpPr>
            <p:spPr>
              <a:xfrm>
                <a:off x="665028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26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60"/>
              <p:cNvSpPr/>
              <p:nvPr/>
            </p:nvSpPr>
            <p:spPr>
              <a:xfrm>
                <a:off x="7454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03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61"/>
              <p:cNvSpPr/>
              <p:nvPr/>
            </p:nvSpPr>
            <p:spPr>
              <a:xfrm>
                <a:off x="1157760" y="504216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VERSIO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Rectangle 62"/>
              <p:cNvSpPr/>
              <p:nvPr/>
            </p:nvSpPr>
            <p:spPr>
              <a:xfrm>
                <a:off x="3434040" y="504216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Rectangle 63"/>
              <p:cNvSpPr/>
              <p:nvPr/>
            </p:nvSpPr>
            <p:spPr>
              <a:xfrm>
                <a:off x="7189560" y="5042160"/>
                <a:ext cx="47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(VR = 0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Rectangle 64"/>
              <p:cNvSpPr/>
              <p:nvPr/>
            </p:nvSpPr>
            <p:spPr>
              <a:xfrm>
                <a:off x="2728440" y="521568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Rectangle 65"/>
              <p:cNvSpPr/>
              <p:nvPr/>
            </p:nvSpPr>
            <p:spPr>
              <a:xfrm>
                <a:off x="3957840" y="5215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Rectangle 66"/>
              <p:cNvSpPr/>
              <p:nvPr/>
            </p:nvSpPr>
            <p:spPr>
              <a:xfrm>
                <a:off x="2929680" y="5376600"/>
                <a:ext cx="968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h$8,329,449.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Rectangle 67"/>
              <p:cNvSpPr/>
              <p:nvPr/>
            </p:nvSpPr>
            <p:spPr>
              <a:xfrm>
                <a:off x="3957840" y="5376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Rectangle 68"/>
              <p:cNvSpPr/>
              <p:nvPr/>
            </p:nvSpPr>
            <p:spPr>
              <a:xfrm>
                <a:off x="1066680" y="3581280"/>
                <a:ext cx="25200" cy="163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69"/>
              <p:cNvSpPr/>
              <p:nvPr/>
            </p:nvSpPr>
            <p:spPr>
              <a:xfrm>
                <a:off x="2660400" y="3606120"/>
                <a:ext cx="1440" cy="15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70"/>
              <p:cNvSpPr/>
              <p:nvPr/>
            </p:nvSpPr>
            <p:spPr>
              <a:xfrm>
                <a:off x="2660400" y="3606120"/>
                <a:ext cx="12240" cy="158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Rectangle 71"/>
              <p:cNvSpPr/>
              <p:nvPr/>
            </p:nvSpPr>
            <p:spPr>
              <a:xfrm>
                <a:off x="7911000" y="3606120"/>
                <a:ext cx="25200" cy="161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Rectangle 72"/>
              <p:cNvSpPr/>
              <p:nvPr/>
            </p:nvSpPr>
            <p:spPr>
              <a:xfrm>
                <a:off x="1091880" y="358128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Line 73"/>
              <p:cNvSpPr/>
              <p:nvPr/>
            </p:nvSpPr>
            <p:spPr>
              <a:xfrm>
                <a:off x="2673000" y="3748320"/>
                <a:ext cx="5238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74"/>
              <p:cNvSpPr/>
              <p:nvPr/>
            </p:nvSpPr>
            <p:spPr>
              <a:xfrm>
                <a:off x="2673000" y="3748320"/>
                <a:ext cx="5238000" cy="1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75"/>
              <p:cNvSpPr/>
              <p:nvPr/>
            </p:nvSpPr>
            <p:spPr>
              <a:xfrm>
                <a:off x="1091880" y="519516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os los grupos hacen una evaluación social, considere que todos los flujos de costos operacionales tienen un factor de corrección (de precios de mercado a precios sociales) = 1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inversión tienen la siguiente estructura de cos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no calificada:   3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semicalificada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calificada:       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Insumos importados.             2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Resto de insumos                  30% (en este caso también considere un factor =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beneficio social por disminución de enfermedades y aumento de actividad turística se ha estimado en $15.000.000/año, desde t=1 a t=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76520" y="1981080"/>
          <a:ext cx="5181480" cy="2667240"/>
        </p:xfrm>
        <a:graphic>
          <a:graphicData uri="http://schemas.openxmlformats.org/drawingml/2006/table">
            <a:tbl>
              <a:tblPr/>
              <a:tblGrid>
                <a:gridCol w="1741320"/>
                <a:gridCol w="2117880"/>
                <a:gridCol w="132228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su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tego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90828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po de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93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no de O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mi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9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sa Descu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6" name="5 CuadroTexto"/>
          <p:cNvSpPr/>
          <p:nvPr/>
        </p:nvSpPr>
        <p:spPr>
          <a:xfrm>
            <a:off x="914400" y="4952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pide obtener un VPN social aproximado considerando sólo los antecedente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gunta Pers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Finalmente: además de hacer las correcciones al flujos de caja para transformarlo en un flujo de caja soci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¿Qué ítems de costos o beneficios adicionales habría que estimar para poder hacer una evaluación social más riguros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ómo los cuantificarí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45684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Zona del proyecto: 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Ubic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Región Metropolitana de Santiag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Provincia de Talag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Pobl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26.459 habitantes </a:t>
            </a:r>
            <a:r>
              <a:rPr b="0" lang="es-PE" sz="1000" spc="-1" strike="noStrike">
                <a:solidFill>
                  <a:srgbClr val="006666"/>
                </a:solidFill>
                <a:latin typeface="Verdana"/>
              </a:rPr>
              <a:t>(censo 2002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Homb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50,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Muje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49,7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Densidad 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224,2 hab./km²</a:t>
            </a:r>
            <a:r>
              <a:rPr b="0" lang="es-PE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Superficie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118 Km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N° de viviendas 7.0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Pobreza: Aproximadamente 24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(Es la Comuna más pobre de la R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F80C-FA50-4BDC-A310-703E53EF26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br>
              <a:rPr sz="3600"/>
            </a:br>
            <a:r>
              <a:rPr b="1" lang="es-CO" sz="2000" spc="-1" strike="noStrike">
                <a:solidFill>
                  <a:srgbClr val="006666"/>
                </a:solidFill>
                <a:latin typeface="Arial"/>
              </a:rPr>
              <a:t>Ubicación Geográfi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497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hile_reg"/>
          <p:cNvPicPr/>
          <p:nvPr/>
        </p:nvPicPr>
        <p:blipFill>
          <a:blip r:embed="rId2"/>
          <a:stretch/>
        </p:blipFill>
        <p:spPr>
          <a:xfrm>
            <a:off x="6400800" y="1428840"/>
            <a:ext cx="2297160" cy="4816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170280" y="64008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nte: Estudio Modificación PR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Probl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obre-genera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Incipiente cultura de recicl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a frecuencia de recolección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o número de vehículos recole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oblema p/mantenimiento de vehíc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Obsolescencia de cam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ejanía de relleno sani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Aumento de costos por tonelada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90 % de las viviendas están exentas del pago el servicio de recolec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2590920"/>
            <a:ext cx="8001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blema Centr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Deficiente manejo de RSD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CuadroTexto"/>
          <p:cNvSpPr/>
          <p:nvPr/>
        </p:nvSpPr>
        <p:spPr>
          <a:xfrm>
            <a:off x="1219320" y="3200400"/>
            <a:ext cx="6762600" cy="514440"/>
          </a:xfrm>
          <a:prstGeom prst="rect">
            <a:avLst/>
          </a:prstGeom>
          <a:solidFill>
            <a:srgbClr val="00b0f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ecuado  manejo de RS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en la Comuna    EL MO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495360" y="4114800"/>
            <a:ext cx="16383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omunidad sensibilizada en la Genera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438280" y="4876920"/>
            <a:ext cx="1219320" cy="7617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 de mejoramiento en frecuencia, cobertura, fiscalización de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6 CuadroTexto"/>
          <p:cNvSpPr/>
          <p:nvPr/>
        </p:nvSpPr>
        <p:spPr>
          <a:xfrm>
            <a:off x="3009960" y="2146320"/>
            <a:ext cx="18669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diciones mejoradas de salubrid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3352680" y="1066680"/>
            <a:ext cx="1565280" cy="68580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ción de  enfermeda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1219320" y="914400"/>
            <a:ext cx="133668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l flujo turíst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13 CuadroTexto"/>
          <p:cNvSpPr/>
          <p:nvPr/>
        </p:nvSpPr>
        <p:spPr>
          <a:xfrm>
            <a:off x="1066680" y="0"/>
            <a:ext cx="7391520" cy="914400"/>
          </a:xfrm>
          <a:prstGeom prst="rect">
            <a:avLst/>
          </a:prstGeom>
          <a:solidFill>
            <a:srgbClr val="fe8637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Medios (incluyen actividades del proyecto) y Fi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14 CuadroTexto"/>
          <p:cNvSpPr/>
          <p:nvPr/>
        </p:nvSpPr>
        <p:spPr>
          <a:xfrm>
            <a:off x="3801960" y="4114800"/>
            <a:ext cx="176076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ficiente recolección y transport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15 CuadroTexto"/>
          <p:cNvSpPr/>
          <p:nvPr/>
        </p:nvSpPr>
        <p:spPr>
          <a:xfrm>
            <a:off x="37339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novación de camiones para 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34 Conector recto de flecha"/>
          <p:cNvCxnSpPr/>
          <p:nvPr/>
        </p:nvCxnSpPr>
        <p:spPr>
          <a:xfrm flipV="1">
            <a:off x="1370160" y="3886920"/>
            <a:ext cx="360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21" name="35 CuadroTexto"/>
          <p:cNvSpPr/>
          <p:nvPr/>
        </p:nvSpPr>
        <p:spPr>
          <a:xfrm>
            <a:off x="1447920" y="5029200"/>
            <a:ext cx="76176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Educativo Ambiental para nivel Escola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37 CuadroTexto"/>
          <p:cNvSpPr/>
          <p:nvPr/>
        </p:nvSpPr>
        <p:spPr>
          <a:xfrm>
            <a:off x="5562720" y="2209680"/>
            <a:ext cx="173340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ir  gastos municipa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40 CuadroTexto"/>
          <p:cNvSpPr/>
          <p:nvPr/>
        </p:nvSpPr>
        <p:spPr>
          <a:xfrm>
            <a:off x="5505480" y="1066680"/>
            <a:ext cx="173340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 inversión municipal en  obras soci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49 CuadroTexto"/>
          <p:cNvSpPr/>
          <p:nvPr/>
        </p:nvSpPr>
        <p:spPr>
          <a:xfrm>
            <a:off x="0" y="5029200"/>
            <a:ext cx="129528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Fortalecimiento organizativo  de las Juntas Vecinal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2 CuadroTexto"/>
          <p:cNvSpPr/>
          <p:nvPr/>
        </p:nvSpPr>
        <p:spPr>
          <a:xfrm>
            <a:off x="4800600" y="5486400"/>
            <a:ext cx="91440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adecuado de mantenimiento de camion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70 CuadroTexto"/>
          <p:cNvSpPr/>
          <p:nvPr/>
        </p:nvSpPr>
        <p:spPr>
          <a:xfrm>
            <a:off x="1066680" y="2146320"/>
            <a:ext cx="1743120" cy="56844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muna limp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82 CuadroTexto"/>
          <p:cNvSpPr/>
          <p:nvPr/>
        </p:nvSpPr>
        <p:spPr>
          <a:xfrm>
            <a:off x="4038480" y="4876920"/>
            <a:ext cx="1635120" cy="3045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ducción de los costos de transportes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87 CuadroTexto"/>
          <p:cNvSpPr/>
          <p:nvPr/>
        </p:nvSpPr>
        <p:spPr>
          <a:xfrm>
            <a:off x="57913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de reciclaje  y compostaj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632448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676520" y="2971800"/>
            <a:ext cx="4647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3886200" y="29718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4" name="34 Conector recto de flecha"/>
          <p:cNvCxnSpPr>
            <a:stCxn id="127" idx="0"/>
          </p:cNvCxnSpPr>
          <p:nvPr/>
        </p:nvCxnSpPr>
        <p:spPr>
          <a:xfrm flipV="1">
            <a:off x="4854960" y="4647600"/>
            <a:ext cx="9756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35" name="34 Conector recto de flecha"/>
          <p:cNvCxnSpPr/>
          <p:nvPr/>
        </p:nvCxnSpPr>
        <p:spPr>
          <a:xfrm flipV="1">
            <a:off x="7466400" y="3886920"/>
            <a:ext cx="2520" cy="227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36" name="Line 36"/>
          <p:cNvSpPr/>
          <p:nvPr/>
        </p:nvSpPr>
        <p:spPr>
          <a:xfrm flipH="1" flipV="1">
            <a:off x="4876560" y="3885840"/>
            <a:ext cx="7596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106668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38"/>
          <p:cNvSpPr/>
          <p:nvPr/>
        </p:nvSpPr>
        <p:spPr>
          <a:xfrm flipV="1">
            <a:off x="190512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9"/>
          <p:cNvSpPr/>
          <p:nvPr/>
        </p:nvSpPr>
        <p:spPr>
          <a:xfrm flipV="1">
            <a:off x="3200400" y="4647960"/>
            <a:ext cx="121932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4389480" y="5181120"/>
            <a:ext cx="41112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1"/>
          <p:cNvSpPr/>
          <p:nvPr/>
        </p:nvSpPr>
        <p:spPr>
          <a:xfrm flipH="1" flipV="1">
            <a:off x="5105520" y="5181120"/>
            <a:ext cx="4608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43"/>
          <p:cNvSpPr/>
          <p:nvPr/>
        </p:nvSpPr>
        <p:spPr>
          <a:xfrm flipV="1">
            <a:off x="1828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403848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5"/>
          <p:cNvSpPr/>
          <p:nvPr/>
        </p:nvSpPr>
        <p:spPr>
          <a:xfrm flipV="1">
            <a:off x="6400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49 CuadroTexto"/>
          <p:cNvSpPr/>
          <p:nvPr/>
        </p:nvSpPr>
        <p:spPr>
          <a:xfrm>
            <a:off x="609480" y="5867280"/>
            <a:ext cx="12956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ampaña de Sensibilización y Difusió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8"/>
          <p:cNvSpPr/>
          <p:nvPr/>
        </p:nvSpPr>
        <p:spPr>
          <a:xfrm flipH="1" flipV="1">
            <a:off x="1493640" y="4495680"/>
            <a:ext cx="4572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2 CuadroTexto"/>
          <p:cNvSpPr/>
          <p:nvPr/>
        </p:nvSpPr>
        <p:spPr>
          <a:xfrm>
            <a:off x="5105520" y="6324480"/>
            <a:ext cx="76176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Dotación de persona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52 CuadroTexto"/>
          <p:cNvSpPr/>
          <p:nvPr/>
        </p:nvSpPr>
        <p:spPr>
          <a:xfrm>
            <a:off x="4038480" y="6324480"/>
            <a:ext cx="990720" cy="344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quipamiento del Tall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52 CuadroTexto"/>
          <p:cNvSpPr/>
          <p:nvPr/>
        </p:nvSpPr>
        <p:spPr>
          <a:xfrm>
            <a:off x="5943600" y="6248520"/>
            <a:ext cx="91440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uministro adecuado de repues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0"/>
          <p:cNvSpPr/>
          <p:nvPr/>
        </p:nvSpPr>
        <p:spPr>
          <a:xfrm flipV="1">
            <a:off x="4572000" y="6019920"/>
            <a:ext cx="60948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 flipV="1">
            <a:off x="5333760" y="6019920"/>
            <a:ext cx="22860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0"/>
          <p:cNvSpPr/>
          <p:nvPr/>
        </p:nvSpPr>
        <p:spPr>
          <a:xfrm flipH="1" flipV="1">
            <a:off x="5409720" y="6019920"/>
            <a:ext cx="76212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0"/>
          <p:cNvSpPr/>
          <p:nvPr/>
        </p:nvSpPr>
        <p:spPr>
          <a:xfrm flipV="1">
            <a:off x="4876920" y="3657240"/>
            <a:ext cx="4608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1371600" y="3886200"/>
            <a:ext cx="6477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42"/>
          <p:cNvSpPr/>
          <p:nvPr/>
        </p:nvSpPr>
        <p:spPr>
          <a:xfrm flipH="1" flipV="1">
            <a:off x="5562360" y="4648320"/>
            <a:ext cx="533160" cy="838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3" name="34 Conector recto de flecha"/>
          <p:cNvCxnSpPr>
            <a:stCxn id="164" idx="0"/>
            <a:endCxn id="156" idx="0"/>
          </p:cNvCxnSpPr>
          <p:nvPr/>
        </p:nvCxnSpPr>
        <p:spPr>
          <a:xfrm flipH="1" flipV="1">
            <a:off x="7848000" y="3885480"/>
            <a:ext cx="64044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64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57 CuadroTexto"/>
          <p:cNvSpPr/>
          <p:nvPr/>
        </p:nvSpPr>
        <p:spPr>
          <a:xfrm rot="16200000">
            <a:off x="-304560" y="4236840"/>
            <a:ext cx="1006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7 CuadroTexto"/>
          <p:cNvSpPr/>
          <p:nvPr/>
        </p:nvSpPr>
        <p:spPr>
          <a:xfrm rot="16200000">
            <a:off x="-122040" y="1752120"/>
            <a:ext cx="854280" cy="304920"/>
          </a:xfrm>
          <a:prstGeom prst="rect">
            <a:avLst/>
          </a:prstGeom>
          <a:solidFill>
            <a:srgbClr val="dfdfd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58 Elipse"/>
          <p:cNvSpPr/>
          <p:nvPr/>
        </p:nvSpPr>
        <p:spPr>
          <a:xfrm>
            <a:off x="5791320" y="4495680"/>
            <a:ext cx="28954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59 CuadroTexto"/>
          <p:cNvSpPr/>
          <p:nvPr/>
        </p:nvSpPr>
        <p:spPr>
          <a:xfrm>
            <a:off x="5943600" y="2819520"/>
            <a:ext cx="304812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lternativas de proyectos de Tratamiento y Disposición de R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61 Flecha abajo"/>
          <p:cNvSpPr/>
          <p:nvPr/>
        </p:nvSpPr>
        <p:spPr>
          <a:xfrm>
            <a:off x="7696080" y="396252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Analisis de alternativas de tratamiento y disposi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análisis técnico económico de alternativas (entre localizar en El Monte, Santiago y Santa Marta) muestra que la mejor alternativa es la ampliación de Santa Mar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11 Flecha curvada hacia arriba"/>
          <p:cNvSpPr/>
          <p:nvPr/>
        </p:nvSpPr>
        <p:spPr>
          <a:xfrm>
            <a:off x="3809880" y="5486400"/>
            <a:ext cx="4343400" cy="1219320"/>
          </a:xfrm>
          <a:custGeom>
            <a:avLst/>
            <a:gdLst>
              <a:gd name="textAreaLeft" fmla="*/ 971280 w 4343400"/>
              <a:gd name="textAreaRight" fmla="*/ 3219480 w 43434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-3600491"/>
                <a:lnTo>
                  <a:pt x="21293" y="5400"/>
                </a:lnTo>
                <a:lnTo>
                  <a:pt x="20084" y="0"/>
                </a:lnTo>
                <a:lnTo>
                  <a:pt x="18261" y="5400"/>
                </a:lnTo>
                <a:lnTo>
                  <a:pt x="19019" y="5400"/>
                </a:lnTo>
                <a:arcTo wR="9663" hR="21600" stAng="1799509" swAng="3479529"/>
                <a:lnTo>
                  <a:pt x="10421" y="21533"/>
                </a:lnTo>
                <a:arcTo wR="9663" hR="21600" stAng="5520962" swAng="5279038"/>
                <a:close/>
              </a:path>
              <a:path fill="darkenLess"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120962"/>
                <a:lnTo>
                  <a:pt x="10421" y="21533"/>
                </a:lnTo>
                <a:arcTo wR="9663" hR="21600" stAng="5520962" swAng="5279038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Involucrados en la alternativa selecciona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 anterior permite identificar los siguientes involucra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ersionista privado a cargo de la recolección, transporte y disposi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nicipalidad de El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la Municip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zonas aledañas al verteder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nta Mar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ís (representado por una autoridad de gobierno del Sistema Nacional de Invers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Datos adicionales:POBLACIÓN OBJE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43000" y="2286000"/>
            <a:ext cx="1816200" cy="399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203120" y="2357280"/>
            <a:ext cx="1575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FER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362320"/>
            <a:ext cx="18158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400800" y="2362320"/>
            <a:ext cx="2100240" cy="392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ETA 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800" spc="-1" strike="noStrike">
                <a:solidFill>
                  <a:srgbClr val="ff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26800" y="3200400"/>
            <a:ext cx="1553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TEND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26.2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124080" y="373392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5791320" y="3708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519560" y="3357720"/>
            <a:ext cx="90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57200" y="4286160"/>
            <a:ext cx="155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7.5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397160" y="5529240"/>
            <a:ext cx="136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3680" y="5029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746520" y="5181480"/>
            <a:ext cx="1816200" cy="1067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5334120"/>
            <a:ext cx="1420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NO ATENDID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2.9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4:17Z</dcterms:created>
  <dc:creator>ILPES-C09</dc:creator>
  <dc:description/>
  <dc:language>en-US</dc:language>
  <cp:lastModifiedBy>kcarrasco</cp:lastModifiedBy>
  <dcterms:modified xsi:type="dcterms:W3CDTF">2009-06-20T03:20:39Z</dcterms:modified>
  <cp:revision>181</cp:revision>
  <dc:subject/>
  <dc:title>Curso de Preparación y Evaluación de Proyectos –ILPES -2007</dc:title>
</cp:coreProperties>
</file>