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0B0A-FB38-4E68-A51C-F47433816D6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A7ED-09D8-4101-8377-DD1B0EA045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4263-EF49-497B-A248-E8FF9348AD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FBE1-CE3D-426E-81E5-890F87D7EE9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F80A-64F2-4365-877C-E7C69F8FA94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1966-3B40-41E5-BFEE-C442F998E69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F992-13FA-470C-B76C-29F50F72E2F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59E3-258F-4F20-B498-3AA2014DD7A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1F76-BA69-47CF-B6FB-80B3CD53489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14A6-D829-4DF0-BB98-5B6087A4504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413A-BE5A-47FB-B600-7D860B0563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2338-A191-45B7-8CF0-C30D2DA4FB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989F-2146-4AE9-B7E7-EF0EF8A871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8925-234C-475A-B8CF-74C5051A92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BF8B-5F2D-4F0B-BFF3-7E06B54CB00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DC75B5-2D10-496A-A3D2-D00181A37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35C437-C91A-4F50-98B2-A86DEB0AA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D953B-2336-41B0-A3B8-01C51EE12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48718A-AC31-441C-9DBC-11022145E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ED299A-2D3E-4AF6-9C9F-8AA725688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06E95C-3645-467A-913B-CA9A7E647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3BCA67-C9A4-4A92-8A32-C7062665B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65288F-A0DF-4B12-9D77-C0500917D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BB8619-0B46-4EF9-AEE2-0E47541C9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832FD3-EDBC-45E3-875B-C483E8F2B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2F58DA-1DF2-4664-84B9-65F16576DF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2A9261-3983-465C-8F59-6A5BE2A933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5C51CF8-5BF8-41C8-BB57-AA9D1F49E8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0E83A2-852D-4796-9325-5CF7EE63FA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E29F50-C8C8-4BC8-A48D-4B18D648690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F1BD67-66EA-442E-8B23-BCE33804ED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2A4C61-A936-46C1-9C73-A08BF0FDD9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22F0EE-63D7-46C1-A687-ECCAF978DB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EB730A-B7AC-450A-865A-76B8096212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3FDD81-8EBC-480E-B899-A22D9E1E57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8D0C01-6BDC-4360-83D8-24F8F2188E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88623C-A992-425E-BF58-A3FCAE7DB1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379DFC8-EAB9-4514-9906-130831CF7EC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6B64719-DC99-401D-9599-CC02B15D960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3E6BAD-A662-4BC2-96D1-F16F244816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29DE6A-CB40-4719-AC95-482797138C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3F097C-F06F-4647-8756-658E2A58AF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710E61-9E82-4CF4-A2DE-68B7871B8A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E39CC2-E9FB-4FFB-A098-34C7A22115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C6C741-1548-4A48-81AC-3D8461EAEA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2CA0E-3564-42BD-9104-583E43C90A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6A0F11-A079-43BE-8005-9FB744D4B9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051393-D347-46B5-B93F-FED13BEB7D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D1046E-22D7-402C-AC38-93AF3DAB91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2F58FE-9A6E-4A6D-A8F3-19F58BE593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7FB198-E31C-4A6C-8722-01F955B7A1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0707-D7C5-4ABB-A65C-AA0FB5ABDC55}"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24DA-412E-4382-A25B-2034B5054A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A20A-7A11-4AF6-852F-D2FA7923590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ST</cp:lastModifiedBy>
  <cp:lastPrinted>2002-11-13T13:47:55Z</cp:lastPrinted>
  <dcterms:modified xsi:type="dcterms:W3CDTF">2009-06-15T23:37:54Z</dcterms:modified>
  <cp:revision>353</cp:revision>
  <dc:subject/>
  <dc:title>Formulación de Proyectos</dc:title>
</cp:coreProperties>
</file>