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1527-1051-406A-8B74-A4E9D13C933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9DFD-9351-460F-9F6D-C139DEB74DD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63DB-2636-4268-B7F7-38A6229E10C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8900-3B2F-4AEB-BECC-045DA5EF92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7642-BB00-4A0E-8B93-44EBA54DC7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B90E-23CF-430D-AF31-7BF52F23C2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7F63-A69D-4B3D-B1D7-DE7983FE6B9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6EE9-75BC-4955-A67A-37201E9D2AA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A25A-E4A0-4630-8D3E-235F9BF935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483F-C6C6-4310-81ED-DE1F06E201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CB3-D3EF-4233-994E-0096D4A2C4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DB8A-1A22-44BB-B6E9-1ACD053466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E5CE-7E4F-4BD2-9E22-3C6FA8F5B4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D63A-9B25-4E69-A15F-92A645D758C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B04E-90CF-451B-968E-2436788A26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28B43F-ABFD-4AF8-A049-DD2E2346A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945171-825E-49F1-B77B-9E234FC14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B8C70F-4E04-4F1D-8577-4797BD01D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EDFC02-6AD8-4275-898B-32EA3B28F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55C2D5-E384-49E0-AE16-E850537B6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A7218C-E22A-4C13-BB62-3DA3DAD28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10560E-D1CA-488A-9865-8057C111D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A2C477-EA94-4AE2-A932-BE241A593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EBF7DD-C018-4021-AEF2-6870FD2C5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7B2081-0576-45B6-AC11-EE099022D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D9F6FA-24D9-4E9B-A9FF-AFE64078DED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AA80C2-8BB7-4479-B823-7683B77A713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61F0550-A2A5-4431-8A79-DE96A34E27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7DAD40-7A35-4341-9DE6-B869905CA1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E0B2FD4-B2F3-4654-AFEB-49256FF3FB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9097CE-2FBA-48CC-A823-63D1778F53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3BAF347-22BA-4741-B9D4-26715E18FD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50727EA-9EAA-43E8-8FE0-841014340A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4E011F-D49F-4CB8-9306-816D158C63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8818C2-5025-43E9-8741-14633AD583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33E2C2-7150-4807-B5DA-F1EB23B429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2BA273-799F-4A48-B795-42A538046C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54554EE-7DB2-445E-A481-EC5D75F2639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798607-43CB-4391-8BDE-7D563629DBE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FBCB7A-6612-462C-9316-C7B32E75F4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4E255D-7EC2-4135-9FD3-443763D5D8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E84F7D-5B7F-4094-9834-8E98817FF7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EC5769-132D-4C34-B82D-0FA4100F8F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5E3FB2-EE73-4FAB-9F60-37A803CF28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0E05CE-7A98-42E0-9C3E-B5192420B5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B757AC-5464-46BC-B94F-8EDC105DEF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65676A-90A8-4FDA-8398-FFF5F97209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59E3CA-909A-4DFE-BC45-BB301A6D5D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C9A429-1DBD-45C7-8452-0CD3F11195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89ADB11-7966-439C-84A6-96469F9B7C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C196BC-6166-4A41-9677-D7303D2BB4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3CCB-C5DA-4FC0-A164-2412C51003C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BAD-172E-4423-A228-B72D78AC9B7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8DF1-4A32-4733-820F-CAB3059C864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ST</cp:lastModifiedBy>
  <cp:lastPrinted>2002-11-13T13:47:55Z</cp:lastPrinted>
  <dcterms:modified xsi:type="dcterms:W3CDTF">2009-06-15T23:37:54Z</dcterms:modified>
  <cp:revision>353</cp:revision>
  <dc:subject/>
  <dc:title>Formulación de Proyectos</dc:title>
</cp:coreProperties>
</file>