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gif" ContentType="image/gif"/>
  <Override PartName="/ppt/media/image4.wmf" ContentType="image/x-wmf"/>
  <Override PartName="/ppt/media/LATIGO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es-ES_tradnl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es-ES_tradnl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es-ES_tradnl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9BAA37C3-733D-4A40-801A-BBDD562DFFA5}" type="slidenum">
              <a:rPr b="0" lang="es-ES_tradn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Los pasajeros que deben ser considerados como “pasajero embarcado” son aquellos que pagan tasa por embarcarse en el Aeropuerto, sólo se exceptúan: los menores de dos años, los pasajeros en transito, los diplómaticos y sus familiares acreditados y los delegados de gobierno que asistan a reuniones de carácter internacional a las que concurran Jefes de Estado y de Gobierno. Por lo tanto se deben incluir los pasajeros de vuelos no comerciales y se debe usar la estadística de la DGA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Los pasajeros que deben ser considerados como “pasajero embarcado” son aquellos que pagan tasa por embarcarse en el Aeropuerto, sólo se exceptúan: los menores de dos años, los pasajeros en transito, los diplómaticos y sus familiares acreditados y los delegados de gobierno que asistan a reuniones de carácter internacional a las que concurran Jefes de Estado y de Gobierno. Por lo tanto se deben incluir los pasajeros de vuelos no comerciales y se debe usar la estadística de la DGA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Los pasajeros que deben ser considerados como “pasajero embarcado” son aquellos que pagan tasa por embarcarse en el Aeropuerto, sólo se exceptúan: los menores de dos años, los pasajeros en transito, los diplómaticos y sus familiares acreditados y los delegados de gobierno que asistan a reuniones de carácter internacional a las que concurran Jefes de Estado y de Gobierno. Por lo tanto se deben incluir los pasajeros de vuelos no comerciales y se debe usar la estadística de la DGA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Los pasajeros que deben ser considerados como “pasajero embarcado” son aquellos que pagan tasa por embarcarse en el Aeropuerto, sólo se exceptúan: los menores de dos años, los pasajeros en transito, los diplómaticos y sus familiares acreditados y los delegados de gobierno que asistan a reuniones de carácter internacional a las que concurran Jefes de Estado y de Gobierno. Por lo tanto se deben incluir los pasajeros de vuelos no comerciales y se debe usar la estadística de la DGA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87AD-5CCA-4405-82DC-D736AF23B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DC4E-A4EE-4EBF-A45F-08FB3EB7B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8D95-BABB-4AAA-A118-E3F0BDDEE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EB04-BA1C-4F90-89EF-449FCA01C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2A58E-560E-43CC-8466-0071E5881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758B1-4AA0-4B94-B0BB-D489597A1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3B9EA-C35D-4AD7-872C-7406BDC59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C8DE4-2ADA-4607-A777-439CE47B2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7AC7F-6A0A-44CC-91DD-BFE9B1046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32CB5-BE57-4BA9-B31E-0A246293B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00D74-34DA-4146-9FB7-5DCE52F29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E9FC-55C3-4C65-B1E2-A5E1C8D7C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52EAC-2FC2-4A66-A78F-122E45B64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C9784-90FF-41E7-A346-2C2B8AE0D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2FB67-FF65-4BFB-927D-596403FD9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A47BE-F1BB-4792-9D84-A5D317338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51F04-6C3B-4882-AB5F-5232821FB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139D-6E1B-4E58-9C21-2EB0BD650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7C8C-DF15-4A5F-BF07-D8F5C0F77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FDB8-C32C-4C8E-9920-AEC72B009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5337-64E3-4558-8C4C-6D0B3077F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E4CB-1DCA-4786-98F3-BE919DF3B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1885-048F-4B05-BA9F-B80DE20B8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8D4F-F205-4E66-867D-ADBC0CE98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cc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cc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97EF7-434D-40EE-BBF7-1215BF73F2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EE277-81CB-4AF0-88D8-A59E80D6ED4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s.wikipedia.org/wiki/Imagen:Cerro_moreno_airport_scfa_1280_low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s.wikipedia.org/wiki/Fuerza_A&#233;rea_de_Chile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485720"/>
            <a:ext cx="8280360" cy="33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Arial Black"/>
              </a:rPr>
              <a:t>EVALUACION DE LA CONCESION DEL TERMINAL DE PASAJEROS DEL AEROPUERTO CERRO MORENO DE LA CIUDAD DE ANTOFAGASTA</a:t>
            </a:r>
            <a:r>
              <a:rPr b="0" lang="es-ES_tradnl" sz="2400" spc="-1" strike="noStrike">
                <a:solidFill>
                  <a:srgbClr val="ffcc00"/>
                </a:solidFill>
                <a:latin typeface="Arial Black"/>
              </a:rPr>
              <a:t> </a:t>
            </a:r>
            <a:br>
              <a:rPr sz="7200"/>
            </a:br>
            <a:br>
              <a:rPr sz="2000"/>
            </a:b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9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35080" y="4367160"/>
            <a:ext cx="5261040" cy="22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 Black"/>
              </a:rPr>
              <a:t>Estimación de Beneficios y Costo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42800" y="1701360"/>
            <a:ext cx="81187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cc00"/>
                </a:solidFill>
                <a:latin typeface="Arial"/>
              </a:rPr>
              <a:t>1 Ingresos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Provienen de los pagos de la tarifa por pasajero embarcado y aquellos que se derivan de las actividades comerciales desarrolladas en el área de la concesión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20000"/>
              </a:lnSpc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Ingreso por Embarque de Pasajero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20000"/>
              </a:lnSpc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Ingreso Comerciales:  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Servicios Aeronáutico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Servicios No Aeronáutico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La determinación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 del perfil de ingresos comerciales para el horizonte de la concesión se establecieron </a:t>
            </a:r>
            <a:r>
              <a:rPr b="0" lang="es-MX" sz="1400" spc="-1" strike="noStrike">
                <a:solidFill>
                  <a:srgbClr val="ff00ff"/>
                </a:solidFill>
                <a:latin typeface="Arial"/>
              </a:rPr>
              <a:t>diferentes tasas de crecimiento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, en algunos casos se mantuvo constante el ingreso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90000"/>
              </a:lnSpc>
              <a:spcBef>
                <a:spcPts val="349"/>
              </a:spcBef>
              <a:buClr>
                <a:srgbClr val="33ccc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El gobierno garantiza un ingreso mínimo cuando los pasajeros embarcados son inferiores al mínimo establecido para cada año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90000"/>
              </a:lnSpc>
              <a:spcBef>
                <a:spcPts val="349"/>
              </a:spcBef>
              <a:buClr>
                <a:srgbClr val="33ccc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El concesionario traspasa el 50% de los ingresos por embarque,  una vez que el valor presente de las ventas efectivas por este concepto, supere los 530.000 UF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 Black"/>
              </a:rPr>
              <a:t>Estimación de Beneficios y Costo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42520" y="1376280"/>
            <a:ext cx="8178840" cy="31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8712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8712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cc00"/>
                </a:solidFill>
                <a:latin typeface="Arial"/>
              </a:rPr>
              <a:t>2 Costos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8712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La valorización de la concesión requiere considerar diferentes conceptos de costo: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8712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87120">
              <a:lnSpc>
                <a:spcPct val="75000"/>
              </a:lnSpc>
              <a:spcBef>
                <a:spcPts val="400"/>
              </a:spcBef>
              <a:buClr>
                <a:srgbClr val="33cc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Costos de inversión 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- Costo de Proyect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8712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- Costo Construcci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8712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- Equipamient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87120">
              <a:lnSpc>
                <a:spcPct val="75000"/>
              </a:lnSpc>
              <a:spcBef>
                <a:spcPts val="400"/>
              </a:spcBef>
              <a:buClr>
                <a:srgbClr val="33cc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Costos de operación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8712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- Gasto de  operación y administración etapa construcci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8712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- Otros gastos previo a la explotaci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8712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- Gastos de Persona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8712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- Gastos General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8712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- Costos de Operación y Mantenci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4500720"/>
            <a:ext cx="8907480" cy="20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3960" indent="-190440"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723960" indent="-190440" algn="just">
              <a:lnSpc>
                <a:spcPct val="75000"/>
              </a:lnSpc>
              <a:buClr>
                <a:srgbClr val="33ccc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La ampliación del aeropuerto en el año 6 representa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723960" indent="-190440" algn="just">
              <a:lnSpc>
                <a:spcPct val="75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Superficie de 2,500 m</a:t>
            </a:r>
            <a:r>
              <a:rPr b="0" lang="es-MX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723960" indent="-190440" algn="just">
              <a:lnSpc>
                <a:spcPct val="75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Costo (proyectos, supervisión y administración) 40% de la inversión en proyectos, equipamiento y construcción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723960" indent="-190440" algn="just">
              <a:lnSpc>
                <a:spcPct val="75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Se desembolsa un </a:t>
            </a:r>
            <a:r>
              <a:rPr b="0" lang="es-MX" sz="1600" spc="-1" strike="noStrike">
                <a:solidFill>
                  <a:srgbClr val="ff00ff"/>
                </a:solidFill>
                <a:latin typeface="Arial"/>
              </a:rPr>
              <a:t>34% en el 2006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 y el resto en 2007.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723960" indent="-190440" algn="just">
              <a:lnSpc>
                <a:spcPct val="75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Las instalaciones entran en operación en el 2007 y la tarifa por pasajero embarcado sube en 10%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Arial Black"/>
              </a:rPr>
              <a:t>Evaluación: Calculo de indicadores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 algn="just">
              <a:lnSpc>
                <a:spcPct val="14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Tahoma"/>
              </a:rPr>
              <a:t>Construcción un modelo de flujo de caja del negocio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>
              <a:lnSpc>
                <a:spcPct val="145000"/>
              </a:lnSpc>
              <a:spcBef>
                <a:spcPts val="45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Los ingresos y los costos de operación se ajustaron a la fecha estimada de inicio de la explotación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>
              <a:lnSpc>
                <a:spcPct val="145000"/>
              </a:lnSpc>
              <a:spcBef>
                <a:spcPts val="45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En todos los años los pasajeros embarcados superan el mínimo garantizado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>
              <a:lnSpc>
                <a:spcPct val="145000"/>
              </a:lnSpc>
              <a:spcBef>
                <a:spcPts val="45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El contrato de concesión se amortizó linealmente para el flujo financiero y aceleradamente para efectos del cálculo de impuestos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>
              <a:lnSpc>
                <a:spcPct val="145000"/>
              </a:lnSpc>
              <a:spcBef>
                <a:spcPts val="45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El capital de trabajo requerido se estimó en el costo de operación para 45 días del primer año de explotación.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55680" indent="0">
              <a:lnSpc>
                <a:spcPct val="14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Arial Black"/>
              </a:rPr>
              <a:t>Flujo de Caja del Proyecto  (Valores en UF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1946160"/>
            <a:ext cx="9144000" cy="46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 Black"/>
              </a:rPr>
              <a:t>Evaluación: Calculo de indicadores (Valoración de la concesión)</a:t>
            </a:r>
            <a:br>
              <a:rPr sz="2000"/>
            </a:br>
            <a:r>
              <a:rPr b="1" lang="es-MX" sz="2000" spc="-1" strike="noStrike">
                <a:solidFill>
                  <a:srgbClr val="ffff00"/>
                </a:solidFill>
                <a:latin typeface="Arial Black"/>
              </a:rPr>
              <a:t>Tasa de descuento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12440"/>
            <a:ext cx="817884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Se calcula con el modelo CAPM (Capital Asset Pricing Model 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ff"/>
                </a:solidFill>
                <a:latin typeface="Arial Narrow"/>
              </a:rPr>
              <a:t>E (ri) = rf + Bi (E(rm) – rf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rf:</a:t>
            </a: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Tasa libre de riesg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PRC  12 añ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Calculo promedio indicado 6.6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Bi:</a:t>
            </a: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Coeficiente de riesgo sistemático del activo 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230040" y="4057560"/>
            <a:ext cx="867600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7840" indent="-177840" algn="just">
              <a:lnSpc>
                <a:spcPct val="90000"/>
              </a:lnSpc>
              <a:spcBef>
                <a:spcPts val="451"/>
              </a:spcBef>
              <a:buClr>
                <a:srgbClr val="33ccc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No existía en Chile datos sobre rentabilidades de empresas administradoras de aeropuert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77840" indent="-177840" algn="just">
              <a:lnSpc>
                <a:spcPct val="90000"/>
              </a:lnSpc>
              <a:spcBef>
                <a:spcPts val="451"/>
              </a:spcBef>
              <a:buClr>
                <a:srgbClr val="33ccc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Se asumió una correlación alta con la actividad del negocio de transporte aéreo (aerolínea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77840" indent="-177840" algn="just">
              <a:lnSpc>
                <a:spcPct val="90000"/>
              </a:lnSpc>
              <a:spcBef>
                <a:spcPts val="451"/>
              </a:spcBef>
              <a:buClr>
                <a:srgbClr val="33ccc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Datos de Estados Unidos porque en Chile sólo Lan cotiza en la bols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77840" indent="-177840" algn="just">
              <a:lnSpc>
                <a:spcPct val="90000"/>
              </a:lnSpc>
              <a:spcBef>
                <a:spcPts val="451"/>
              </a:spcBef>
              <a:buClr>
                <a:srgbClr val="33ccc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Consideración diferencias de estructuras de financiamiento =&gt;  coeficiente mas riesgoso 1,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77840" indent="-17784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77840" indent="-17784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rm:</a:t>
            </a:r>
            <a:r>
              <a:rPr b="1" lang="es-MX" sz="18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Retorno esperado del rendimiento de mercado 10,5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77840" indent="-17784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Tasa de Descuento:</a:t>
            </a: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11,3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77840" indent="-17784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2200" y="22824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1" lang="es-MX" sz="2400" spc="-1" strike="noStrike">
                <a:solidFill>
                  <a:srgbClr val="ffff00"/>
                </a:solidFill>
                <a:latin typeface="Arial Black"/>
              </a:rPr>
              <a:t>Cálculo de indicadores</a:t>
            </a:r>
            <a:br>
              <a:rPr sz="2400"/>
            </a:br>
            <a:r>
              <a:rPr b="1" lang="es-MX" sz="24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1" i="1" lang="es-MX" sz="2400" spc="-1" strike="noStrike">
                <a:solidFill>
                  <a:srgbClr val="ffff00"/>
                </a:solidFill>
                <a:latin typeface="Arial Black"/>
              </a:rPr>
              <a:t>(Valoración de la concesión) resultados</a:t>
            </a:r>
            <a:r>
              <a:rPr b="0" lang="es-MX" sz="2400" spc="-1" strike="noStrike">
                <a:solidFill>
                  <a:srgbClr val="ffff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959120" y="2363760"/>
          <a:ext cx="5519520" cy="3967200"/>
        </p:xfrm>
        <a:graphic>
          <a:graphicData uri="http://schemas.openxmlformats.org/drawingml/2006/table">
            <a:tbl>
              <a:tblPr/>
              <a:tblGrid>
                <a:gridCol w="2570040"/>
                <a:gridCol w="2949480"/>
              </a:tblGrid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cep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ultado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sa de descuen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.3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sa libre de riesg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6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mo de licitación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 oferta se sitúa en el tercer tramo, plazo y tarifa fijos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azo: 120 mes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ifa: $2,5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go: 6.954 UF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,954 [UF]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.9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841320" y="1627200"/>
            <a:ext cx="7650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Arial Narrow"/>
              </a:rPr>
              <a:t>Los resultados de la valoración de la concesión son: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Arial Black"/>
              </a:rPr>
              <a:t>Cálculo de indicadores </a:t>
            </a:r>
            <a:br>
              <a:rPr sz="2400"/>
            </a:br>
            <a:r>
              <a:rPr b="1" i="1" lang="es-MX" sz="2400" spc="-1" strike="noStrike">
                <a:solidFill>
                  <a:srgbClr val="ffff00"/>
                </a:solidFill>
                <a:latin typeface="Arial Black"/>
              </a:rPr>
              <a:t>(Valoración de la concesión) Sensibilidad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098720" y="3443400"/>
          <a:ext cx="6759360" cy="2111400"/>
        </p:xfrm>
        <a:graphic>
          <a:graphicData uri="http://schemas.openxmlformats.org/drawingml/2006/table">
            <a:tbl>
              <a:tblPr/>
              <a:tblGrid>
                <a:gridCol w="1697040"/>
                <a:gridCol w="1695240"/>
                <a:gridCol w="1697040"/>
                <a:gridCol w="1670040"/>
              </a:tblGrid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riación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R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versión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4,447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9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,24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.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gres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2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,55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.6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2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741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.2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841320" y="1967040"/>
            <a:ext cx="7650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 algn="just">
              <a:lnSpc>
                <a:spcPct val="125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Al modelo se le aplicaron variaciones en el monto de la inversión y en el nivel de ingresos de la concesión.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504800" y="609480"/>
            <a:ext cx="62294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 Black"/>
              </a:rPr>
              <a:t>Observaciones (I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44520" y="1284120"/>
            <a:ext cx="8377200" cy="25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266760" algn="just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266760" algn="just">
              <a:lnSpc>
                <a:spcPct val="145000"/>
              </a:lnSpc>
              <a:spcBef>
                <a:spcPts val="425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ffffff"/>
                </a:solidFill>
                <a:latin typeface="Arial"/>
              </a:rPr>
              <a:t>Después de otorgada la concesión a la empresa Cintra, el Aeropuerto Cerro Moreno ha sufrido pérdidas.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266760" algn="just">
              <a:lnSpc>
                <a:spcPct val="145000"/>
              </a:lnSpc>
              <a:spcBef>
                <a:spcPts val="425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ffffff"/>
                </a:solidFill>
                <a:latin typeface="Arial"/>
              </a:rPr>
              <a:t>Explicadas en gran medida por factores que eran difíciles de prever al momento de participar en el concurso: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266760" algn="just">
              <a:lnSpc>
                <a:spcPct val="145000"/>
              </a:lnSpc>
              <a:spcBef>
                <a:spcPts val="425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266760" algn="just">
              <a:lnSpc>
                <a:spcPct val="145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37960" y="3063960"/>
            <a:ext cx="846648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266760" algn="just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266760" algn="just">
              <a:lnSpc>
                <a:spcPct val="145000"/>
              </a:lnSpc>
              <a:spcBef>
                <a:spcPts val="425"/>
              </a:spcBef>
              <a:buClr>
                <a:srgbClr val="33cc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700" spc="-1" strike="noStrike">
                <a:solidFill>
                  <a:srgbClr val="ffffff"/>
                </a:solidFill>
                <a:latin typeface="Arial"/>
              </a:rPr>
              <a:t>En ese momento existía un panorama positivo para un proyecto de este tipo: buen desempeño económico en Chile y en Antofagasta que hacía que la gente viajará con más frecuencia; destinos turísticos importantes lejos de Santiago; líneas aéreas sanas financieramente que bajaban tarifas; gran número de viajeros argentinos;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266760" algn="just">
              <a:lnSpc>
                <a:spcPct val="145000"/>
              </a:lnSpc>
              <a:spcBef>
                <a:spcPts val="425"/>
              </a:spcBef>
              <a:buClr>
                <a:srgbClr val="33cc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700" spc="-1" strike="noStrike">
                <a:solidFill>
                  <a:srgbClr val="ffffff"/>
                </a:solidFill>
                <a:latin typeface="Arial"/>
              </a:rPr>
              <a:t>Acontecimientos difíciles de anticipar: atentado a las Torres Gemelas, Guerra en Irak, incremento en el precio de los combustibles; enfermedades como el SARS.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266760">
              <a:lnSpc>
                <a:spcPct val="145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507960" y="2516040"/>
            <a:ext cx="8291520" cy="35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0" algn="just">
              <a:lnSpc>
                <a:spcPct val="14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55680" indent="-266760" algn="just">
              <a:lnSpc>
                <a:spcPct val="145000"/>
              </a:lnSpc>
              <a:spcBef>
                <a:spcPts val="524"/>
              </a:spcBef>
              <a:buClr>
                <a:srgbClr val="33cc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100" spc="-1" strike="noStrike">
                <a:solidFill>
                  <a:srgbClr val="ffffff"/>
                </a:solidFill>
                <a:latin typeface="Arial"/>
              </a:rPr>
              <a:t>Cuestionable estimación</a:t>
            </a:r>
            <a:r>
              <a:rPr b="0" lang="es-MX" sz="2100" spc="-1" strike="noStrike">
                <a:solidFill>
                  <a:srgbClr val="ffffff"/>
                </a:solidFill>
                <a:latin typeface="Arial"/>
              </a:rPr>
              <a:t> de la demanda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55680" indent="-266760" algn="just">
              <a:lnSpc>
                <a:spcPct val="145000"/>
              </a:lnSpc>
              <a:spcBef>
                <a:spcPts val="524"/>
              </a:spcBef>
              <a:buClr>
                <a:srgbClr val="33cc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2100" spc="-1" strike="noStrike">
                <a:solidFill>
                  <a:srgbClr val="ffffff"/>
                </a:solidFill>
                <a:latin typeface="Arial"/>
              </a:rPr>
              <a:t>Se minimizó la información del análisis de sensibilidad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55680" indent="-266760" algn="just">
              <a:lnSpc>
                <a:spcPct val="145000"/>
              </a:lnSpc>
              <a:spcBef>
                <a:spcPts val="524"/>
              </a:spcBef>
              <a:buClr>
                <a:srgbClr val="33cc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2100" spc="-1" strike="noStrike">
                <a:solidFill>
                  <a:srgbClr val="ffffff"/>
                </a:solidFill>
                <a:latin typeface="Arial"/>
              </a:rPr>
              <a:t>No se asumió plenamente la relación entre el negocio de las aerolíneas y los aeropuertos en la determinación de la tasa de descuento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55680" indent="0" algn="just">
              <a:lnSpc>
                <a:spcPct val="14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436680" y="1238400"/>
            <a:ext cx="8407440" cy="12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266760"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266760" algn="just">
              <a:lnSpc>
                <a:spcPct val="145000"/>
              </a:lnSpc>
              <a:spcBef>
                <a:spcPts val="425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ffffff"/>
                </a:solidFill>
                <a:latin typeface="Arial"/>
              </a:rPr>
              <a:t>Además de estos problemas difíciles de incluir en una evaluación, este trabajo presenta algunas deficiencias que por sí solas comprometían a la inversión.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266760" algn="just">
              <a:lnSpc>
                <a:spcPct val="145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04800" y="609480"/>
            <a:ext cx="62294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c00"/>
                </a:solidFill>
                <a:latin typeface="Arial Black"/>
              </a:rPr>
              <a:t>Observaciones (II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804960" y="1430280"/>
            <a:ext cx="7905600" cy="23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266760" algn="just">
              <a:lnSpc>
                <a:spcPct val="145000"/>
              </a:lnSpc>
              <a:spcBef>
                <a:spcPts val="425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266760" algn="just">
              <a:lnSpc>
                <a:spcPct val="145000"/>
              </a:lnSpc>
              <a:spcBef>
                <a:spcPts val="425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ffffff"/>
                </a:solidFill>
                <a:latin typeface="Arial"/>
              </a:rPr>
              <a:t>Los datos históricos de pasajeros embarcados con los que se estima la regresión corresponden a un período de alto crecimiento en Antofagasta.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266760" algn="just">
              <a:lnSpc>
                <a:spcPct val="145000"/>
              </a:lnSpc>
              <a:spcBef>
                <a:spcPts val="425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44760" y="868320"/>
            <a:ext cx="62290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 Black"/>
              </a:rPr>
              <a:t>Observaciones Demanda (I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114560" y="3678120"/>
          <a:ext cx="7503840" cy="1146240"/>
        </p:xfrm>
        <a:graphic>
          <a:graphicData uri="http://schemas.openxmlformats.org/drawingml/2006/table">
            <a:tbl>
              <a:tblPr/>
              <a:tblGrid>
                <a:gridCol w="885600"/>
                <a:gridCol w="930240"/>
                <a:gridCol w="920880"/>
                <a:gridCol w="979560"/>
                <a:gridCol w="993600"/>
                <a:gridCol w="798480"/>
                <a:gridCol w="955800"/>
                <a:gridCol w="1039680"/>
              </a:tblGrid>
              <a:tr h="52092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asa de crecimiento del PIB-Antofagasta (%)                                                           (antes de la concesión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9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9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9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9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9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9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9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9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.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.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3.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.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.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1817640" y="5229360"/>
          <a:ext cx="6450120" cy="1203120"/>
        </p:xfrm>
        <a:graphic>
          <a:graphicData uri="http://schemas.openxmlformats.org/drawingml/2006/table">
            <a:tbl>
              <a:tblPr/>
              <a:tblGrid>
                <a:gridCol w="1347840"/>
                <a:gridCol w="1322280"/>
                <a:gridCol w="1309680"/>
                <a:gridCol w="1231920"/>
                <a:gridCol w="1238400"/>
              </a:tblGrid>
              <a:tr h="5799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Tasa de crecimiento del PIB-Antofagasta (%)                                (después de la concesión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199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2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200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20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200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-1.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-1.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14.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-3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6.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>
            <a:off x="1003320" y="6507000"/>
            <a:ext cx="743256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000" spc="-1" strike="noStrike">
                <a:solidFill>
                  <a:srgbClr val="ffffff"/>
                </a:solidFill>
                <a:latin typeface="Arial"/>
              </a:rPr>
              <a:t>Fuente: Instituto Nacional de Estadística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143000" y="1779120"/>
            <a:ext cx="7772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920"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8892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Descripción del Proyec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8892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Fuentes de Inform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8892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Antecedentes Gener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8892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Estudio de merc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8892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Estimación de beneficios y cos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8892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Análisis económico financier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8892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Observac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8892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Conclus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88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1504800" y="609480"/>
            <a:ext cx="62294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 Black"/>
              </a:rPr>
              <a:t>Contenido del Proyec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907920" y="1630440"/>
            <a:ext cx="7877160" cy="13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8920"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8920" algn="just">
              <a:lnSpc>
                <a:spcPct val="90000"/>
              </a:lnSpc>
              <a:spcBef>
                <a:spcPts val="499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Las expectativas de crecimiento del PIB utilizadas para estimar el flujo de pasajeros para el período de la concesión fueron excesivamente altas.  Se estimó una demanda muy alta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89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04800" y="609480"/>
            <a:ext cx="62294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 Black"/>
              </a:rPr>
              <a:t>Observaciones Demanda (II)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305000" y="3116160"/>
          <a:ext cx="6337080" cy="1419480"/>
        </p:xfrm>
        <a:graphic>
          <a:graphicData uri="http://schemas.openxmlformats.org/drawingml/2006/table">
            <a:tbl>
              <a:tblPr/>
              <a:tblGrid>
                <a:gridCol w="1857240"/>
                <a:gridCol w="2070000"/>
                <a:gridCol w="2409840"/>
              </a:tblGrid>
              <a:tr h="682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xpectativas de crecimiento del PIB utilizadas en el estudio para estimar la demanda (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9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1-20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209520" y="4989600"/>
          <a:ext cx="8756640" cy="1117440"/>
        </p:xfrm>
        <a:graphic>
          <a:graphicData uri="http://schemas.openxmlformats.org/drawingml/2006/table">
            <a:tbl>
              <a:tblPr/>
              <a:tblGrid>
                <a:gridCol w="841320"/>
                <a:gridCol w="889200"/>
                <a:gridCol w="887400"/>
                <a:gridCol w="888840"/>
                <a:gridCol w="876240"/>
                <a:gridCol w="830520"/>
                <a:gridCol w="885600"/>
                <a:gridCol w="858960"/>
                <a:gridCol w="884160"/>
                <a:gridCol w="914400"/>
              </a:tblGrid>
              <a:tr h="365040"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Tasa de crecimiento observada y expectativas de crecimiento del PI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199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2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200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20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200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200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2005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200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200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200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38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-0.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4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3.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2.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3.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6.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6.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4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5.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5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003320" y="6507000"/>
            <a:ext cx="743256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 Black"/>
              </a:rPr>
              <a:t>Fuente: Banco Central Chile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907920" y="1166760"/>
            <a:ext cx="7877160" cy="17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266760" algn="just">
              <a:lnSpc>
                <a:spcPct val="145000"/>
              </a:lnSpc>
              <a:spcBef>
                <a:spcPts val="425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266760" algn="just">
              <a:lnSpc>
                <a:spcPct val="145000"/>
              </a:lnSpc>
              <a:spcBef>
                <a:spcPts val="425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ffffff"/>
                </a:solidFill>
                <a:latin typeface="Arial"/>
              </a:rPr>
              <a:t>Al obtener el VAN con supuestos de crecimiento del PIB menos optimistas el resultado es negativo o muy cercano a cero.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266760" algn="just">
              <a:lnSpc>
                <a:spcPct val="145000"/>
              </a:lnSpc>
              <a:spcBef>
                <a:spcPts val="425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04800" y="523800"/>
            <a:ext cx="62294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 Black"/>
              </a:rPr>
              <a:t>Observaciones Demanda (III)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860480" y="2884320"/>
          <a:ext cx="5399280" cy="3490920"/>
        </p:xfrm>
        <a:graphic>
          <a:graphicData uri="http://schemas.openxmlformats.org/drawingml/2006/table">
            <a:tbl>
              <a:tblPr/>
              <a:tblGrid>
                <a:gridCol w="2903760"/>
                <a:gridCol w="2495520"/>
              </a:tblGrid>
              <a:tr h="59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puestos crecimiento  PIB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95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1999                2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33cccc"/>
                        </a:buClr>
                        <a:buFont typeface="Tahoma"/>
                        <a:buAutoNum type="arabicPlain" startAt="2000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              </a:t>
                      </a:r>
                      <a:r>
                        <a:rPr b="0" lang="es-MX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6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2000-2012        7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6.9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99                2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0-2010        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-35.4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99                2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0-2010        6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-11.96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99                2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0-2010        6.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3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907920" y="1224000"/>
            <a:ext cx="7877160" cy="19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266760" algn="just">
              <a:lnSpc>
                <a:spcPct val="145000"/>
              </a:lnSpc>
              <a:spcBef>
                <a:spcPts val="425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266760" algn="just">
              <a:lnSpc>
                <a:spcPct val="145000"/>
              </a:lnSpc>
              <a:spcBef>
                <a:spcPts val="425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ffffff"/>
                </a:solidFill>
                <a:latin typeface="Arial"/>
              </a:rPr>
              <a:t>Lo vulnerable del proyecto ante eventualidades durante el desarrollo del mismo, ya se observaba en un análisis de sensibilidad realizado en la evaluación pero no se le presto la atención suficiente.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266760" algn="just">
              <a:lnSpc>
                <a:spcPct val="145000"/>
              </a:lnSpc>
              <a:spcBef>
                <a:spcPts val="425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04800" y="609480"/>
            <a:ext cx="62294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 Black"/>
              </a:rPr>
              <a:t>Análisis de sensibilidad (I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2359080" y="3282840"/>
          <a:ext cx="4489560" cy="1927440"/>
        </p:xfrm>
        <a:graphic>
          <a:graphicData uri="http://schemas.openxmlformats.org/drawingml/2006/table">
            <a:tbl>
              <a:tblPr/>
              <a:tblGrid>
                <a:gridCol w="1299960"/>
                <a:gridCol w="1516320"/>
                <a:gridCol w="1673280"/>
              </a:tblGrid>
              <a:tr h="41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ariación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rsió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-4.44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8.24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reso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2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.55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2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-74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907920" y="1166760"/>
            <a:ext cx="7877160" cy="16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266760" algn="just">
              <a:lnSpc>
                <a:spcPct val="145000"/>
              </a:lnSpc>
              <a:spcBef>
                <a:spcPts val="425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266760" algn="just">
              <a:lnSpc>
                <a:spcPct val="145000"/>
              </a:lnSpc>
              <a:spcBef>
                <a:spcPts val="425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ffffff"/>
                </a:solidFill>
                <a:latin typeface="Arial"/>
              </a:rPr>
              <a:t>Con los datos anteriores se estimó la elasticidad del valor actual neto ante variaciones de la inversión y el ingreso.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504800" y="609480"/>
            <a:ext cx="62294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 Black"/>
              </a:rPr>
              <a:t>Análisis de sensibilidad (II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444680" y="2620800"/>
          <a:ext cx="6081480" cy="1925640"/>
        </p:xfrm>
        <a:graphic>
          <a:graphicData uri="http://schemas.openxmlformats.org/drawingml/2006/table">
            <a:tbl>
              <a:tblPr/>
              <a:tblGrid>
                <a:gridCol w="1200240"/>
                <a:gridCol w="1409400"/>
                <a:gridCol w="1524240"/>
                <a:gridCol w="194760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ariación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lasticidad   (valor absoluto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rsió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-4.44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2.7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8.24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2.4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reso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2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.55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4.6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2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-74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5.3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907920" y="4965840"/>
            <a:ext cx="7877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266760" algn="just">
              <a:lnSpc>
                <a:spcPct val="145000"/>
              </a:lnSpc>
              <a:spcBef>
                <a:spcPts val="425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266760" algn="just">
              <a:lnSpc>
                <a:spcPct val="145000"/>
              </a:lnSpc>
              <a:spcBef>
                <a:spcPts val="425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ffffff"/>
                </a:solidFill>
                <a:latin typeface="Arial"/>
              </a:rPr>
              <a:t>Al tener una sensibilidad tan grande a pequeñas variaciones del ingreso se debió utilizar un pronóstico más conservador de la demanda.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776160" y="1238400"/>
            <a:ext cx="7664400" cy="46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266760" algn="just">
              <a:lnSpc>
                <a:spcPct val="145000"/>
              </a:lnSpc>
              <a:spcBef>
                <a:spcPts val="400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266760" algn="just">
              <a:lnSpc>
                <a:spcPct val="145000"/>
              </a:lnSpc>
              <a:spcBef>
                <a:spcPts val="400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La evaluación se realizó sobre perspectivas muy favorables de demanda e ingreso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266760" algn="just">
              <a:lnSpc>
                <a:spcPct val="145000"/>
              </a:lnSpc>
              <a:spcBef>
                <a:spcPts val="400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No se midió adecuadamente el riesgo del negocio asociado con la operación de líneas aéreas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266760" algn="just">
              <a:lnSpc>
                <a:spcPct val="145000"/>
              </a:lnSpc>
              <a:spcBef>
                <a:spcPts val="400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A pesar de esto, el estudio ya mostraba una gran sensibilidad a pequeñas variaciones en el ingreso, esto no se reflejó en alguna advertencia o consideración sobre lo riesgoso del proyecto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266760" algn="just">
              <a:lnSpc>
                <a:spcPct val="145000"/>
              </a:lnSpc>
              <a:spcBef>
                <a:spcPts val="400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Una buena evaluación del proyecto debió basarse en expectativas menos favorables de demanda y muy probablemente recomendar no participar en la licitación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68600" y="728640"/>
            <a:ext cx="62290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 Black"/>
              </a:rPr>
              <a:t>Conclusion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504800" y="609480"/>
            <a:ext cx="62294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 Black"/>
              </a:rPr>
              <a:t>Descripción del Proyec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60520" y="2533680"/>
            <a:ext cx="6665760" cy="29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El proyecto consiste en valorizar la concesión de la </a:t>
            </a:r>
            <a:r>
              <a:rPr b="1" lang="es-ES_tradnl" sz="2400" spc="-1" strike="noStrike">
                <a:solidFill>
                  <a:srgbClr val="ffff00"/>
                </a:solidFill>
                <a:latin typeface="Arial Narrow"/>
              </a:rPr>
              <a:t>Terminal de Pasajeros del Aeropuerto Cerro Moreno</a:t>
            </a: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 de la ciudad de </a:t>
            </a:r>
            <a:r>
              <a:rPr b="0" lang="es-ES_tradnl" sz="2400" spc="-1" strike="noStrike">
                <a:solidFill>
                  <a:srgbClr val="ffff00"/>
                </a:solidFill>
                <a:latin typeface="Arial Narrow"/>
              </a:rPr>
              <a:t>Antofagasta</a:t>
            </a: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 para determinar el precio a ofertar en la licitación de dicha concesión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 Black"/>
              </a:rPr>
              <a:t>Fuentes de Información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1820880" y="336600"/>
            <a:ext cx="65800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55560" y="1795320"/>
            <a:ext cx="802188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-450720" algn="just">
              <a:lnSpc>
                <a:spcPct val="125000"/>
              </a:lnSpc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Información histórica de flujos de pasajeros embarcados y llegados al aeropuerto Cerro Moreno de Antofagasta, suministrados por la Dirección General de Aeronáutica Civil y del tráfico mensu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-450720" algn="just">
              <a:lnSpc>
                <a:spcPct val="125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-450720" algn="just">
              <a:lnSpc>
                <a:spcPct val="125000"/>
              </a:lnSpc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Información relativa al proceso de licitación y adjudicación.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230960" y="5268960"/>
            <a:ext cx="1495440" cy="126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 Black"/>
              </a:rPr>
              <a:t>Antecedentes Generale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 algn="just">
              <a:lnSpc>
                <a:spcPct val="110000"/>
              </a:lnSpc>
              <a:spcBef>
                <a:spcPts val="499"/>
              </a:spcBef>
              <a:buClr>
                <a:srgbClr val="33cc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 Narrow"/>
              </a:rPr>
              <a:t>Antofagasta comuna y ciudad del norte de Chil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lnSpc>
                <a:spcPct val="110000"/>
              </a:lnSpc>
              <a:spcBef>
                <a:spcPts val="499"/>
              </a:spcBef>
              <a:buClr>
                <a:srgbClr val="33cc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 Narrow"/>
              </a:rPr>
              <a:t>Capital financiero de la Provincia de Antofagast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lnSpc>
                <a:spcPct val="110000"/>
              </a:lnSpc>
              <a:spcBef>
                <a:spcPts val="499"/>
              </a:spcBef>
              <a:buClr>
                <a:srgbClr val="33cc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 Narrow"/>
              </a:rPr>
              <a:t>Ubicación del Aeropuerto Internacional Cerro Moreno Antofagasta:  Norte de Antofagasta, Chil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lnSpc>
                <a:spcPct val="110000"/>
              </a:lnSpc>
              <a:spcBef>
                <a:spcPts val="499"/>
              </a:spcBef>
              <a:buClr>
                <a:srgbClr val="33cc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 Narrow"/>
              </a:rPr>
              <a:t>Opera como terminal de pasajeros y terminal de carga para vuelos nacionale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lnSpc>
                <a:spcPct val="110000"/>
              </a:lnSpc>
              <a:spcBef>
                <a:spcPts val="499"/>
              </a:spcBef>
              <a:buClr>
                <a:srgbClr val="33cc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 Narrow"/>
              </a:rPr>
              <a:t>Centro de operaciones de la Vª Brigada Aérea de la </a:t>
            </a:r>
            <a:r>
              <a:rPr b="0" lang="es-ES" sz="2000" spc="-1" strike="noStrike" u="sng">
                <a:solidFill>
                  <a:srgbClr val="ff00ff"/>
                </a:solidFill>
                <a:uFillTx/>
                <a:latin typeface="Arial Narrow"/>
                <a:hlinkClick r:id="rId1"/>
              </a:rPr>
              <a:t>Fuerza Aérea de Chile</a:t>
            </a:r>
            <a:r>
              <a:rPr b="0" lang="es-ES" sz="2000" spc="-1" strike="noStrike">
                <a:solidFill>
                  <a:srgbClr val="ffffff"/>
                </a:solidFill>
                <a:latin typeface="Arial Narrow"/>
              </a:rPr>
              <a:t> (FACH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lnSpc>
                <a:spcPct val="110000"/>
              </a:lnSpc>
              <a:spcBef>
                <a:spcPts val="499"/>
              </a:spcBef>
              <a:buClr>
                <a:srgbClr val="33cc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 Narrow"/>
              </a:rPr>
              <a:t>Calificado como Aeropuerto Internacional Regul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lnSpc>
                <a:spcPct val="110000"/>
              </a:lnSpc>
              <a:spcBef>
                <a:spcPts val="499"/>
              </a:spcBef>
              <a:buClr>
                <a:srgbClr val="33cc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 Narrow"/>
              </a:rPr>
              <a:t>Servicios de policía internacional, migración y aduan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56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 Black"/>
              </a:rPr>
              <a:t>Concesión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2360" y="1598760"/>
            <a:ext cx="872496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cc00"/>
                </a:solidFill>
                <a:latin typeface="Arial"/>
              </a:rPr>
              <a:t>Definición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Contrato entre Estado y un concesionario mediante el cual este último se obliga a efectuar inversiones en la construcción de una obra pública, a mantener y explotar dicha obra de acuerdo con estándares  predefinidos y durante un plazo prefijado, otorgándole a cambio el Estado el derecho de cobrar por el uso de la obra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cc00"/>
                </a:solidFill>
                <a:latin typeface="Arial"/>
              </a:rPr>
              <a:t>Objetivo y fases de la Concesión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Ampliación y Remodelación del Aeropuerto de Antofagast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cc00"/>
                </a:solidFill>
                <a:latin typeface="Arial"/>
              </a:rPr>
              <a:t>Participantes en el proceso de concesión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Organismos gubernamentales relacionados con el proceso de concesión y adjudicaci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En forma anónima participan empresas privadas que envían su propuesta.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260280" y="4462560"/>
            <a:ext cx="8724960" cy="22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cc00"/>
                </a:solidFill>
                <a:latin typeface="Arial"/>
              </a:rPr>
              <a:t>Plazos de la concesión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 algn="just">
              <a:lnSpc>
                <a:spcPct val="90000"/>
              </a:lnSpc>
              <a:spcBef>
                <a:spcPts val="400"/>
              </a:spcBef>
              <a:buClr>
                <a:srgbClr val="33cc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l 14 de septiembre de 2000 se entregó la concesión del aeropuerto por 10 años, a la filial de CINTRA, Aeropuerto Cerro Moreno Sociedad Concesionaria S.A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 algn="just">
              <a:lnSpc>
                <a:spcPct val="90000"/>
              </a:lnSpc>
              <a:spcBef>
                <a:spcPts val="201"/>
              </a:spcBef>
              <a:buClr>
                <a:srgbClr val="33cc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 algn="just">
              <a:lnSpc>
                <a:spcPct val="90000"/>
              </a:lnSpc>
              <a:spcBef>
                <a:spcPts val="400"/>
              </a:spcBef>
              <a:buClr>
                <a:srgbClr val="33cc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l 14 de septiembre de 2001: Inauguró la primera parte de la remodelación. La inauguración definitiva ocurrió el 1 de mayo de 2002, siendo ampliadas las instalaciones a 7000 mts²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 algn="just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 algn="just">
              <a:lnSpc>
                <a:spcPct val="90000"/>
              </a:lnSpc>
              <a:spcBef>
                <a:spcPts val="400"/>
              </a:spcBef>
              <a:buClr>
                <a:srgbClr val="33cc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La concesión del aeropuerto está fijada hasta el 13 de septiembre de 201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506520"/>
            <a:ext cx="8280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 Black"/>
              </a:rPr>
              <a:t>Condiciones de Licitación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72600" y="1248840"/>
            <a:ext cx="8410680" cy="25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00"/>
                </a:solidFill>
                <a:latin typeface="Arial"/>
              </a:rPr>
              <a:t>Procedimiento de la Licitación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Presentación de Oferta Técnica y Económic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00"/>
                </a:solidFill>
                <a:latin typeface="Arial"/>
              </a:rPr>
              <a:t>Propuestas evaluadas y selección de ganadora por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Ministerio de Obras Públicas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263520" y="2859120"/>
            <a:ext cx="8518680" cy="34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00"/>
                </a:solidFill>
                <a:latin typeface="Arial"/>
              </a:rPr>
              <a:t>Para efectos de adjudicación de la licitación se considera tres tramos de competencia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576"/>
              </a:spcBef>
              <a:buClr>
                <a:srgbClr val="33cc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Tarifa se fija en $3.000 y adjudica a quien oferte el menor plazo de concesión, con mínimo 10 años y máximo de 12 año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576"/>
              </a:spcBef>
              <a:buClr>
                <a:srgbClr val="33cc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Tarifa mínimo $2.500 y máximo $3.000, se adjudica la concesión a quien oferte la menor tarifa, plazo se fija en 10 año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576"/>
              </a:spcBef>
              <a:buClr>
                <a:srgbClr val="33cc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Tarifa y el plazo están fijos en 10 años y $2.500 respectivamente, la concesión se adjudica a quien oferte el mayor pago  al Estado por los bienes y derechos se transfieren al otorgar la concesión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00"/>
                </a:solidFill>
                <a:latin typeface="Arial"/>
              </a:rPr>
              <a:t>Finaliza el proceso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Con la notificación de la decisión a la Contraloría General de la República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buClr>
                <a:srgbClr val="33cc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00"/>
                </a:solidFill>
                <a:latin typeface="Arial Black"/>
              </a:rPr>
              <a:t>Proyecto Evaluado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ff"/>
                </a:solidFill>
                <a:latin typeface="Tahoma"/>
              </a:rPr>
              <a:t>Oferta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fue presentada por un consorcio integrado por una empresa constructora, una línea aérea y dos fondos de inversión de desarrollo de empres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Se consideró que esta estructura permitiría integrar la capacidad del constructor para revisar,  valorizar y entregar un precio de construcción, a suma alzada, con la experiencia en la estimación de tráfico que posee una línea aérea y con la capacidad que poseen los fondos de inversión para estructurar, evaluar y definir las condiciones de financiamiento de un negoci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 Black"/>
              </a:rPr>
              <a:t>Estudio de Mercado</a:t>
            </a:r>
            <a:br>
              <a:rPr sz="2400"/>
            </a:br>
            <a:r>
              <a:rPr b="0" lang="es-MX" sz="2400" spc="-1" strike="noStrike">
                <a:solidFill>
                  <a:srgbClr val="ffff00"/>
                </a:solidFill>
                <a:latin typeface="Arial Black"/>
              </a:rPr>
              <a:t>Estimación de la Demanda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7112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2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52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1. Determinación del flujo de pasajeros embarcados durante el plazo máximo de la concesión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52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lnSpc>
                <a:spcPct val="80000"/>
              </a:lnSpc>
              <a:spcBef>
                <a:spcPts val="4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Se utilizo una serie histórica de pasajeros en los últimos 25 años  reflejando un crecimiento anual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del 9.9%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52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lnSpc>
                <a:spcPct val="80000"/>
              </a:lnSpc>
              <a:spcBef>
                <a:spcPts val="4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Cambio de tendencia en serie histórica en 1985 . Se produce en este período una transición desde una etapa de baja tasa  de crecimiento a una de tasas significativamente mayor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52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lnSpc>
                <a:spcPct val="80000"/>
              </a:lnSpc>
              <a:spcBef>
                <a:spcPts val="4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Últimos 15 años crecimiento  anual del 14.2%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38600" y="1898280"/>
            <a:ext cx="401328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2)</a:t>
            </a: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Para estimar ingresos proveniente del embarque de pasajeros en el terminal, se correlacionaron los flujos de pasajeros embarcados del periodo 1985-1998 con el PIB Nacional mediante regresión lineal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556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lnSpc>
                <a:spcPct val="80000"/>
              </a:lnSpc>
              <a:spcBef>
                <a:spcPts val="4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PAX= 0.042128718*PIB-119.587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lnSpc>
                <a:spcPct val="80000"/>
              </a:lnSpc>
              <a:spcBef>
                <a:spcPts val="4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Coeficiente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r² = 0.92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556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556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00"/>
                </a:solidFill>
                <a:latin typeface="Arial"/>
              </a:rPr>
              <a:t>3)</a:t>
            </a:r>
            <a:r>
              <a:rPr b="0" lang="es-MX" sz="16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s-MX" sz="1600" spc="-1" strike="noStrike">
                <a:solidFill>
                  <a:srgbClr val="ffff00"/>
                </a:solidFill>
                <a:latin typeface="Arial"/>
              </a:rPr>
              <a:t>Proyección de pasajeros suponiendo las siguientes tasas de crecimiento del PIB en el plazo de la concesión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lnSpc>
                <a:spcPct val="80000"/>
              </a:lnSpc>
              <a:spcBef>
                <a:spcPts val="400"/>
              </a:spcBef>
              <a:buClr>
                <a:srgbClr val="33cccc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Año 1999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2%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lnSpc>
                <a:spcPct val="80000"/>
              </a:lnSpc>
              <a:spcBef>
                <a:spcPts val="400"/>
              </a:spcBef>
              <a:buClr>
                <a:srgbClr val="33cccc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Año 2000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6%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lnSpc>
                <a:spcPct val="80000"/>
              </a:lnSpc>
              <a:spcBef>
                <a:spcPts val="400"/>
              </a:spcBef>
              <a:buClr>
                <a:srgbClr val="33cccc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Año 2001 al 2012: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7%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2T06:30:40Z</dcterms:created>
  <dc:creator>Eduardo Contreras</dc:creator>
  <dc:description/>
  <dc:language>en-US</dc:language>
  <cp:lastModifiedBy>Eduardo Contreras Villablanca</cp:lastModifiedBy>
  <cp:lastPrinted>1998-09-30T04:31:26Z</cp:lastPrinted>
  <dcterms:modified xsi:type="dcterms:W3CDTF">2007-07-18T20:40:25Z</dcterms:modified>
  <cp:revision>227</cp:revision>
  <dc:subject/>
  <dc:title>Evaluación de Proyectos</dc:title>
</cp:coreProperties>
</file>