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wmf" ContentType="image/x-wmf"/>
  <Override PartName="/ppt/media/LATIGO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9CB525B-0330-4501-A351-A23334CC93D0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9E0-8C17-4732-9651-09DA27FA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3A5-F03C-4DF8-92CE-C6F2732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E0C-B32F-4AC8-B880-34C3D2CA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D54-B82D-4BCF-AED9-33B5195D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EA8A-FB2C-4A90-9E61-44EF1213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1CB4-4325-478A-8CBD-00C0F6B6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16B4-6484-4EF5-AC03-15A38CE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9A90-E349-40B9-98A2-EA756785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2EEF-7654-41F7-BDC9-C7C4D413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A941-DCBD-40EB-8ED1-2078E1AE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313B-5FC5-4551-B345-CD8BD74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97F-8DCF-460A-867A-9D73277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93B7-94BA-4EF1-B352-592162C3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1189-99CD-4771-B660-DCD7E99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8A90-7335-4292-B045-7134E8D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FEFE-ECC5-4FF0-B5FF-6DF6E1AE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0806-3F3A-447B-9212-FE04C69D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E2F-4DDD-47E1-BD2D-618D8DFA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B75-1FF0-4472-81C0-A7AC99CF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E95-258C-4D30-8899-C9E05F52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1ED-17A3-4B9B-A5F3-88529B82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76C-DA6F-4FF5-8E61-B73B660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ADF-0F7D-4CEE-847B-AB021CF9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209-D311-4EDE-AB6B-1BB867DB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84C3-FD90-4B3D-B5FC-E7CB0C19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6075-EE9D-4CA2-B892-22ADE53B6C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Cerro_moreno_airport_scfa_1280_lo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Fuerza_A&#233;rea_de_Chil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485720"/>
            <a:ext cx="82803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EVALUACION DE LA CONCESION DEL TERMINAL DE PASAJEROS DEL AEROPUERTO CERRO MORENO DE LA CIUDAD DE ANTOFAGASTA</a:t>
            </a: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7200"/>
            </a:br>
            <a:br>
              <a:rPr sz="20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5080" y="4367160"/>
            <a:ext cx="52610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800" y="1701360"/>
            <a:ext cx="8118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00"/>
                </a:solidFill>
                <a:latin typeface="Arial"/>
              </a:rPr>
              <a:t>1 Ingreso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vienen de los pagos de la tarifa por pasajero embarcado y aquellos que se derivan de las actividades comerciales desarrolladas en el área de la concesió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por Embarque de Pasajer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Comerciales: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No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La determinación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el perfil de ingresos comerciales para el horizonte de la concesión se establecieron </a:t>
            </a:r>
            <a:r>
              <a:rPr b="0" lang="es-MX" sz="1400" spc="-1" strike="noStrike">
                <a:solidFill>
                  <a:srgbClr val="ff00ff"/>
                </a:solidFill>
                <a:latin typeface="Arial"/>
              </a:rPr>
              <a:t>diferentes tasas de crecimiento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en algunos casos se mantuvo constante el ingreso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gobierno garantiza un ingreso mínimo cuando los pasajeros embarcados son inferiores al mínimo establecido para cada añ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concesionario traspasa el 50% de los ingresos por embarque,  una vez que el valor presente de las ventas efectivas por este concepto, supere los 530.000 UF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2520" y="1376280"/>
            <a:ext cx="817884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cc00"/>
                </a:solidFill>
                <a:latin typeface="Arial"/>
              </a:rPr>
              <a:t>2 Cos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valorización de la concesión requiere considerar diferentes conceptos de costo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inversión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de Proyec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Equipa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opera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 de  operación y administración etapa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Otros gastos previo a la explo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de Person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Gener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s de Operación y Manten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500720"/>
            <a:ext cx="890748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19044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ampliación del aeropuerto en el año 6 represent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uperficie de 2,500 m</a:t>
            </a:r>
            <a:r>
              <a:rPr b="0" lang="es-MX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sto (proyectos, supervisión y administración) 40% de la inversión en proyectos, equipamiento y construc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desembolsa un </a:t>
            </a:r>
            <a:r>
              <a:rPr b="0" lang="es-MX" sz="1600" spc="-1" strike="noStrike">
                <a:solidFill>
                  <a:srgbClr val="ff00ff"/>
                </a:solidFill>
                <a:latin typeface="Arial"/>
              </a:rPr>
              <a:t>34% en el 2006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y el resto en 2007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instalaciones entran en operación en el 2007 y la tarifa por pasajero embarcado sube en 1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Evaluación: Calculo de indicadore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ahoma"/>
              </a:rPr>
              <a:t>Construcción un modelo de flujo de caja del negoc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Los ingresos y los costos de operación se ajustaron a la fecha estimada de inicio de la explotació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todos los años los pasajeros embarcados superan el mínimo garantizad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ontrato de concesión se amortizó linealmente para el flujo financiero y aceleradamente para efectos del cálculo de impuesto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apital de trabajo requerido se estimó en el costo de operación para 45 días del primer año de explotación.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14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 Black"/>
              </a:rPr>
              <a:t>Flujo de Caja del Proyecto  (Valores en UF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4616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Evaluación: Calculo de indicadores (Valoración de la concesión)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Tasa de descuento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12440"/>
            <a:ext cx="81788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calcula con el modelo CAPM (Capital Asset Pricing Model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ff"/>
                </a:solidFill>
                <a:latin typeface="Arial Narrow"/>
              </a:rPr>
              <a:t>E (ri) = rf + Bi (E(rm) – rf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f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libre de ries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PRC  12 añ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alculo promedio indicado 6.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Bi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eficiente de riesgo sistemático del activo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0040" y="4057560"/>
            <a:ext cx="8676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No existía en Chile datos sobre rentabilidades de empresas administradoras de aeropuer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asumió una correlación alta con la actividad del negocio de transporte aéreo (aerolíne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Datos de Estados Unidos porque en Chile sólo Lan cotiza en la bol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nsideración diferencias de estructuras de financiamiento =&gt;  coeficiente mas riesgoso 1,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m: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etorno esperado del rendimiento de mercado 10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de Descuento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11,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20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resultados</a:t>
            </a: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59120" y="2363760"/>
          <a:ext cx="5519520" cy="3967200"/>
        </p:xfrm>
        <a:graphic>
          <a:graphicData uri="http://schemas.openxmlformats.org/drawingml/2006/table">
            <a:tbl>
              <a:tblPr/>
              <a:tblGrid>
                <a:gridCol w="2570040"/>
                <a:gridCol w="294948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d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de descu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libre de ries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o de licit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oferta se sitúa en el tercer tramo, plazo y tarifa fijos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zo: 120 me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ifa: $2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: 6.954 U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954 [UF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41320" y="1627200"/>
            <a:ext cx="765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Los resultados de la valoración de la concesión so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 </a:t>
            </a:r>
            <a:br>
              <a:rPr sz="2400"/>
            </a:b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Sensibilida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98720" y="3443400"/>
          <a:ext cx="6759360" cy="21114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  <a:gridCol w="1697040"/>
                <a:gridCol w="16700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rs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,44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4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841320" y="1967040"/>
            <a:ext cx="7650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 modelo se le aplicaron variaciones en el monto de la inversión y en el nivel de ingresos de la concesión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4520" y="1284120"/>
            <a:ext cx="8377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Después de otorgada la concesión a la empresa Cintra, el Aeropuerto Cerro Moreno ha sufrido pérdida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Explicadas en gran medida por factores que eran difíciles de prever al momento de participar en el concurso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7960" y="3063960"/>
            <a:ext cx="84664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En ese momento existía un panorama positivo para un proyecto de este tipo: buen desempeño económico en Chile y en Antofagasta que hacía que la gente viajará con más frecuencia; destinos turísticos importantes lejos de Santiago; líneas aéreas sanas financieramente que bajaban tarifas; gran número de viajeros argentinos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Acontecimientos difíciles de anticipar: atentado a las Torres Gemelas, Guerra en Irak, incremento en el precio de los combustibles; enfermedades como el SAR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07960" y="2516040"/>
            <a:ext cx="8291520" cy="35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Cuestionable estimación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de la demand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Se minimizó la información del análisis de sensibil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No se asumió plenamente la relación entre el negocio de las aerolíneas y los aeropuertos en la determinación de la tasa de descuento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36680" y="1238400"/>
            <a:ext cx="84074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demás de estos problemas difíciles de incluir en una evaluación, este trabajo presenta algunas deficiencias que por sí solas comprometían a la inversión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4800" y="609480"/>
            <a:ext cx="622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 Black"/>
              </a:rPr>
              <a:t>Observaciones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4960" y="1430280"/>
            <a:ext cx="79056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s datos históricos de pasajeros embarcados con los que se estima la regresión corresponden a un período de alto crecimiento en Antofagast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4760" y="86832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14560" y="3678120"/>
          <a:ext cx="7503840" cy="1146240"/>
        </p:xfrm>
        <a:graphic>
          <a:graphicData uri="http://schemas.openxmlformats.org/drawingml/2006/table">
            <a:tbl>
              <a:tblPr/>
              <a:tblGrid>
                <a:gridCol w="885600"/>
                <a:gridCol w="930240"/>
                <a:gridCol w="920880"/>
                <a:gridCol w="979560"/>
                <a:gridCol w="993600"/>
                <a:gridCol w="798480"/>
                <a:gridCol w="955800"/>
                <a:gridCol w="1039680"/>
              </a:tblGrid>
              <a:tr h="52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sa de crecimiento del PIB-Antofagasta (%)                                                           (ante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817640" y="5229360"/>
          <a:ext cx="6450120" cy="1203120"/>
        </p:xfrm>
        <a:graphic>
          <a:graphicData uri="http://schemas.openxmlformats.org/drawingml/2006/table">
            <a:tbl>
              <a:tblPr/>
              <a:tblGrid>
                <a:gridCol w="1347840"/>
                <a:gridCol w="1322280"/>
                <a:gridCol w="1309680"/>
                <a:gridCol w="1231920"/>
                <a:gridCol w="1238400"/>
              </a:tblGrid>
              <a:tr h="579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del PIB-Antofagasta (%)                                (despué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03320" y="6507000"/>
            <a:ext cx="743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ffffff"/>
                </a:solidFill>
                <a:latin typeface="Arial"/>
              </a:rPr>
              <a:t>Fuente: Instituto Nacional de Estadístic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Descripción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uentes de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tecedentes Gene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udio de mer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imación de beneficios y co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álisis económico financ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Observ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tenido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7920" y="1630440"/>
            <a:ext cx="787716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as expectativas de crecimiento del PIB utilizadas para estimar el flujo de pasajeros para el período de la concesión fueron excesivamente altas.  Se estimó una demanda muy alt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05000" y="3116160"/>
          <a:ext cx="6337080" cy="1419480"/>
        </p:xfrm>
        <a:graphic>
          <a:graphicData uri="http://schemas.openxmlformats.org/drawingml/2006/table">
            <a:tbl>
              <a:tblPr/>
              <a:tblGrid>
                <a:gridCol w="1857240"/>
                <a:gridCol w="2070000"/>
                <a:gridCol w="2409840"/>
              </a:tblGrid>
              <a:tr h="68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ectativas de crecimiento del PIB utilizadas en el estudio para estimar la demanda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1-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09520" y="4989600"/>
          <a:ext cx="8756640" cy="1117440"/>
        </p:xfrm>
        <a:graphic>
          <a:graphicData uri="http://schemas.openxmlformats.org/drawingml/2006/table">
            <a:tbl>
              <a:tblPr/>
              <a:tblGrid>
                <a:gridCol w="841320"/>
                <a:gridCol w="889200"/>
                <a:gridCol w="887400"/>
                <a:gridCol w="888840"/>
                <a:gridCol w="876240"/>
                <a:gridCol w="830520"/>
                <a:gridCol w="885600"/>
                <a:gridCol w="858960"/>
                <a:gridCol w="884160"/>
                <a:gridCol w="914400"/>
              </a:tblGrid>
              <a:tr h="3650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observada y expectativas de crecimiento del PI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5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003320" y="6507000"/>
            <a:ext cx="7432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 Black"/>
              </a:rPr>
              <a:t>Fuente: Banco Central Chi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07920" y="1166760"/>
            <a:ext cx="78771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obtener el VAN con supuestos de crecimiento del PIB menos optimistas el resultado es negativo o muy cercano a cer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4800" y="52380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60480" y="2884320"/>
          <a:ext cx="5399280" cy="3490920"/>
        </p:xfrm>
        <a:graphic>
          <a:graphicData uri="http://schemas.openxmlformats.org/drawingml/2006/table">
            <a:tbl>
              <a:tblPr/>
              <a:tblGrid>
                <a:gridCol w="2903760"/>
                <a:gridCol w="24955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uestos crecimiento  PI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cccc"/>
                        </a:buClr>
                        <a:buFont typeface="Tahoma"/>
                        <a:buAutoNum type="arabicPlain" startAt="200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0-2012        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.9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35.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1.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7920" y="1224000"/>
            <a:ext cx="78771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 vulnerable del proyecto ante eventualidades durante el desarrollo del mismo, ya se observaba en un análisis de sensibilidad realizado en la evaluación pero no se le presto la atención suficiente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59080" y="3282840"/>
          <a:ext cx="4489560" cy="1927440"/>
        </p:xfrm>
        <a:graphic>
          <a:graphicData uri="http://schemas.openxmlformats.org/drawingml/2006/table">
            <a:tbl>
              <a:tblPr/>
              <a:tblGrid>
                <a:gridCol w="1299960"/>
                <a:gridCol w="1516320"/>
                <a:gridCol w="167328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07920" y="1166760"/>
            <a:ext cx="7877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Con los datos anteriores se estimó la elasticidad del valor actual neto ante variaciones de la inversión y el ingres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4680" y="2620800"/>
          <a:ext cx="6081480" cy="1925640"/>
        </p:xfrm>
        <a:graphic>
          <a:graphicData uri="http://schemas.openxmlformats.org/drawingml/2006/table">
            <a:tbl>
              <a:tblPr/>
              <a:tblGrid>
                <a:gridCol w="1200240"/>
                <a:gridCol w="1409400"/>
                <a:gridCol w="1524240"/>
                <a:gridCol w="1947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asticidad   (valor absolu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.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.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907920" y="4965840"/>
            <a:ext cx="7877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tener una sensibilidad tan grande a pequeñas variaciones del ingreso se debió utilizar un pronóstico más conservador de la demand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6160" y="1238400"/>
            <a:ext cx="766440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evaluación se realizó sobre perspectivas muy favorables de demanda e ingre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o se midió adecuadamente el riesgo del negocio asociado con la operación de líneas aére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 pesar de esto, el estudio ya mostraba una gran sensibilidad a pequeñas variaciones en el ingreso, esto no se reflejó en alguna advertencia o consideración sobre lo riesgoso del proyect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Una buena evaluación del proyecto debió basarse en expectativas menos favorables de demanda y muy probablemente recomendar no participar en la licit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68600" y="72864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clus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Descripción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2533680"/>
            <a:ext cx="66657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El proyecto consiste en valorizar la concesión de la </a:t>
            </a: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Terminal de Pasajeros del Aeropuerto Cerro Moreno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de la ciudad de </a:t>
            </a:r>
            <a:r>
              <a:rPr b="0" lang="es-ES_tradnl" sz="2400" spc="-1" strike="noStrike">
                <a:solidFill>
                  <a:srgbClr val="ffff00"/>
                </a:solidFill>
                <a:latin typeface="Arial Narrow"/>
              </a:rPr>
              <a:t>Antofagasta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para determinar el precio a ofertar en la licitación de dicha conces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Fuentes de Inform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820880" y="336600"/>
            <a:ext cx="658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560" y="1795320"/>
            <a:ext cx="80218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histórica de flujos de pasajeros embarcados y llegados al aeropuerto Cerro Moreno de Antofagasta, suministrados por la Dirección General de Aeronáutica Civil y del tráfico mens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relativa al proceso de licitación y adjudicación.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0960" y="5268960"/>
            <a:ext cx="14954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Antecedentes Genera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Antofagasta comuna y ciudad del norte de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pital financiero de la Provincia de Antofaga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Ubicación del Aeropuerto Internacional Cerro Moreno Antofagasta:  Norte de Antofagasta,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Opera como terminal de pasajeros y terminal de carga para vuelos nacio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entro de operaciones de la Vª Brigada Aérea de la </a:t>
            </a:r>
            <a:r>
              <a:rPr b="0" lang="es-ES" sz="2000" spc="-1" strike="noStrike" u="sng">
                <a:solidFill>
                  <a:srgbClr val="ff00ff"/>
                </a:solidFill>
                <a:uFillTx/>
                <a:latin typeface="Arial Narrow"/>
                <a:hlinkClick r:id="rId1"/>
              </a:rPr>
              <a:t>Fuerza Aérea de Chile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(FACH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lificado como Aeropuerto Internacional Regu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Servicios de policía internacional, migración y aduan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ces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2360" y="1598760"/>
            <a:ext cx="87249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 entre Estado y un concesionario mediante el cual este último se obliga a efectuar inversiones en la construcción de una obra pública, a mantener y explotar dicha obra de acuerdo con estándares  predefinidos y durante un plazo prefijado, otorgándole a cambio el Estado el derecho de cobrar por el uso de la obr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Objetivo y fases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mpliación y Remodelación del Aeropuerto de Antofagas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Participantes en el proceso de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Organismos gubernamentales relacionados con el proceso de concesión y adjud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n forma anónima participan empresas privadas que envían su propuesta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60280" y="4462560"/>
            <a:ext cx="872496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</a:rPr>
              <a:t>Plazos de la concesió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0 se entregó la concesión del aeropuerto por 10 años, a la filial de CINTRA, Aeropuerto Cerro Moreno Sociedad Concesionaria S.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1: Inauguró la primera parte de la remodelación. La inauguración definitiva ocurrió el 1 de mayo de 2002, siendo ampliadas las instalaciones a 7000 mts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concesión del aeropuerto está fijada hasta el 13 de septiembre de 2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506520"/>
            <a:ext cx="8280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diciones de Licit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2600" y="1248840"/>
            <a:ext cx="84106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cedimiento de la Licita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resentación de Oferta Técnica y Económ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puestas evaluadas y selección de ganadora por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inisterio de Obras Públic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63520" y="2859120"/>
            <a:ext cx="851868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ara efectos de adjudicación de la licitación se considera tres tramos de competenci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se fija en $3.000 y adjudica a quien oferte el menor plazo de concesión, con mínimo 10 años y máximo de 12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mínimo $2.500 y máximo $3.000, se adjudica la concesión a quien oferte la menor tarifa, plazo se fija en 10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y el plazo están fijos en 10 años y $2.500 respectivamente, la concesión se adjudica a quien oferte el mayor pago  al Estado por los bienes y derechos se transfieren al otorgar la conces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Finaliza el proces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 la notificación de la decisión a la Contraloría General de la Repúblic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Arial Black"/>
              </a:rPr>
              <a:t>Proyecto Evaluad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ff"/>
                </a:solidFill>
                <a:latin typeface="Tahoma"/>
              </a:rPr>
              <a:t>Ofert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fue presentada por un consorcio integrado por una empresa constructora, una línea aérea y dos fondos de inversión de desarrollo de empre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ó que esta estructura permitiría integrar la capacidad del constructor para revisar,  valorizar y entregar un precio de construcción, a suma alzada, con la experiencia en la estimación de tráfico que posee una línea aérea y con la capacidad que poseen los fondos de inversión para estructurar, evaluar y definir las condiciones de financiamiento de un nego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udio de Mercado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la Demand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1. Determinación del flujo de pasajeros embarcados durante el plazo máximo de la concesió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e utilizo una serie histórica de pasajeros en los últimos 25 años  reflejando un crecimiento anual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l 9.9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ambio de tendencia en serie histórica en 1985 . Se produce en este período una transición desde una etapa de baja tasa  de crecimiento a una de tasas significativamente mayo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Últimos 15 años crecimiento  anual del 14.2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8600" y="1898280"/>
            <a:ext cx="401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2)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ara estimar ingresos proveniente del embarque de pasajeros en el terminal, se correlacionaron los flujos de pasajeros embarcados del periodo 1985-1998 con el PIB Nacional mediante regresión linea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X= 0.042128718*PIB-119.58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eficiente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² = 0.9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3)</a:t>
            </a:r>
            <a:r>
              <a:rPr b="0" lang="es-MX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yección de pasajeros suponiendo las siguientes tasas de crecimiento del PIB en el plazo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1999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1 al 2012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7%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7-07-18T20:40:25Z</dcterms:modified>
  <cp:revision>227</cp:revision>
  <dc:subject/>
  <dc:title>Evaluación de Proyectos</dc:title>
</cp:coreProperties>
</file>