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wmf" ContentType="image/x-wmf"/>
  <Override PartName="/ppt/media/LATIGO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10E5E51-2511-488F-ADF7-CCB22A3F7FE8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os pasajeros que deben ser considerados como “pasajero embarcado” son aquellos que pagan tasa por embarcarse en el Aeropuerto, sólo se exceptúan: los menores de dos años, los pasajeros en transito, los diplómaticos y sus familiares acreditados y los delegados de gobierno que asistan a reuniones de carácter internacional a las que concurran Jefes de Estado y de Gobierno. Por lo tanto se deben incluir los pasajeros de vuelos no comerciales y se debe usar la estadística de la DG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7A2-0280-4F60-A3D0-BD27E340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0AF-2D80-4B63-AF4B-E8967B2D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B98-0661-48EE-A603-7329029F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2E4-A47C-4612-960C-550E1789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C32C-57B4-449C-802C-746DF4B6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F097-BFF9-4DB6-ADFC-ACD19DAE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55F8-B252-417F-B345-B612D5C6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15E8-83EC-4E0F-8FF7-76F8DECD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3625-7805-471C-939E-902B4184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54C1-127A-4415-82AD-0E055C6D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9954-C682-4BEB-8F9D-8BB09628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7D2-C150-4EC9-9B60-09F40620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0944-D688-4FD3-B35E-F8302174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9B41-A68F-42D2-8CA9-5E0BD88E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4019-D810-47E5-B9B3-599BE777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1F14-C817-4D55-BE2C-0ED5BEC2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3641-6A86-412C-AD1E-9FA32134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1EF-A3CB-49B8-863D-94FA3147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C19-0615-447F-8EE2-BE9DB90F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603-C32E-40DA-8304-82D5DDA3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AF2-2405-4E26-82D8-917D94AE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DB8-D527-4960-A8D6-702CCBE4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AAF-73F9-48C2-A3C8-2B525EA6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112-EDA5-4322-A03B-7AF625B4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ECED-F980-4735-9702-F58692CCE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C87D-0F26-4BC9-8767-807D9FC3F8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Cerro_moreno_airport_scfa_1280_low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Fuerza_A&#233;rea_de_Chil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485720"/>
            <a:ext cx="828036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Black"/>
              </a:rPr>
              <a:t>EVALUACION DE LA CONCESION DEL TERMINAL DE PASAJEROS DEL AEROPUERTO CERRO MORENO DE LA CIUDAD DE ANTOFAGASTA</a:t>
            </a: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7200"/>
            </a:br>
            <a:br>
              <a:rPr sz="20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5080" y="4367160"/>
            <a:ext cx="52610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imación de Beneficios y Costo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2800" y="1701360"/>
            <a:ext cx="811872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c00"/>
                </a:solidFill>
                <a:latin typeface="Arial"/>
              </a:rPr>
              <a:t>1 Ingreso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rovienen de los pagos de la tarifa por pasajero embarcado y aquellos que se derivan de las actividades comerciales desarrolladas en el área de la concesión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20000"/>
              </a:lnSpc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Ingreso por Embarque de Pasajer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20000"/>
              </a:lnSpc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Ingreso Comerciales: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ervicios Aeronáutic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ervicios No Aeronáutic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La determinación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del perfil de ingresos comerciales para el horizonte de la concesión se establecieron </a:t>
            </a:r>
            <a:r>
              <a:rPr b="0" lang="es-MX" sz="1400" spc="-1" strike="noStrike">
                <a:solidFill>
                  <a:srgbClr val="ff00ff"/>
                </a:solidFill>
                <a:latin typeface="Arial"/>
              </a:rPr>
              <a:t>diferentes tasas de crecimiento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, en algunos casos se mantuvo constante el ingreso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l gobierno garantiza un ingreso mínimo cuando los pasajeros embarcados son inferiores al mínimo establecido para cada añ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El concesionario traspasa el 50% de los ingresos por embarque,  una vez que el valor presente de las ventas efectivas por este concepto, supere los 530.000 UF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imación de Beneficios y Costo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2520" y="1376280"/>
            <a:ext cx="8178840" cy="31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cc00"/>
                </a:solidFill>
                <a:latin typeface="Arial"/>
              </a:rPr>
              <a:t>2 Cos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valorización de la concesión requiere considerar diferentes conceptos de costo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>
              <a:lnSpc>
                <a:spcPct val="7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stos de inversión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Costo de Proyec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Costo Constr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Equipamie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>
              <a:lnSpc>
                <a:spcPct val="7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stos de operació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Gasto de  operación y administración etapa constr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Otros gastos previo a la explo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Gastos de Person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Gastos Gener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871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- Costos de Operación y Manten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500720"/>
            <a:ext cx="8907480" cy="20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19044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ampliación del aeropuerto en el año 6 represent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uperficie de 2,500 m</a:t>
            </a:r>
            <a:r>
              <a:rPr b="0" lang="es-MX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sto (proyectos, supervisión y administración) 40% de la inversión en proyectos, equipamiento y construc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Se desembolsa un </a:t>
            </a:r>
            <a:r>
              <a:rPr b="0" lang="es-MX" sz="1600" spc="-1" strike="noStrike">
                <a:solidFill>
                  <a:srgbClr val="ff00ff"/>
                </a:solidFill>
                <a:latin typeface="Arial"/>
              </a:rPr>
              <a:t>34% en el 2006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y el resto en 2007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19044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Las instalaciones entran en operación en el 2007 y la tarifa por pasajero embarcado sube en 10%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Evaluación: Calculo de indicadore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just">
              <a:lnSpc>
                <a:spcPct val="14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ahoma"/>
              </a:rPr>
              <a:t>Construcción un modelo de flujo de caja del negoci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Los ingresos y los costos de operación se ajustaron a la fecha estimada de inicio de la explotació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todos los años los pasajeros embarcados superan el mínimo garantizado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l contrato de concesión se amortizó linealmente para el flujo financiero y aceleradamente para efectos del cálculo de impuesto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lnSpc>
                <a:spcPct val="145000"/>
              </a:lnSpc>
              <a:spcBef>
                <a:spcPts val="45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l capital de trabajo requerido se estimó en el costo de operación para 45 días del primer año de explotación.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55680" indent="0">
              <a:lnSpc>
                <a:spcPct val="14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 Black"/>
              </a:rPr>
              <a:t>Flujo de Caja del Proyecto  (Valores en UF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946160"/>
            <a:ext cx="9144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 Black"/>
              </a:rPr>
              <a:t>Evaluación: Calculo de indicadores (Valoración de la concesión)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Arial Black"/>
              </a:rPr>
              <a:t>Tasa de descuento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12440"/>
            <a:ext cx="81788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Se calcula con el modelo CAPM (Capital Asset Pricing Model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ff"/>
                </a:solidFill>
                <a:latin typeface="Arial Narrow"/>
              </a:rPr>
              <a:t>E (ri) = rf + Bi (E(rm) – rf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rf: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Tasa libre de ries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PRC  12 añ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Calculo promedio indicado 6.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Bi: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Coeficiente de riesgo sistemático del activo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0040" y="4057560"/>
            <a:ext cx="8676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No existía en Chile datos sobre rentabilidades de empresas administradoras de aeropuer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Se asumió una correlación alta con la actividad del negocio de transporte aéreo (aerolíne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Datos de Estados Unidos porque en Chile sólo Lan cotiza en la bols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buClr>
                <a:srgbClr val="33ccc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Consideración diferencias de estructuras de financiamiento =&gt;  coeficiente mas riesgoso 1,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rm:</a:t>
            </a: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Retorno esperado del rendimiento de mercado 10,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Tasa de Descuento: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11,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200" y="22824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Cálculo de indicadores</a:t>
            </a:r>
            <a:br>
              <a:rPr sz="2400"/>
            </a:b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s-MX" sz="2400" spc="-1" strike="noStrike">
                <a:solidFill>
                  <a:srgbClr val="ffff00"/>
                </a:solidFill>
                <a:latin typeface="Arial Black"/>
              </a:rPr>
              <a:t>(Valoración de la concesión) resultados</a:t>
            </a: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59120" y="2363760"/>
          <a:ext cx="5519520" cy="3967200"/>
        </p:xfrm>
        <a:graphic>
          <a:graphicData uri="http://schemas.openxmlformats.org/drawingml/2006/table">
            <a:tbl>
              <a:tblPr/>
              <a:tblGrid>
                <a:gridCol w="2570040"/>
                <a:gridCol w="294948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d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 de descu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 libre de ries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mo de licit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oferta se sitúa en el tercer tramo, plazo y tarifa fijos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zo: 120 me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ifa: $2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o: 6.954 U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954 [UF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841320" y="1627200"/>
            <a:ext cx="765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Los resultados de la valoración de la concesión son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 Black"/>
              </a:rPr>
              <a:t>Cálculo de indicadores </a:t>
            </a:r>
            <a:br>
              <a:rPr sz="2400"/>
            </a:br>
            <a:r>
              <a:rPr b="1" i="1" lang="es-MX" sz="2400" spc="-1" strike="noStrike">
                <a:solidFill>
                  <a:srgbClr val="ffff00"/>
                </a:solidFill>
                <a:latin typeface="Arial Black"/>
              </a:rPr>
              <a:t>(Valoración de la concesión) Sensibilidad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98720" y="3443400"/>
          <a:ext cx="6759360" cy="21114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  <a:gridCol w="1697040"/>
                <a:gridCol w="16700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rs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,44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5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4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841320" y="1967040"/>
            <a:ext cx="7650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2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 modelo se le aplicaron variaciones en el monto de la inversión y en el nivel de ingresos de la concesión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4520" y="1284120"/>
            <a:ext cx="83772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Después de otorgada la concesión a la empresa Cintra, el Aeropuerto Cerro Moreno ha sufrido pérdida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Explicadas en gran medida por factores que eran difíciles de prever al momento de participar en el concurso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7960" y="3063960"/>
            <a:ext cx="84664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En ese momento existía un panorama positivo para un proyecto de este tipo: buen desempeño económico en Chile y en Antofagasta que hacía que la gente viajará con más frecuencia; destinos turísticos importantes lejos de Santiago; líneas aéreas sanas financieramente que bajaban tarifas; gran número de viajeros argentinos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700" spc="-1" strike="noStrike">
                <a:solidFill>
                  <a:srgbClr val="ffffff"/>
                </a:solidFill>
                <a:latin typeface="Arial"/>
              </a:rPr>
              <a:t>Acontecimientos difíciles de anticipar: atentado a las Torres Gemelas, Guerra en Irak, incremento en el precio de los combustibles; enfermedades como el SAR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>
              <a:lnSpc>
                <a:spcPct val="14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07960" y="2516040"/>
            <a:ext cx="8291520" cy="35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just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-266760" algn="just">
              <a:lnSpc>
                <a:spcPct val="145000"/>
              </a:lnSpc>
              <a:spcBef>
                <a:spcPts val="524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Cuestionable estimación</a:t>
            </a: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 de la demand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-266760" algn="just">
              <a:lnSpc>
                <a:spcPct val="145000"/>
              </a:lnSpc>
              <a:spcBef>
                <a:spcPts val="524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Se minimizó la información del análisis de sensibilida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-266760" algn="just">
              <a:lnSpc>
                <a:spcPct val="145000"/>
              </a:lnSpc>
              <a:spcBef>
                <a:spcPts val="524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No se asumió plenamente la relación entre el negocio de las aerolíneas y los aeropuertos en la determinación de la tasa de descuento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36680" y="1238400"/>
            <a:ext cx="840744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demás de estos problemas difíciles de incluir en una evaluación, este trabajo presenta algunas deficiencias que por sí solas comprometían a la inversión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04800" y="609480"/>
            <a:ext cx="6229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Arial Black"/>
              </a:rPr>
              <a:t>Observaciones (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04960" y="1430280"/>
            <a:ext cx="790560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Los datos históricos de pasajeros embarcados con los que se estima la regresión corresponden a un período de alto crecimiento en Antofagasta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44760" y="868320"/>
            <a:ext cx="622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Demanda 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14560" y="3678120"/>
          <a:ext cx="7503840" cy="1146240"/>
        </p:xfrm>
        <a:graphic>
          <a:graphicData uri="http://schemas.openxmlformats.org/drawingml/2006/table">
            <a:tbl>
              <a:tblPr/>
              <a:tblGrid>
                <a:gridCol w="885600"/>
                <a:gridCol w="930240"/>
                <a:gridCol w="920880"/>
                <a:gridCol w="979560"/>
                <a:gridCol w="993600"/>
                <a:gridCol w="798480"/>
                <a:gridCol w="955800"/>
                <a:gridCol w="1039680"/>
              </a:tblGrid>
              <a:tr h="5209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sa de crecimiento del PIB-Antofagasta (%)                                                           (antes de la concesió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817640" y="5229360"/>
          <a:ext cx="6450120" cy="1203120"/>
        </p:xfrm>
        <a:graphic>
          <a:graphicData uri="http://schemas.openxmlformats.org/drawingml/2006/table">
            <a:tbl>
              <a:tblPr/>
              <a:tblGrid>
                <a:gridCol w="1347840"/>
                <a:gridCol w="1322280"/>
                <a:gridCol w="1309680"/>
                <a:gridCol w="1231920"/>
                <a:gridCol w="1238400"/>
              </a:tblGrid>
              <a:tr h="579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Tasa de crecimiento del PIB-Antofagasta (%)                                (después de la concesió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4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003320" y="6507000"/>
            <a:ext cx="7432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ffffff"/>
                </a:solidFill>
                <a:latin typeface="Arial"/>
              </a:rPr>
              <a:t>Fuente: Instituto Nacional de Estadístic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3000" y="177912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Descripción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Fuentes de In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Antecedentes Gene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udio de mer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imación de beneficios y cos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Análisis económico financi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Observ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Contenido d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7920" y="1630440"/>
            <a:ext cx="787716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as expectativas de crecimiento del PIB utilizadas para estimar el flujo de pasajeros para el período de la concesión fueron excesivamente altas.  Se estimó una demanda muy alt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8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Demanda (II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05000" y="3116160"/>
          <a:ext cx="6337080" cy="1419480"/>
        </p:xfrm>
        <a:graphic>
          <a:graphicData uri="http://schemas.openxmlformats.org/drawingml/2006/table">
            <a:tbl>
              <a:tblPr/>
              <a:tblGrid>
                <a:gridCol w="1857240"/>
                <a:gridCol w="2070000"/>
                <a:gridCol w="2409840"/>
              </a:tblGrid>
              <a:tr h="682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ectativas de crecimiento del PIB utilizadas en el estudio para estimar la demanda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1-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09520" y="4989600"/>
          <a:ext cx="8756640" cy="1117440"/>
        </p:xfrm>
        <a:graphic>
          <a:graphicData uri="http://schemas.openxmlformats.org/drawingml/2006/table">
            <a:tbl>
              <a:tblPr/>
              <a:tblGrid>
                <a:gridCol w="841320"/>
                <a:gridCol w="889200"/>
                <a:gridCol w="887400"/>
                <a:gridCol w="888840"/>
                <a:gridCol w="876240"/>
                <a:gridCol w="830520"/>
                <a:gridCol w="885600"/>
                <a:gridCol w="858960"/>
                <a:gridCol w="884160"/>
                <a:gridCol w="914400"/>
              </a:tblGrid>
              <a:tr h="36504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Tasa de crecimiento observada y expectativas de crecimiento del PI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5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-0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4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3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3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4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003320" y="6507000"/>
            <a:ext cx="7432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 Black"/>
              </a:rPr>
              <a:t>Fuente: Banco Central Chi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07920" y="1166760"/>
            <a:ext cx="787716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l obtener el VAN con supuestos de crecimiento del PIB menos optimistas el resultado es negativo o muy cercano a cero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04800" y="52380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Observaciones Demanda (III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860480" y="2884320"/>
          <a:ext cx="5399280" cy="3490920"/>
        </p:xfrm>
        <a:graphic>
          <a:graphicData uri="http://schemas.openxmlformats.org/drawingml/2006/table">
            <a:tbl>
              <a:tblPr/>
              <a:tblGrid>
                <a:gridCol w="2903760"/>
                <a:gridCol w="24955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uestos crecimiento  PIB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cccc"/>
                        </a:buClr>
                        <a:buFont typeface="Tahoma"/>
                        <a:buAutoNum type="arabicPlain" startAt="200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              </a:t>
                      </a: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00-2012        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6.9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2010        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35.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2010        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11.9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9                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-2010        6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3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7920" y="1224000"/>
            <a:ext cx="78771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Lo vulnerable del proyecto ante eventualidades durante el desarrollo del mismo, ya se observaba en un análisis de sensibilidad realizado en la evaluación pero no se le presto la atención suficiente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Análisis de sensibilidad (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359080" y="3282840"/>
          <a:ext cx="4489560" cy="1927440"/>
        </p:xfrm>
        <a:graphic>
          <a:graphicData uri="http://schemas.openxmlformats.org/drawingml/2006/table">
            <a:tbl>
              <a:tblPr/>
              <a:tblGrid>
                <a:gridCol w="1299960"/>
                <a:gridCol w="1516320"/>
                <a:gridCol w="1673280"/>
              </a:tblGrid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i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4.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re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5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7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07920" y="1166760"/>
            <a:ext cx="78771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Con los datos anteriores se estimó la elasticidad del valor actual neto ante variaciones de la inversión y el ingreso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Análisis de sensibilidad (I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4680" y="2620800"/>
          <a:ext cx="6081480" cy="1925640"/>
        </p:xfrm>
        <a:graphic>
          <a:graphicData uri="http://schemas.openxmlformats.org/drawingml/2006/table">
            <a:tbl>
              <a:tblPr/>
              <a:tblGrid>
                <a:gridCol w="1200240"/>
                <a:gridCol w="1409400"/>
                <a:gridCol w="1524240"/>
                <a:gridCol w="1947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ri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asticidad   (valor absolut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4.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re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5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.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7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.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907920" y="4965840"/>
            <a:ext cx="7877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Al tener una sensibilidad tan grande a pequeñas variaciones del ingreso se debió utilizar un pronóstico más conservador de la demanda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76160" y="1238400"/>
            <a:ext cx="766440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a evaluación se realizó sobre perspectivas muy favorables de demanda e ingre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o se midió adecuadamente el riesgo del negocio asociado con la operación de líneas aére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 pesar de esto, el estudio ya mostraba una gran sensibilidad a pequeñas variaciones en el ingreso, esto no se reflejó en alguna advertencia o consideración sobre lo riesgoso del proyect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266760" algn="just">
              <a:lnSpc>
                <a:spcPct val="145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Una buena evaluación del proyecto debió basarse en expectativas menos favorables de demanda y muy probablemente recomendar no participar en la licit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68600" y="728640"/>
            <a:ext cx="622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Conclus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04800" y="609480"/>
            <a:ext cx="62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Black"/>
              </a:rPr>
              <a:t>Descripción d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60520" y="2533680"/>
            <a:ext cx="66657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El proyecto consiste en valorizar la concesión de la </a:t>
            </a: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Terminal de Pasajeros del Aeropuerto Cerro Moreno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de la ciudad de </a:t>
            </a:r>
            <a:r>
              <a:rPr b="0" lang="es-ES_tradnl" sz="2400" spc="-1" strike="noStrike">
                <a:solidFill>
                  <a:srgbClr val="ffff00"/>
                </a:solidFill>
                <a:latin typeface="Arial Narrow"/>
              </a:rPr>
              <a:t>Antofagasta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para determinar el precio a ofertar en la licitación de dicha conces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Fuentes de Informació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820880" y="336600"/>
            <a:ext cx="6580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560" y="1795320"/>
            <a:ext cx="80218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25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formación histórica de flujos de pasajeros embarcados y llegados al aeropuerto Cerro Moreno de Antofagasta, suministrados por la Dirección General de Aeronáutica Civil y del tráfico mens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just">
              <a:lnSpc>
                <a:spcPct val="125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formación relativa al proceso de licitación y adjudicación.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30960" y="5268960"/>
            <a:ext cx="149544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Antecedentes General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Antofagasta comuna y ciudad del norte de Ch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Capital financiero de la Provincia de Antofaga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Ubicación del Aeropuerto Internacional Cerro Moreno Antofagasta:  Norte de Antofagasta, Chi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Opera como terminal de pasajeros y terminal de carga para vuelos nacio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Centro de operaciones de la Vª Brigada Aérea de la </a:t>
            </a:r>
            <a:r>
              <a:rPr b="0" lang="es-ES" sz="2000" spc="-1" strike="noStrike" u="sng">
                <a:solidFill>
                  <a:srgbClr val="ff00ff"/>
                </a:solidFill>
                <a:uFillTx/>
                <a:latin typeface="Arial Narrow"/>
                <a:hlinkClick r:id="rId1"/>
              </a:rPr>
              <a:t>Fuerza Aérea de Chile</a:t>
            </a: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 (FACH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Calificado como Aeropuerto Internacional Regul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110000"/>
              </a:lnSpc>
              <a:spcBef>
                <a:spcPts val="499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Narrow"/>
              </a:rPr>
              <a:t>Servicios de policía internacional, migración y aduan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Concesió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2360" y="1598760"/>
            <a:ext cx="87249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</a:rPr>
              <a:t>Definic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ntrato entre Estado y un concesionario mediante el cual este último se obliga a efectuar inversiones en la construcción de una obra pública, a mantener y explotar dicha obra de acuerdo con estándares  predefinidos y durante un plazo prefijado, otorgándole a cambio el Estado el derecho de cobrar por el uso de la obr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</a:rPr>
              <a:t>Objetivo y fases de la Conces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mpliación y Remodelación del Aeropuerto de Antofagas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c00"/>
                </a:solidFill>
                <a:latin typeface="Arial"/>
              </a:rPr>
              <a:t>Participantes en el proceso de conces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Organismos gubernamentales relacionados con el proceso de concesión y adjud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En forma anónima participan empresas privadas que envían su propuesta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60280" y="4462560"/>
            <a:ext cx="8724960" cy="22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00"/>
                </a:solidFill>
                <a:latin typeface="Arial"/>
              </a:rPr>
              <a:t>Plazos de la concesió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l 14 de septiembre de 2000 se entregó la concesión del aeropuerto por 10 años, a la filial de CINTRA, Aeropuerto Cerro Moreno Sociedad Concesionaria S.A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201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l 14 de septiembre de 2001: Inauguró la primera parte de la remodelación. La inauguración definitiva ocurrió el 1 de mayo de 2002, siendo ampliadas las instalaciones a 7000 mts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 concesión del aeropuerto está fijada hasta el 13 de septiembre de 20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506520"/>
            <a:ext cx="8280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Condiciones de Licitació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2600" y="1248840"/>
            <a:ext cx="841068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rocedimiento de la Licitac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resentación de Oferta Técnica y Económ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ropuestas evaluadas y selección de ganadora por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inisterio de Obras Pública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63520" y="2859120"/>
            <a:ext cx="8518680" cy="34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ara efectos de adjudicación de la licitación se considera tres tramos de competenci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76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arifa se fija en $3.000 y adjudica a quien oferte el menor plazo de concesión, con mínimo 10 años y máximo de 12 añ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76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arifa mínimo $2.500 y máximo $3.000, se adjudica la concesión a quien oferte la menor tarifa, plazo se fija en 10 añ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76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Tarifa y el plazo están fijos en 10 años y $2.500 respectivamente, la concesión se adjudica a quien oferte el mayor pago  al Estado por los bienes y derechos se transfieren al otorgar la concesió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Finaliza el proces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n la notificación de la decisión a la Contraloría General de la Repúblic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00"/>
                </a:solidFill>
                <a:latin typeface="Arial Black"/>
              </a:rPr>
              <a:t>Proyecto Evaluad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ff"/>
                </a:solidFill>
                <a:latin typeface="Tahoma"/>
              </a:rPr>
              <a:t>Ofert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fue presentada por un consorcio integrado por una empresa constructora, una línea aérea y dos fondos de inversión de desarrollo de empres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consideró que esta estructura permitiría integrar la capacidad del constructor para revisar,  valorizar y entregar un precio de construcción, a suma alzada, con la experiencia en la estimación de tráfico que posee una línea aérea y con la capacidad que poseen los fondos de inversión para estructurar, evaluar y definir las condiciones de financiamiento de un negoc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udio de Mercado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Arial Black"/>
              </a:rPr>
              <a:t>Estimación de la Demand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1. Determinación del flujo de pasajeros embarcados durante el plazo máximo de la concesió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Se utilizo una serie histórica de pasajeros en los últimos 25 años  reflejando un crecimiento anual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l 9.9%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ambio de tendencia en serie histórica en 1985 . Se produce en este período una transición desde una etapa de baja tasa  de crecimiento a una de tasas significativamente mayo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Últimos 15 años crecimiento  anual del 14.2%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8600" y="1898280"/>
            <a:ext cx="40132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2)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ara estimar ingresos proveniente del embarque de pasajeros en el terminal, se correlacionaron los flujos de pasajeros embarcados del periodo 1985-1998 con el PIB Nacional mediante regresión linea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AX= 0.042128718*PIB-119.58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oeficiente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r² = 0.92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3)</a:t>
            </a:r>
            <a:r>
              <a:rPr b="0" lang="es-MX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Proyección de pasajeros suponiendo las siguientes tasas de crecimiento del PIB en el plazo de la concesió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ño 1999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ño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lnSpc>
                <a:spcPct val="80000"/>
              </a:lnSpc>
              <a:spcBef>
                <a:spcPts val="400"/>
              </a:spcBef>
              <a:buClr>
                <a:srgbClr val="33cc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ño 2001 al 2012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7%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2T06:30:40Z</dcterms:created>
  <dc:creator>Eduardo Contreras</dc:creator>
  <dc:description/>
  <dc:language>en-US</dc:language>
  <cp:lastModifiedBy>Eduardo Contreras Villablanca</cp:lastModifiedBy>
  <cp:lastPrinted>1998-09-30T04:31:26Z</cp:lastPrinted>
  <dcterms:modified xsi:type="dcterms:W3CDTF">2007-07-18T20:40:25Z</dcterms:modified>
  <cp:revision>227</cp:revision>
  <dc:subject/>
  <dc:title>Evaluación de Proyectos</dc:title>
</cp:coreProperties>
</file>