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AE5E3-307F-413E-B9B0-31E19C7C2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CD98F-994F-4603-A2E8-413887C01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B33BF-8173-4D5D-9B3D-0317DDC9A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E8AB7-FB6E-4FEC-9B4E-1D957692D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77E2B-A970-4058-8B23-794F3B240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59CD7-6EAF-4BB1-8BCE-61EFC0C39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09C41-5FFE-4100-B241-2010D355D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721D7-4521-49D9-A429-2E4D7779A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CC579-50FC-4752-85B9-B885E3145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E5E41-758F-48CD-9A37-BC06700F7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BCC46-0AF4-406A-BB71-3E725185E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530E-A461-4752-8FA6-A404B8D9C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9880B-E882-424A-8CCF-B278528FE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9771-CB5F-4733-9679-A17DCD002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B2A2C-6633-479E-83C3-0C077788F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C9A68-04B3-4473-9B91-B64DE1435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ECA82-B446-4A20-968D-252C22BE3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F9DE-3283-4742-B1D5-4E0252924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C86A2-180B-41BB-9231-794AAA9C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41FA5-6E7D-4EB1-982C-85E566430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1FB79-708A-402E-B000-C55096D7C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DBCA-DC68-42DD-8F59-58200510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86BA-D562-40BF-9B90-4A8C49AC0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EDC95-523C-44F9-ABD4-D3114E39B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3B06-5566-459E-9922-A5CF02854D5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017E-BBE1-45EE-965F-35A8F45BE7F2}"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rial"/>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Rectangle 4"/>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Rectangle 4"/>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Picture 3"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Picture 4"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Picture 4"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Picture 4"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Picture 4" descr=""/>
          <p:cNvPicPr/>
          <p:nvPr/>
        </p:nvPicPr>
        <p:blipFill>
          <a:blip r:embed="rId1"/>
          <a:stretch/>
        </p:blipFill>
        <p:spPr>
          <a:xfrm>
            <a:off x="2700360" y="3895560"/>
            <a:ext cx="3743280" cy="2536920"/>
          </a:xfrm>
          <a:prstGeom prst="rect">
            <a:avLst/>
          </a:prstGeom>
          <a:ln w="0">
            <a:noFill/>
          </a:ln>
        </p:spPr>
      </p:pic>
      <p:sp>
        <p:nvSpPr>
          <p:cNvPr id="142" name="Rectangle 5"/>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Rectangle 4"/>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Group 3"/>
          <p:cNvGrpSpPr/>
          <p:nvPr/>
        </p:nvGrpSpPr>
        <p:grpSpPr>
          <a:xfrm>
            <a:off x="214920" y="1773360"/>
            <a:ext cx="8586720" cy="4752720"/>
            <a:chOff x="214920" y="1773360"/>
            <a:chExt cx="8586720" cy="4752720"/>
          </a:xfrm>
        </p:grpSpPr>
        <p:sp>
          <p:nvSpPr>
            <p:cNvPr id="172" name="Line 4"/>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Line 5"/>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Freeform 6"/>
            <p:cNvSpPr/>
            <p:nvPr/>
          </p:nvSpPr>
          <p:spPr>
            <a:xfrm>
              <a:off x="1476360" y="4797360"/>
              <a:ext cx="1295280" cy="107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Freeform 7"/>
            <p:cNvSpPr/>
            <p:nvPr/>
          </p:nvSpPr>
          <p:spPr>
            <a:xfrm>
              <a:off x="1979640" y="2828880"/>
              <a:ext cx="2952720" cy="304812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Freeform 8"/>
            <p:cNvSpPr/>
            <p:nvPr/>
          </p:nvSpPr>
          <p:spPr>
            <a:xfrm>
              <a:off x="3635280" y="3476520"/>
              <a:ext cx="4032360" cy="24004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Freeform 9"/>
            <p:cNvSpPr/>
            <p:nvPr/>
          </p:nvSpPr>
          <p:spPr>
            <a:xfrm>
              <a:off x="3708360" y="4363920"/>
              <a:ext cx="3888000" cy="15130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Freeform 10"/>
            <p:cNvSpPr/>
            <p:nvPr/>
          </p:nvSpPr>
          <p:spPr>
            <a:xfrm>
              <a:off x="7236000" y="4365720"/>
              <a:ext cx="1081080" cy="143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Text Box 11"/>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Arial"/>
              </a:endParaRPr>
            </a:p>
          </p:txBody>
        </p:sp>
        <p:sp>
          <p:nvSpPr>
            <p:cNvPr id="180" name="Text Box 12"/>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Arial"/>
              </a:endParaRPr>
            </a:p>
          </p:txBody>
        </p:sp>
        <p:sp>
          <p:nvSpPr>
            <p:cNvPr id="181" name="Line 13"/>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Line 14"/>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3" name="Line 15"/>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4" name="Line 16"/>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Text Box 17"/>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Arial"/>
              </a:endParaRPr>
            </a:p>
          </p:txBody>
        </p:sp>
        <p:sp>
          <p:nvSpPr>
            <p:cNvPr id="186" name="Text Box 18"/>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Arial"/>
              </a:endParaRPr>
            </a:p>
          </p:txBody>
        </p:sp>
        <p:sp>
          <p:nvSpPr>
            <p:cNvPr id="187" name="Text Box 19"/>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Arial"/>
              </a:endParaRPr>
            </a:p>
          </p:txBody>
        </p:sp>
        <p:sp>
          <p:nvSpPr>
            <p:cNvPr id="188" name="Text Box 20"/>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Arial"/>
              </a:endParaRPr>
            </a:p>
          </p:txBody>
        </p:sp>
        <p:sp>
          <p:nvSpPr>
            <p:cNvPr id="189" name="Text Box 21"/>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Text Box 5"/>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Object 4"/>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Text Box 5"/>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Picture 3"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Object 4"/>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Text Box 5"/>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Picture 4"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Picture 3"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Text Box 5"/>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Object 4"/>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Text Box 6"/>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p:txBody>
      </p:sp>
      <p:sp>
        <p:nvSpPr>
          <p:cNvPr id="255" name="AutoShape 7"/>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AutoShape 8"/>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Text Box 10"/>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Arial"/>
            </a:endParaRPr>
          </a:p>
        </p:txBody>
      </p:sp>
      <p:sp>
        <p:nvSpPr>
          <p:cNvPr id="258" name="Text Box 11"/>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Object 4"/>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Text Box 5"/>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Object 4"/>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Object 4"/>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Picture 4"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Rectangle 4"/>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03Z</dcterms:modified>
  <cp:revision>379</cp:revision>
  <dc:subject/>
  <dc:title>FC I Est c y b</dc:title>
</cp:coreProperties>
</file>