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FRENADA.WAV" ContentType="audio/x-wav"/>
  <Override PartName="/ppt/media/DIAPO.WAV" ContentType="audio/x-wav"/>
  <Override PartName="/ppt/media/CLIC.WAV" ContentType="audio/x-wav"/>
  <Override PartName="/ppt/media/LATIGO.WAV" ContentType="audio/x-wav"/>
  <Override PartName="/ppt/media/DISPARO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125600"/>
            <a:ext cx="50292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B18A-D7F5-47F2-8C61-630C1F14FD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BC1E-9D73-47A7-A9F9-8DC0F9DFC6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125600"/>
            <a:ext cx="50292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003-A2BB-4DC3-BE94-0D81789B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36A-8DB3-4DD0-98F0-D81EDCD7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793-6F12-4397-963D-977F3036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0DF-8C21-4981-AB6C-F348CC30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6270-1CD8-4D91-9846-EBD8EA84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D171-707B-4026-81A8-E9A30794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2108-E8D0-48E9-9948-C96ECB5D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1255-16F9-4295-A514-D6A46489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5D1A-3BC1-4327-AA7D-49646D52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683D-5D6B-4A80-A742-1115457E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3CD5-54EA-4FED-9B1C-D9FEB93F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5A7-2D82-4B11-B30E-3EE93823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1BB1-5382-4C9D-9CCC-D0648A75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9A8A-117F-4FE0-A0EC-41D5CF19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34AF-C8DD-46C5-BB4C-C4CA2E31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E624-5A86-412B-A0AC-E9678D05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0473-114A-44C3-8DD0-5A5C38EE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32D-552B-4DE5-9CCF-95A48844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B3C-8DB6-48C0-A720-CEF4F22A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732-78BB-4390-A0DB-37068C16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3B9-3706-4C8D-987D-0003CF8D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C34-E20A-4092-A825-0F38F325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4C0-3789-403C-A154-CF73F864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EAF-3207-407B-B942-FA5E336E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01CC-DCE4-49CF-8519-84EB70286E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DE72-BAEE-4C3C-BF79-A59AE866F1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audio" Target="../media/LATIGO.WAV"/><Relationship Id="rId19" Type="http://schemas.openxmlformats.org/officeDocument/2006/relationships/audio" Target="../media/LATIGO.WAV"/><Relationship Id="rId20" Type="http://schemas.openxmlformats.org/officeDocument/2006/relationships/audio" Target="../media/LATIGO.WAV"/><Relationship Id="rId21" Type="http://schemas.openxmlformats.org/officeDocument/2006/relationships/audio" Target="../media/LATIGO.WAV"/><Relationship Id="rId22" Type="http://schemas.openxmlformats.org/officeDocument/2006/relationships/audio" Target="../media/LATIGO.WAV"/><Relationship Id="rId23" Type="http://schemas.openxmlformats.org/officeDocument/2006/relationships/audio" Target="../media/LATIGO.WAV"/><Relationship Id="rId24" Type="http://schemas.openxmlformats.org/officeDocument/2006/relationships/audio" Target="../media/LATIGO.WAV"/><Relationship Id="rId25" Type="http://schemas.openxmlformats.org/officeDocument/2006/relationships/audio" Target="../media/LATIGO.WAV"/><Relationship Id="rId26" Type="http://schemas.openxmlformats.org/officeDocument/2006/relationships/audio" Target="../media/LATIGO.WAV"/><Relationship Id="rId27" Type="http://schemas.openxmlformats.org/officeDocument/2006/relationships/audio" Target="../media/LATIGO.WAV"/><Relationship Id="rId28" Type="http://schemas.openxmlformats.org/officeDocument/2006/relationships/audio" Target="../media/LATIGO.WAV"/><Relationship Id="rId29" Type="http://schemas.openxmlformats.org/officeDocument/2006/relationships/audio" Target="../media/LATIGO.WAV"/><Relationship Id="rId30" Type="http://schemas.openxmlformats.org/officeDocument/2006/relationships/audio" Target="../media/LATIGO.WAV"/><Relationship Id="rId31" Type="http://schemas.openxmlformats.org/officeDocument/2006/relationships/audio" Target="../media/LATIGO.WAV"/><Relationship Id="rId32" Type="http://schemas.openxmlformats.org/officeDocument/2006/relationships/audio" Target="../media/LATIGO.WAV"/><Relationship Id="rId33" Type="http://schemas.openxmlformats.org/officeDocument/2006/relationships/audio" Target="../media/LATIGO.WAV"/><Relationship Id="rId34" Type="http://schemas.openxmlformats.org/officeDocument/2006/relationships/audio" Target="../media/LATIGO.WAV"/><Relationship Id="rId35" Type="http://schemas.openxmlformats.org/officeDocument/2006/relationships/audio" Target="../media/LATIGO.WAV"/><Relationship Id="rId36" Type="http://schemas.openxmlformats.org/officeDocument/2006/relationships/audio" Target="../media/LATIGO.WAV"/><Relationship Id="rId37" Type="http://schemas.openxmlformats.org/officeDocument/2006/relationships/audio" Target="../media/LATIGO.WAV"/><Relationship Id="rId38" Type="http://schemas.openxmlformats.org/officeDocument/2006/relationships/audio" Target="../media/LATIGO.WAV"/><Relationship Id="rId39" Type="http://schemas.openxmlformats.org/officeDocument/2006/relationships/audio" Target="../media/LATIGO.WAV"/><Relationship Id="rId40" Type="http://schemas.openxmlformats.org/officeDocument/2006/relationships/audio" Target="../media/LATIGO.WAV"/><Relationship Id="rId41" Type="http://schemas.openxmlformats.org/officeDocument/2006/relationships/audio" Target="../media/LATIGO.WAV"/><Relationship Id="rId42" Type="http://schemas.openxmlformats.org/officeDocument/2006/relationships/audio" Target="../media/LATIGO.WAV"/><Relationship Id="rId43" Type="http://schemas.openxmlformats.org/officeDocument/2006/relationships/audio" Target="../media/LATIGO.WAV"/><Relationship Id="rId44" Type="http://schemas.openxmlformats.org/officeDocument/2006/relationships/audio" Target="../media/LATIGO.WAV"/><Relationship Id="rId4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audio" Target="../media/DIAPO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DISPARO.WAV"/><Relationship Id="rId6" Type="http://schemas.openxmlformats.org/officeDocument/2006/relationships/audio" Target="../media/DISPARO.WAV"/><Relationship Id="rId7" Type="http://schemas.openxmlformats.org/officeDocument/2006/relationships/audio" Target="../media/DISPARO.WAV"/><Relationship Id="rId8" Type="http://schemas.openxmlformats.org/officeDocument/2006/relationships/audio" Target="../media/DISPARO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521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3333cc"/>
                </a:solidFill>
                <a:latin typeface="Arial Black"/>
              </a:rPr>
              <a:t>Evaluación de Proyectos</a:t>
            </a:r>
            <a:br>
              <a:rPr sz="7200"/>
            </a:b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6 Generación y análisis de la idea de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crucial contar con un buen diagnóstico, de modo que la generación de una idea de proyecto de inversión surja como consecuencia clara de necesidades insatisfechas, de objetivos y/o políticas generales de la organización, de un plan de desarrollo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establecer su magnitud, a quienes afecta y la confiabilidad de la información utilizada. Así como también las alternativa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l análisis surgirá la especificación precisa del bien que se desea construir o el servicio que se pretende dar. Y servirá para adoptar la decisión de abandonar, postergar o profundizar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7 Estudio en el Nivel de Perf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studian los antecedentes que permitan formar un juicio respecto de la conveniencia  y factibilidad técnico-económica de llevar a cabo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identificar los beneficios y costos pertinentes respecto de la situación base (situación actual optimizada), sin incurrir en mayores costos en recursos financieros y humanos para medirlos y valorarl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be incluir un análisis preliminar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estimaciones gruesas de los beneficios y costos.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eneralmente basadas en información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abandonar, postergar o profund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3000" y="85356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8 Estudio de Pre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de esta etapa es medir los beneficios y costos identificados en la etapa de perf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 lo anterior permite tener una estimación de los montos de inversión, costos de operación y de los ingresos que generaría el proyecto durante su vida útil. Lo que se utiliza para la evaluación económica y para determinar las alternativas más rent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viene sensibilizar los resultados de la evaluación a cambios en las variables más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realizar el proyecto o postergar, abandonar o profund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9 Estudio de 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143000" y="15188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ntes, condiciones y plazos de financi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143000" y="88884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0 Tipos de Evalu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para quien se evalué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mismo proyecto se puede evaluar desde diferentes puntos de vista y arrojar diferentes result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ocurre porque los proyectos afectan de diferente manera a los agentes involucrados, quienes tienen, por lo general, diferentes objetivos e intere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Proyecto de vertedero para las comunas del centro-sur de Santia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l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aí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43000" y="64764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Proyecto de inversión extranjera mix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ancos que aportan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stado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reg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rivad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 un agente económico privado o individual (persona, empresa, grupo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Social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l conjunto del país (sociedad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iempre un proyecto que es rentable para un privado lo será también para la comunidad, y vicever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el momento en que se realic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Ante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en el período de preinversión, entrega una recomendación sobre la conveniencia de real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Pos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una vez ejecutado el proyecto, sirve para estimar los verdaderos beneficios del proyecto, encontrar las fuentes de error y generar aprendizaj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1 Preparación y evaluación de proyectos (Contenidos míni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. Prepar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ntecedentes gen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, ámbito o sector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ón de la zona de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a zona en estudio (culturales, económicas, políticas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os gestores del proyecto (aspectos organizacionales, marco legal, aspectos de cultura organizativa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vistas con expertos o personas experimentadas en el 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pilación bibliográfica (incluye estudios anteriores a nivel de perfil, prefactibilidad o factibilida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udio de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ecificación de el (los) producto 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histórica y sus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s y métodos de tarificación y pre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y concentración de la 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bertura geográf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ricciones de disponibilidad de recur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indent="0" algn="just">
              <a:lnSpc>
                <a:spcPct val="7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histórica y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ment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ntración de la demanda (por áreas geográficas, por segmentos, por ingreso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po de consumo (residencial, comercial, industr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ste punto puede/debe ser complement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143000" y="155052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tecedentes generales + estudio de mercado 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efinición de situación sin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s de resultados de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anda insatisfec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ala calidad de los servi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Optimización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s beneficios netos de se obtienen comparando la situación con proyecto con la sin proyecto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optimizada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situación base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), evitando que se asignen al proyecto beneficios que no  correspon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 de optimizaciones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diseño de procesos y reingenier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joras en la gest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dificaciones que impliquen inversiones margi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3000" y="1779120"/>
            <a:ext cx="77724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 Obje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ar un vocabulario común y una visión general sobre qué es la Evaluación de Proye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a idea de cambio en la asignación actual de recursos que sigue un objetivo y que genera beneficios y costos, cualitativos y cuantitativos, tanto al realizador del proyecto como a tercer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legir una c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lantación y tala de un bosque de pi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obras de benefic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lanzar un nuevo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ejoramiento de una carret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43000" y="38088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Generación de alternativas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as alternativas generadas debe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ermitir solucionar y/o aprovechar las oportunidades identificadas en el diag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técn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económ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fundamentalmente distintas entre s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comparables en términos de resul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f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lección (preselección) de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rá analizar la conveniencia de las distintas alternativas comparándolas entre sí de acuerdo a criterios técnicos y económ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ara la (s) alternativa(s) seleccionada (s) se debe analiz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Tamaño óptimo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calización ópt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mento óptimo para real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ediseño (obras civiles, equipamiento, insu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 y c es un proceso de tres pasos sucesivo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iendo del agente que hace la estimación tendremos byc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en cambio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Leas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sing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comparativo de distintas instituciones financi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vaproy2.Do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II. 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eneficios y costos es un proceso de tres pasos suce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/ Medición / 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agente que hace la estimació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(o menos)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143000" y="133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strucción del Flujo de Caj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ja Oper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pit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) 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icitud de présta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bo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a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) Análisis de Riesgo: Sensibilidad, simulación, análisis probabilístico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77960" y="1752480"/>
            <a:ext cx="8137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509040" indent="0">
              <a:lnSpc>
                <a:spcPct val="12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CONTEXTO (ESTRATÉGICO) DEL MERCA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proceso organizacional que apunta a la especificación de la estrategia de una firma y la asignación de las tareas y responsabilidades necesarias para llevarla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ón con la Evaluación de Proyectos:  Muchas veces un proyecto es parte de una estrategia más general, o bien, algunas veces una idea de proyecto da origen a una nueva estrateg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 de Planificación Estratégica consiste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a visión de la organización: misión, segmentar los negocios/actividades, determinar el grado de integración horizontal y vertical, filosofía/cultura de la organización y tópicos especiales con significación estraté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sión del negocio: identificación de segmentos de producto-mercado, ámbitos del negocio/actividad y forma de mantener un liderazgo competit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1633680" y="3092400"/>
            <a:ext cx="5010120" cy="26654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"/>
          <p:cNvSpPr/>
          <p:nvPr/>
        </p:nvSpPr>
        <p:spPr>
          <a:xfrm>
            <a:off x="1022400" y="2049480"/>
            <a:ext cx="69422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ulación de  la estrategia de negocios y programas generales de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921600" y="6023880"/>
            <a:ext cx="68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uente: GERENCIA DE PROYECTOS POR VALOR GANADO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ésar Augusto Leal Coronado*, Germán Gutiérrez Pache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cuela Colombiana de Ingeniería,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ceso de Planificación Estratégica de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2743200" y="1066680"/>
            <a:ext cx="4572000" cy="1067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isión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ámbitos: de producto, de mercado y ge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identificación de las competencias distin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modo de conseguir un liderazgo competit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21932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íticos para lograr una vent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et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Fortalez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548640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ue contribuyen al atractivo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 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352680" y="4343400"/>
            <a:ext cx="335304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ormulación de 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 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junto de programa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acción a lo largo del 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15"/>
          <p:cNvGrpSpPr/>
          <p:nvPr/>
        </p:nvGrpSpPr>
        <p:grpSpPr>
          <a:xfrm>
            <a:off x="3352680" y="5334120"/>
            <a:ext cx="3353040" cy="914400"/>
            <a:chOff x="3352680" y="5334120"/>
            <a:chExt cx="3353040" cy="914400"/>
          </a:xfrm>
        </p:grpSpPr>
        <p:sp>
          <p:nvSpPr>
            <p:cNvPr id="265" name="Rectangle 7"/>
            <p:cNvSpPr/>
            <p:nvPr/>
          </p:nvSpPr>
          <p:spPr>
            <a:xfrm>
              <a:off x="3352680" y="5410080"/>
              <a:ext cx="33530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ción Estratég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efinición y evaluació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s específicos de 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502920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3352680" y="6248520"/>
            <a:ext cx="3353040" cy="380520"/>
            <a:chOff x="3352680" y="6248520"/>
            <a:chExt cx="3353040" cy="380520"/>
          </a:xfrm>
        </p:grpSpPr>
        <p:sp>
          <p:nvSpPr>
            <p:cNvPr id="268" name="Rectangle 8"/>
            <p:cNvSpPr/>
            <p:nvPr/>
          </p:nvSpPr>
          <p:spPr>
            <a:xfrm>
              <a:off x="3352680" y="6302520"/>
              <a:ext cx="3353040" cy="326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esupuesto y Control de Gest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1"/>
            <p:cNvSpPr/>
            <p:nvPr/>
          </p:nvSpPr>
          <p:spPr>
            <a:xfrm>
              <a:off x="5029200" y="624852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4"/>
          <p:cNvGrpSpPr/>
          <p:nvPr/>
        </p:nvGrpSpPr>
        <p:grpSpPr>
          <a:xfrm>
            <a:off x="2895480" y="2133720"/>
            <a:ext cx="4419720" cy="2209680"/>
            <a:chOff x="2895480" y="2133720"/>
            <a:chExt cx="4419720" cy="2209680"/>
          </a:xfrm>
        </p:grpSpPr>
        <p:sp>
          <p:nvSpPr>
            <p:cNvPr id="271" name="Line 9"/>
            <p:cNvSpPr/>
            <p:nvPr/>
          </p:nvSpPr>
          <p:spPr>
            <a:xfrm>
              <a:off x="5029200" y="21337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2"/>
            <p:cNvSpPr/>
            <p:nvPr/>
          </p:nvSpPr>
          <p:spPr>
            <a:xfrm>
              <a:off x="2895480" y="411480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3"/>
            <p:cNvSpPr/>
            <p:nvPr/>
          </p:nvSpPr>
          <p:spPr>
            <a:xfrm flipH="1">
              <a:off x="5105520" y="4114800"/>
              <a:ext cx="22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Ex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Estructural del Sector Industrial o el Modelo de las Cinco Fuerzas Competitivas (Michael Porter, Profesor de Harvard University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tula que hay cinco fuerzas que conforman la estructura de una industr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nsidad de la rivalidad entre compet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nuevos particip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Sustitu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Compr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s fuerzas delimitan precios, costos y requerimientos de inversión, que constituyen los factores explicativos de la rentabilidad esperada de largo plazo de la indust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"/>
          <p:cNvSpPr/>
          <p:nvPr/>
        </p:nvSpPr>
        <p:spPr>
          <a:xfrm>
            <a:off x="3828960" y="2381400"/>
            <a:ext cx="2266920" cy="21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725796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06668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4181400" y="564840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4181400" y="53352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ticip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45"/>
          <p:cNvGrpSpPr/>
          <p:nvPr/>
        </p:nvGrpSpPr>
        <p:grpSpPr>
          <a:xfrm>
            <a:off x="2186280" y="2203560"/>
            <a:ext cx="1675800" cy="1282680"/>
            <a:chOff x="2186280" y="2203560"/>
            <a:chExt cx="1675800" cy="1282680"/>
          </a:xfrm>
        </p:grpSpPr>
        <p:sp>
          <p:nvSpPr>
            <p:cNvPr id="281" name="AutoShape 17"/>
            <p:cNvSpPr/>
            <p:nvPr/>
          </p:nvSpPr>
          <p:spPr>
            <a:xfrm>
              <a:off x="2685960" y="302904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2186280" y="2203560"/>
              <a:ext cx="1675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Provee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43"/>
          <p:cNvGrpSpPr/>
          <p:nvPr/>
        </p:nvGrpSpPr>
        <p:grpSpPr>
          <a:xfrm>
            <a:off x="4268160" y="2666880"/>
            <a:ext cx="1489680" cy="1827720"/>
            <a:chOff x="4268160" y="2666880"/>
            <a:chExt cx="1489680" cy="1827720"/>
          </a:xfrm>
        </p:grpSpPr>
        <p:sp>
          <p:nvSpPr>
            <p:cNvPr id="284" name="AutoShape 15"/>
            <p:cNvSpPr/>
            <p:nvPr/>
          </p:nvSpPr>
          <p:spPr>
            <a:xfrm flipV="1">
              <a:off x="4552920" y="2666880"/>
              <a:ext cx="919080" cy="99072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33"/>
            <p:cNvSpPr/>
            <p:nvPr/>
          </p:nvSpPr>
          <p:spPr>
            <a:xfrm>
              <a:off x="4268160" y="3701880"/>
              <a:ext cx="14896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Rivalidad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mpet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ct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47"/>
          <p:cNvGrpSpPr/>
          <p:nvPr/>
        </p:nvGrpSpPr>
        <p:grpSpPr>
          <a:xfrm>
            <a:off x="3452040" y="4514760"/>
            <a:ext cx="1777320" cy="1123920"/>
            <a:chOff x="3452040" y="4514760"/>
            <a:chExt cx="1777320" cy="1123920"/>
          </a:xfrm>
        </p:grpSpPr>
        <p:sp>
          <p:nvSpPr>
            <p:cNvPr id="287" name="Rectangle 24"/>
            <p:cNvSpPr/>
            <p:nvPr/>
          </p:nvSpPr>
          <p:spPr>
            <a:xfrm>
              <a:off x="3452040" y="4946760"/>
              <a:ext cx="14396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ustit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39"/>
            <p:cNvSpPr/>
            <p:nvPr/>
          </p:nvSpPr>
          <p:spPr>
            <a:xfrm>
              <a:off x="4772160" y="4514760"/>
              <a:ext cx="457200" cy="1123920"/>
            </a:xfrm>
            <a:prstGeom prst="upArrow">
              <a:avLst>
                <a:gd name="adj1" fmla="val 50000"/>
                <a:gd name="adj2" fmla="val 6145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46"/>
          <p:cNvGrpSpPr/>
          <p:nvPr/>
        </p:nvGrpSpPr>
        <p:grpSpPr>
          <a:xfrm>
            <a:off x="6083280" y="3048120"/>
            <a:ext cx="1812960" cy="1319760"/>
            <a:chOff x="6083280" y="3048120"/>
            <a:chExt cx="1812960" cy="1319760"/>
          </a:xfrm>
        </p:grpSpPr>
        <p:sp>
          <p:nvSpPr>
            <p:cNvPr id="290" name="Rectangle 21"/>
            <p:cNvSpPr/>
            <p:nvPr/>
          </p:nvSpPr>
          <p:spPr>
            <a:xfrm>
              <a:off x="6083280" y="3575160"/>
              <a:ext cx="181296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Compr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41"/>
            <p:cNvSpPr/>
            <p:nvPr/>
          </p:nvSpPr>
          <p:spPr>
            <a:xfrm>
              <a:off x="6105600" y="3048120"/>
              <a:ext cx="1152360" cy="41904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44"/>
          <p:cNvGrpSpPr/>
          <p:nvPr/>
        </p:nvGrpSpPr>
        <p:grpSpPr>
          <a:xfrm>
            <a:off x="4772160" y="1219320"/>
            <a:ext cx="1744920" cy="1162080"/>
            <a:chOff x="4772160" y="1219320"/>
            <a:chExt cx="1744920" cy="1162080"/>
          </a:xfrm>
        </p:grpSpPr>
        <p:sp>
          <p:nvSpPr>
            <p:cNvPr id="293" name="Rectangle 23"/>
            <p:cNvSpPr/>
            <p:nvPr/>
          </p:nvSpPr>
          <p:spPr>
            <a:xfrm>
              <a:off x="5039280" y="1289160"/>
              <a:ext cx="1477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ue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articipa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42"/>
            <p:cNvSpPr/>
            <p:nvPr/>
          </p:nvSpPr>
          <p:spPr>
            <a:xfrm rot="10800000">
              <a:off x="4772160" y="1219320"/>
              <a:ext cx="457200" cy="1162080"/>
            </a:xfrm>
            <a:prstGeom prst="upArrow">
              <a:avLst>
                <a:gd name="adj1" fmla="val 50000"/>
                <a:gd name="adj2" fmla="val 6354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barreras a la entrada están relacionadas positivamente con el atractivo de la industria. En tanto que las barreras a la salida aumentan la inestabilidad (riesgo) d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as las fuerzas son igualmente import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son igualmente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están en la lista (son una guí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1027"/>
          <p:cNvSpPr/>
          <p:nvPr/>
        </p:nvSpPr>
        <p:spPr>
          <a:xfrm>
            <a:off x="3800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28"/>
          <p:cNvSpPr/>
          <p:nvPr/>
        </p:nvSpPr>
        <p:spPr>
          <a:xfrm>
            <a:off x="6086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al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29"/>
          <p:cNvSpPr/>
          <p:nvPr/>
        </p:nvSpPr>
        <p:spPr>
          <a:xfrm>
            <a:off x="3800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0"/>
          <p:cNvSpPr/>
          <p:nvPr/>
        </p:nvSpPr>
        <p:spPr>
          <a:xfrm>
            <a:off x="6086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baj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3"/>
          <p:cNvSpPr/>
          <p:nvPr/>
        </p:nvSpPr>
        <p:spPr>
          <a:xfrm>
            <a:off x="1142280" y="2867040"/>
            <a:ext cx="134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34"/>
          <p:cNvSpPr/>
          <p:nvPr/>
        </p:nvSpPr>
        <p:spPr>
          <a:xfrm>
            <a:off x="2533680" y="2523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35"/>
          <p:cNvSpPr/>
          <p:nvPr/>
        </p:nvSpPr>
        <p:spPr>
          <a:xfrm>
            <a:off x="2571840" y="345744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36"/>
          <p:cNvSpPr/>
          <p:nvPr/>
        </p:nvSpPr>
        <p:spPr>
          <a:xfrm>
            <a:off x="5410800" y="1228680"/>
            <a:ext cx="1155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37"/>
          <p:cNvSpPr/>
          <p:nvPr/>
        </p:nvSpPr>
        <p:spPr>
          <a:xfrm>
            <a:off x="6553080" y="1704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038"/>
          <p:cNvSpPr/>
          <p:nvPr/>
        </p:nvSpPr>
        <p:spPr>
          <a:xfrm>
            <a:off x="4629240" y="174312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04800" y="609480"/>
            <a:ext cx="6229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yectos y sistema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09800" y="175248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ores e 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467320" y="173340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3695760" y="3314880"/>
            <a:ext cx="2324160" cy="2133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095720" y="38671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Produ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238400" y="24573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238400" y="2838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238400" y="32385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276200" y="363852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1295280" y="403848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31436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333440" y="53532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33440" y="49150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333440" y="58104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6838920" y="325764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6877080" y="386712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1333440" y="6267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695340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1410840" y="2333520"/>
            <a:ext cx="1598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1562400" y="2771640"/>
            <a:ext cx="144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7241040" y="3781440"/>
            <a:ext cx="133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622880" y="3152880"/>
            <a:ext cx="6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 +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202160" y="3133800"/>
            <a:ext cx="141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1582200" y="3571920"/>
            <a:ext cx="182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1622520" y="3971880"/>
            <a:ext cx="97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1602720" y="441000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1583640" y="4867200"/>
            <a:ext cx="108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rr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1640880" y="5286240"/>
            <a:ext cx="101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1641240" y="5819760"/>
            <a:ext cx="133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1699560" y="6143760"/>
            <a:ext cx="91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7393680" y="439092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3067200" y="2571840"/>
            <a:ext cx="12571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5"/>
          <p:cNvSpPr/>
          <p:nvPr/>
        </p:nvSpPr>
        <p:spPr>
          <a:xfrm>
            <a:off x="3067200" y="3105000"/>
            <a:ext cx="100944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2666880" y="3448080"/>
            <a:ext cx="1067040" cy="13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3390840" y="3886200"/>
            <a:ext cx="304920" cy="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8"/>
          <p:cNvSpPr/>
          <p:nvPr/>
        </p:nvSpPr>
        <p:spPr>
          <a:xfrm>
            <a:off x="2762280" y="4286160"/>
            <a:ext cx="723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9"/>
          <p:cNvSpPr/>
          <p:nvPr/>
        </p:nvSpPr>
        <p:spPr>
          <a:xfrm flipV="1">
            <a:off x="2819520" y="4590720"/>
            <a:ext cx="7426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1"/>
          <p:cNvSpPr/>
          <p:nvPr/>
        </p:nvSpPr>
        <p:spPr>
          <a:xfrm flipV="1">
            <a:off x="2705040" y="5028840"/>
            <a:ext cx="914400" cy="190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2"/>
          <p:cNvSpPr/>
          <p:nvPr/>
        </p:nvSpPr>
        <p:spPr>
          <a:xfrm flipV="1">
            <a:off x="2743200" y="5314680"/>
            <a:ext cx="971640" cy="3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3"/>
          <p:cNvSpPr/>
          <p:nvPr/>
        </p:nvSpPr>
        <p:spPr>
          <a:xfrm flipV="1">
            <a:off x="3029040" y="5543280"/>
            <a:ext cx="95256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4"/>
          <p:cNvSpPr/>
          <p:nvPr/>
        </p:nvSpPr>
        <p:spPr>
          <a:xfrm flipV="1">
            <a:off x="3238560" y="5753160"/>
            <a:ext cx="857160" cy="66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5"/>
          <p:cNvSpPr/>
          <p:nvPr/>
        </p:nvSpPr>
        <p:spPr>
          <a:xfrm flipV="1">
            <a:off x="6000840" y="3390840"/>
            <a:ext cx="857160" cy="28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6"/>
          <p:cNvSpPr/>
          <p:nvPr/>
        </p:nvSpPr>
        <p:spPr>
          <a:xfrm flipV="1">
            <a:off x="6153120" y="4114440"/>
            <a:ext cx="628560" cy="95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6229440" y="4629240"/>
            <a:ext cx="666720" cy="5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69480"/>
            <a:ext cx="84549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trabajo pionero de Porter (o la matriz del BCS) comienza a ser cuestionado después de un tiemp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factores determinantes de la rentabilidad tendrían que ver más con factores propios de cada empresa (más que con la industr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opio Porter y otros desarrollan el modelo de la cadena de valor ¿de qué depende el valor creado? (El diagnóstico favorable.i.e.,la oportunidad de hacer un proyec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oco se traslada de la industria a la compañía (y de los productos a los clien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43000" y="94284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In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análisis del medio interno intenta identificar el conjunto de factores que determina la posición competitiva que va a adoptar el negocio a fin de obtene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para realizar el análisis 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os competidores relev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alizar las capacidades que la firma puede controlar y en las que tiene que sobresalir para logra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un perfil competitivo midiendo fortalezas y debilidades del negocio frente a cada uno de los competidores de mayor importa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men de las fortalezas y debilidades gene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de las Capacidades de la Fir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requiere de conocer las actividades de la firma que otorgan valor y separalas en etapas estratégicamente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utilizada es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143000" y="1413000"/>
            <a:ext cx="77724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y dos grupos de actividades: las primarias y las de apoy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Primari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In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cepción, almacenaje, manejo de materiales, bodegaje, control de inventario, programación de vehículos y devolución a provee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Opera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Ex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 del producto terminado. Almacenaje de productos terminados, operación de vehículos de despacho, procesamiento y programación de ped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rketing y Venta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inducir y facilitar el proceso de compra a los clientes. Diseño de producto, selección y relación con canales de distribución, determinación de precios, apoyo publicitario, cotizaciones, política de descuentos y despach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143000" y="1727280"/>
            <a:ext cx="77724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rvici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antener o acrecentar el valor del producto después de la venta. Instalación, reparación, entrenamiento, suministro de repuestos y ajustes del produ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de Apoy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Adquisi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Desarrollo de Tecnologí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nocimiento experto, procedimientos e insumos tecnológicos que precise cada actividad de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nejo de Recursos Humano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lección, promoción y colocación; evaluación, recompensas, desarrollo administrativo y relación accionistas(dueños) / ejecutivos / emple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Infraestructura de la Firm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143000" y="4604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dena del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63"/>
          <p:cNvGrpSpPr/>
          <p:nvPr/>
        </p:nvGrpSpPr>
        <p:grpSpPr>
          <a:xfrm>
            <a:off x="6408720" y="3836880"/>
            <a:ext cx="2189160" cy="2733840"/>
            <a:chOff x="6408720" y="3836880"/>
            <a:chExt cx="2189160" cy="2733840"/>
          </a:xfrm>
        </p:grpSpPr>
        <p:sp>
          <p:nvSpPr>
            <p:cNvPr id="316" name="Line 18"/>
            <p:cNvSpPr/>
            <p:nvPr/>
          </p:nvSpPr>
          <p:spPr>
            <a:xfrm flipV="1">
              <a:off x="7746840" y="3836880"/>
              <a:ext cx="851040" cy="2733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2"/>
            <p:cNvSpPr/>
            <p:nvPr/>
          </p:nvSpPr>
          <p:spPr>
            <a:xfrm>
              <a:off x="6408720" y="6570720"/>
              <a:ext cx="1349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41"/>
            <p:cNvSpPr/>
            <p:nvPr/>
          </p:nvSpPr>
          <p:spPr>
            <a:xfrm>
              <a:off x="6734520" y="5103720"/>
              <a:ext cx="97020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erv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62"/>
          <p:cNvGrpSpPr/>
          <p:nvPr/>
        </p:nvGrpSpPr>
        <p:grpSpPr>
          <a:xfrm>
            <a:off x="1076400" y="1084320"/>
            <a:ext cx="6657840" cy="696960"/>
            <a:chOff x="1076400" y="1084320"/>
            <a:chExt cx="6657840" cy="696960"/>
          </a:xfrm>
        </p:grpSpPr>
        <p:sp>
          <p:nvSpPr>
            <p:cNvPr id="320" name="Rectangle 42"/>
            <p:cNvSpPr/>
            <p:nvPr/>
          </p:nvSpPr>
          <p:spPr>
            <a:xfrm>
              <a:off x="3066480" y="1212840"/>
              <a:ext cx="2896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raestructura de la 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3"/>
            <p:cNvSpPr/>
            <p:nvPr/>
          </p:nvSpPr>
          <p:spPr>
            <a:xfrm flipV="1">
              <a:off x="1076400" y="1084320"/>
              <a:ext cx="0" cy="696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44"/>
            <p:cNvSpPr/>
            <p:nvPr/>
          </p:nvSpPr>
          <p:spPr>
            <a:xfrm>
              <a:off x="1076400" y="1085760"/>
              <a:ext cx="6657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61"/>
          <p:cNvGrpSpPr/>
          <p:nvPr/>
        </p:nvGrpSpPr>
        <p:grpSpPr>
          <a:xfrm>
            <a:off x="1076400" y="1770120"/>
            <a:ext cx="6877080" cy="696960"/>
            <a:chOff x="1076400" y="1770120"/>
            <a:chExt cx="6877080" cy="696960"/>
          </a:xfrm>
        </p:grpSpPr>
        <p:sp>
          <p:nvSpPr>
            <p:cNvPr id="324" name="Line 36"/>
            <p:cNvSpPr/>
            <p:nvPr/>
          </p:nvSpPr>
          <p:spPr>
            <a:xfrm>
              <a:off x="6410520" y="1771560"/>
              <a:ext cx="1542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45"/>
            <p:cNvSpPr/>
            <p:nvPr/>
          </p:nvSpPr>
          <p:spPr>
            <a:xfrm>
              <a:off x="2858760" y="1898640"/>
              <a:ext cx="3160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anejo de 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49"/>
            <p:cNvGrpSpPr/>
            <p:nvPr/>
          </p:nvGrpSpPr>
          <p:grpSpPr>
            <a:xfrm>
              <a:off x="1076400" y="1770120"/>
              <a:ext cx="5343840" cy="696960"/>
              <a:chOff x="1076400" y="1770120"/>
              <a:chExt cx="5343840" cy="696960"/>
            </a:xfrm>
          </p:grpSpPr>
          <p:sp>
            <p:nvSpPr>
              <p:cNvPr id="327" name="Line 50"/>
              <p:cNvSpPr/>
              <p:nvPr/>
            </p:nvSpPr>
            <p:spPr>
              <a:xfrm flipV="1">
                <a:off x="1076400" y="17701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51"/>
              <p:cNvSpPr/>
              <p:nvPr/>
            </p:nvSpPr>
            <p:spPr>
              <a:xfrm>
                <a:off x="1076400" y="17715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Group 60"/>
          <p:cNvGrpSpPr/>
          <p:nvPr/>
        </p:nvGrpSpPr>
        <p:grpSpPr>
          <a:xfrm>
            <a:off x="1076400" y="2455920"/>
            <a:ext cx="7105680" cy="696960"/>
            <a:chOff x="1076400" y="2455920"/>
            <a:chExt cx="7105680" cy="696960"/>
          </a:xfrm>
        </p:grpSpPr>
        <p:sp>
          <p:nvSpPr>
            <p:cNvPr id="330" name="Line 35"/>
            <p:cNvSpPr/>
            <p:nvPr/>
          </p:nvSpPr>
          <p:spPr>
            <a:xfrm>
              <a:off x="6410520" y="2457360"/>
              <a:ext cx="1771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6"/>
            <p:cNvSpPr/>
            <p:nvPr/>
          </p:nvSpPr>
          <p:spPr>
            <a:xfrm>
              <a:off x="3238200" y="2546280"/>
              <a:ext cx="26236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sarrollo de Tecnolog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Group 52"/>
            <p:cNvGrpSpPr/>
            <p:nvPr/>
          </p:nvGrpSpPr>
          <p:grpSpPr>
            <a:xfrm>
              <a:off x="1076400" y="2455920"/>
              <a:ext cx="5343840" cy="696960"/>
              <a:chOff x="1076400" y="2455920"/>
              <a:chExt cx="5343840" cy="696960"/>
            </a:xfrm>
          </p:grpSpPr>
          <p:sp>
            <p:nvSpPr>
              <p:cNvPr id="333" name="Line 53"/>
              <p:cNvSpPr/>
              <p:nvPr/>
            </p:nvSpPr>
            <p:spPr>
              <a:xfrm flipV="1">
                <a:off x="1076400" y="24559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54"/>
              <p:cNvSpPr/>
              <p:nvPr/>
            </p:nvSpPr>
            <p:spPr>
              <a:xfrm>
                <a:off x="1076400" y="24573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59"/>
          <p:cNvGrpSpPr/>
          <p:nvPr/>
        </p:nvGrpSpPr>
        <p:grpSpPr>
          <a:xfrm>
            <a:off x="1076400" y="3141720"/>
            <a:ext cx="7524360" cy="696960"/>
            <a:chOff x="1076400" y="3141720"/>
            <a:chExt cx="7524360" cy="696960"/>
          </a:xfrm>
        </p:grpSpPr>
        <p:sp>
          <p:nvSpPr>
            <p:cNvPr id="336" name="Line 33"/>
            <p:cNvSpPr/>
            <p:nvPr/>
          </p:nvSpPr>
          <p:spPr>
            <a:xfrm>
              <a:off x="6410160" y="3828960"/>
              <a:ext cx="2190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410160" y="3143160"/>
              <a:ext cx="19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7"/>
            <p:cNvSpPr/>
            <p:nvPr/>
          </p:nvSpPr>
          <p:spPr>
            <a:xfrm>
              <a:off x="3678480" y="3251160"/>
              <a:ext cx="15386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55"/>
            <p:cNvGrpSpPr/>
            <p:nvPr/>
          </p:nvGrpSpPr>
          <p:grpSpPr>
            <a:xfrm>
              <a:off x="1076400" y="3141720"/>
              <a:ext cx="5343480" cy="696960"/>
              <a:chOff x="1076400" y="3141720"/>
              <a:chExt cx="5343480" cy="696960"/>
            </a:xfrm>
          </p:grpSpPr>
          <p:sp>
            <p:nvSpPr>
              <p:cNvPr id="340" name="Line 56"/>
              <p:cNvSpPr/>
              <p:nvPr/>
            </p:nvSpPr>
            <p:spPr>
              <a:xfrm flipV="1">
                <a:off x="1076400" y="31417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57"/>
              <p:cNvSpPr/>
              <p:nvPr/>
            </p:nvSpPr>
            <p:spPr>
              <a:xfrm>
                <a:off x="1076400" y="3143160"/>
                <a:ext cx="53434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" name="Group 67"/>
          <p:cNvGrpSpPr/>
          <p:nvPr/>
        </p:nvGrpSpPr>
        <p:grpSpPr>
          <a:xfrm>
            <a:off x="2409840" y="1771200"/>
            <a:ext cx="4000320" cy="2057760"/>
            <a:chOff x="2409840" y="1771200"/>
            <a:chExt cx="4000320" cy="2057760"/>
          </a:xfrm>
        </p:grpSpPr>
        <p:sp>
          <p:nvSpPr>
            <p:cNvPr id="343" name="Line 37"/>
            <p:cNvSpPr/>
            <p:nvPr/>
          </p:nvSpPr>
          <p:spPr>
            <a:xfrm flipV="1">
              <a:off x="507672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8"/>
            <p:cNvSpPr/>
            <p:nvPr/>
          </p:nvSpPr>
          <p:spPr>
            <a:xfrm flipV="1">
              <a:off x="374328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9"/>
            <p:cNvSpPr/>
            <p:nvPr/>
          </p:nvSpPr>
          <p:spPr>
            <a:xfrm flipV="1">
              <a:off x="240984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58"/>
            <p:cNvSpPr/>
            <p:nvPr/>
          </p:nvSpPr>
          <p:spPr>
            <a:xfrm flipV="1">
              <a:off x="641016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65"/>
          <p:cNvGrpSpPr/>
          <p:nvPr/>
        </p:nvGrpSpPr>
        <p:grpSpPr>
          <a:xfrm>
            <a:off x="7734240" y="1085760"/>
            <a:ext cx="1190520" cy="5486400"/>
            <a:chOff x="7734240" y="1085760"/>
            <a:chExt cx="1190520" cy="5486400"/>
          </a:xfrm>
        </p:grpSpPr>
        <p:sp>
          <p:nvSpPr>
            <p:cNvPr id="348" name="Line 19"/>
            <p:cNvSpPr/>
            <p:nvPr/>
          </p:nvSpPr>
          <p:spPr>
            <a:xfrm flipV="1">
              <a:off x="8072280" y="3827160"/>
              <a:ext cx="851040" cy="273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7753320" y="108576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8076960" y="109548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31"/>
            <p:cNvSpPr/>
            <p:nvPr/>
          </p:nvSpPr>
          <p:spPr>
            <a:xfrm>
              <a:off x="7734240" y="10857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64"/>
            <p:cNvSpPr/>
            <p:nvPr/>
          </p:nvSpPr>
          <p:spPr>
            <a:xfrm>
              <a:off x="7753320" y="65721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Tecnología?, ¿operaciones?: Se consideraron alguna vez como fuente de ventaja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son pre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requiere cada vez más: Flexibilidad ante el cambio (fuente de ventaj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éxito de ayer no es garantía de éxito en el futuro, por el contrario, parece desventaja e impedimento a la inno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ack Welch, CEO de General Electr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 que fue la clave del éxito en los 70, es una receta para marcar el paso en los 80 y un boleto para el cementerio en los 90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no podemos hablar de buenas o malas insdustrias (v.g. El “Análisis estructural de los sectores industriales” de los primeros trabajos de Porter) sino de buenas o malas empr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032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043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40" name="AutoShape 1027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1028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1029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1030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bje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33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037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047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47" name="AutoShape 1031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lterna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1038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045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46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oriz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49"/>
          <p:cNvSpPr/>
          <p:nvPr/>
        </p:nvSpPr>
        <p:spPr>
          <a:xfrm>
            <a:off x="4309560" y="-68400"/>
            <a:ext cx="4089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proceso de to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 deci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51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52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053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54"/>
          <p:cNvSpPr/>
          <p:nvPr/>
        </p:nvSpPr>
        <p:spPr>
          <a:xfrm>
            <a:off x="4553280" y="5730840"/>
            <a:ext cx="2774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gro 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56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57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059"/>
          <p:cNvSpPr/>
          <p:nvPr/>
        </p:nvSpPr>
        <p:spPr>
          <a:xfrm>
            <a:off x="3486240" y="3124080"/>
            <a:ext cx="914400" cy="1809720"/>
          </a:xfrm>
          <a:custGeom>
            <a:avLst/>
            <a:gdLst>
              <a:gd name="textAreaLeft" fmla="*/ 0 w 914400"/>
              <a:gd name="textAreaRight" fmla="*/ 330120 w 914400"/>
              <a:gd name="textAreaTop" fmla="*/ 47160 h 1809720"/>
              <a:gd name="textAreaBottom" fmla="*/ 176256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60"/>
          <p:cNvSpPr/>
          <p:nvPr/>
        </p:nvSpPr>
        <p:spPr>
          <a:xfrm>
            <a:off x="4608360" y="3701880"/>
            <a:ext cx="434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terios coherentes con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43000" y="85716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4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borda en forma explícita el problema de la asignación de recursos escasos en forma óptim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mienda al tomador de decisiones, a través de distintas metodologías, para determinar la conveniencia relativa de una acción o un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562040" y="35812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524400" y="3562200"/>
            <a:ext cx="5333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467000" y="704880"/>
            <a:ext cx="7315200" cy="1390680"/>
            <a:chOff x="1467000" y="704880"/>
            <a:chExt cx="7315200" cy="1390680"/>
          </a:xfrm>
        </p:grpSpPr>
        <p:sp>
          <p:nvSpPr>
            <p:cNvPr id="165" name="AutoShape 6"/>
            <p:cNvSpPr/>
            <p:nvPr/>
          </p:nvSpPr>
          <p:spPr>
            <a:xfrm>
              <a:off x="3219480" y="933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utoShape 7"/>
            <p:cNvSpPr/>
            <p:nvPr/>
          </p:nvSpPr>
          <p:spPr>
            <a:xfrm>
              <a:off x="3600360" y="933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AutoShape 8"/>
            <p:cNvSpPr/>
            <p:nvPr/>
          </p:nvSpPr>
          <p:spPr>
            <a:xfrm>
              <a:off x="3295800" y="857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9"/>
            <p:cNvSpPr/>
            <p:nvPr/>
          </p:nvSpPr>
          <p:spPr>
            <a:xfrm>
              <a:off x="1467000" y="762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e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0"/>
            <p:cNvSpPr/>
            <p:nvPr/>
          </p:nvSpPr>
          <p:spPr>
            <a:xfrm>
              <a:off x="3524400" y="704880"/>
              <a:ext cx="52578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e prepara y evalúa el proyecto de manera de obtener de él, el máximo excedente económico  a lo largo de su vida útil, realizando para esto estudios de mercado, técnicos, económicos, financieros y otr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11"/>
            <p:cNvSpPr/>
            <p:nvPr/>
          </p:nvSpPr>
          <p:spPr>
            <a:xfrm>
              <a:off x="2076480" y="1486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AutoShape 12"/>
          <p:cNvSpPr/>
          <p:nvPr/>
        </p:nvSpPr>
        <p:spPr>
          <a:xfrm>
            <a:off x="1447920" y="21906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505320" y="2133720"/>
            <a:ext cx="5257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2114640" y="295272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470240" y="44280"/>
            <a:ext cx="3094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Ciclo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, mide y valoriza, cuantitativa y cualitativamente, los beneficios y costos para la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inversión será rentable si permite un aumento mayor en la riqueza que el que se podría obtener utilizando los recursos en otras inversiones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5 Etapas de la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lección de los mejores proyectos de inversión, es decir, los de mayor conveniencia relativa (evaluación) y hacia los cuales deben destinarse preferentemente los recursos disponibles, constituye un proceso que sigue las siguientes etapas iter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2209680" y="4057560"/>
            <a:ext cx="5791320" cy="685800"/>
            <a:chOff x="2209680" y="4057560"/>
            <a:chExt cx="5791320" cy="685800"/>
          </a:xfrm>
        </p:grpSpPr>
        <p:sp>
          <p:nvSpPr>
            <p:cNvPr id="177" name="AutoShape 4"/>
            <p:cNvSpPr/>
            <p:nvPr/>
          </p:nvSpPr>
          <p:spPr>
            <a:xfrm>
              <a:off x="2209680" y="40575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y Análisis de la idea del proye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4800600" y="45147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6"/>
          <p:cNvGrpSpPr/>
          <p:nvPr/>
        </p:nvGrpSpPr>
        <p:grpSpPr>
          <a:xfrm>
            <a:off x="2209680" y="4743360"/>
            <a:ext cx="5791320" cy="685800"/>
            <a:chOff x="2209680" y="4743360"/>
            <a:chExt cx="5791320" cy="685800"/>
          </a:xfrm>
        </p:grpSpPr>
        <p:sp>
          <p:nvSpPr>
            <p:cNvPr id="180" name="AutoShape 7"/>
            <p:cNvSpPr/>
            <p:nvPr/>
          </p:nvSpPr>
          <p:spPr>
            <a:xfrm>
              <a:off x="2209680" y="47433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en el Nivel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4800600" y="52005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AutoShape 9"/>
          <p:cNvSpPr/>
          <p:nvPr/>
        </p:nvSpPr>
        <p:spPr>
          <a:xfrm>
            <a:off x="2209680" y="6114960"/>
            <a:ext cx="5791320" cy="457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udio de 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2209680" y="5429160"/>
            <a:ext cx="5791320" cy="685800"/>
            <a:chOff x="2209680" y="5429160"/>
            <a:chExt cx="5791320" cy="685800"/>
          </a:xfrm>
        </p:grpSpPr>
        <p:sp>
          <p:nvSpPr>
            <p:cNvPr id="184" name="AutoShape 11"/>
            <p:cNvSpPr/>
            <p:nvPr/>
          </p:nvSpPr>
          <p:spPr>
            <a:xfrm>
              <a:off x="2209680" y="54291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de prefacti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12"/>
            <p:cNvSpPr/>
            <p:nvPr/>
          </p:nvSpPr>
          <p:spPr>
            <a:xfrm>
              <a:off x="4800600" y="58863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89" name="AutoShape 5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AutoShape 6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AutoShape 8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AutoShape 10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1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96" name="AutoShape 12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13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AutoShape 14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308480" y="-68400"/>
            <a:ext cx="413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iclo de vida de 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7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8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9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4199040" y="5987880"/>
            <a:ext cx="1451880" cy="55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3486240" y="800280"/>
            <a:ext cx="914400" cy="4133520"/>
          </a:xfrm>
          <a:custGeom>
            <a:avLst/>
            <a:gdLst>
              <a:gd name="textAreaLeft" fmla="*/ 0 w 914400"/>
              <a:gd name="textAreaRight" fmla="*/ 330120 w 914400"/>
              <a:gd name="textAreaTop" fmla="*/ 107640 h 4133520"/>
              <a:gd name="textAreaBottom" fmla="*/ 4025880 h 41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4613400" y="2540160"/>
            <a:ext cx="1724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441360" y="5778360"/>
            <a:ext cx="133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rc 6"/>
          <p:cNvSpPr/>
          <p:nvPr/>
        </p:nvSpPr>
        <p:spPr>
          <a:xfrm flipH="1">
            <a:off x="1637640" y="2666880"/>
            <a:ext cx="152388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rc 7"/>
          <p:cNvSpPr/>
          <p:nvPr/>
        </p:nvSpPr>
        <p:spPr>
          <a:xfrm flipH="1">
            <a:off x="3124080" y="1771560"/>
            <a:ext cx="152424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rc 8"/>
          <p:cNvSpPr/>
          <p:nvPr/>
        </p:nvSpPr>
        <p:spPr>
          <a:xfrm flipH="1">
            <a:off x="4743360" y="914400"/>
            <a:ext cx="152424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rc 9"/>
          <p:cNvSpPr/>
          <p:nvPr/>
        </p:nvSpPr>
        <p:spPr>
          <a:xfrm flipH="1">
            <a:off x="6400080" y="57240"/>
            <a:ext cx="1523880" cy="799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066680" y="6667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/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1162080" y="3753000"/>
            <a:ext cx="2019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rado de Incertid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781520" y="628560"/>
            <a:ext cx="135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4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7"/>
          <p:cNvSpPr/>
          <p:nvPr/>
        </p:nvSpPr>
        <p:spPr>
          <a:xfrm>
            <a:off x="8039160" y="636264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rc 29"/>
          <p:cNvSpPr/>
          <p:nvPr/>
        </p:nvSpPr>
        <p:spPr>
          <a:xfrm>
            <a:off x="1714680" y="4133880"/>
            <a:ext cx="140940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rc 30"/>
          <p:cNvSpPr/>
          <p:nvPr/>
        </p:nvSpPr>
        <p:spPr>
          <a:xfrm>
            <a:off x="3124080" y="4686480"/>
            <a:ext cx="140976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rc 31"/>
          <p:cNvSpPr/>
          <p:nvPr/>
        </p:nvSpPr>
        <p:spPr>
          <a:xfrm>
            <a:off x="4667400" y="5295960"/>
            <a:ext cx="1619280" cy="55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rc 34"/>
          <p:cNvSpPr/>
          <p:nvPr/>
        </p:nvSpPr>
        <p:spPr>
          <a:xfrm>
            <a:off x="6305400" y="5867280"/>
            <a:ext cx="1810080" cy="133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mbral de lo pre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1919160"/>
            <a:ext cx="77724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una de ellas busca reproducir el ciclo de vida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6:30:40Z</dcterms:created>
  <dc:creator>Eduardo Contreras</dc:creator>
  <dc:description/>
  <dc:language>en-US</dc:language>
  <cp:lastModifiedBy>Eduardo Contreras Villablanca</cp:lastModifiedBy>
  <cp:lastPrinted>1998-09-30T04:31:26Z</cp:lastPrinted>
  <dcterms:modified xsi:type="dcterms:W3CDTF">2009-03-10T00:43:02Z</dcterms:modified>
  <cp:revision>170</cp:revision>
  <dc:subject/>
  <dc:title>Evaluación de Proyectos</dc:title>
</cp:coreProperties>
</file>