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6E9F-DF1B-45B4-8DD7-86401DB9DB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B495-9B6E-4442-868B-B3119B26FA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952-059E-43C5-A272-B7E178A2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D60-5A21-4B04-A407-9F37AC63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3A5-3D04-40FF-98BB-FAC64A76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B16-823D-48A4-94F8-84D4D7C6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C6A9-F901-483F-9DB1-0E75DBCB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F2B9-AD34-4700-9EB1-176CBC2F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4980-73CD-4E50-8375-9EC6C419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6B53-3768-415F-A646-6DDE1094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0EFC-3DEA-4D0B-9C41-AC128131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4075-9FFC-4B97-8C81-0FFA5171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E63-8FD9-4E5D-8E22-9E6F6A8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116-9423-4A84-B0F2-E660E9A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B6D9-2FF0-4F77-AA5F-ACE300A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1C1A-BF8E-47BB-A295-A670F6C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4E19-9651-409B-A3C9-2CC2B205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0E96-8964-4E19-93E4-BEC9357F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AFAB-F07C-461C-A050-52FBFFFF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0C0-F867-4BED-860F-6D755FC1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AB5-4059-4BF6-8B49-69BCF01C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9DF-2AC2-440C-BC2D-7515E72A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3A2-5755-4DA6-A8C2-AE12BE60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862-7B02-498D-BACA-8315440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F55-72F2-4B45-9270-6F635CF7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E49-BDA4-453F-BBE0-2031119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5895-EE1C-4DAB-B39F-B82A191300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B88C-AE5C-4529-B236-9078F89A30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43000" y="133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trucción del Flujo de Ca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ja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pit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 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) Análisis de Riesgo: Sensibilidad, simulación, análisis probabilístic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77960" y="17524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CONTEXTO (ESTRATÉGICO)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65" name="Rectangle 7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8" name="Rectangle 8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4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71" name="Line 9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3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45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81" name="AutoShape 17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3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84" name="AutoShape 15"/>
            <p:cNvSpPr/>
            <p:nvPr/>
          </p:nvSpPr>
          <p:spPr>
            <a:xfrm flipV="1">
              <a:off x="4552920" y="2666880"/>
              <a:ext cx="919080" cy="9907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33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87" name="Rectangle 24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39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46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90" name="Rectangle 21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93" name="Rectangle 23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42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28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29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0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3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4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5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6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37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38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5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9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2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9480"/>
            <a:ext cx="845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 ¿de qué depende el valor creado? (El diagnóstico favorable.i.e.,la oportunidad de hacer un proyec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16" name="Line 18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2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20" name="Rectangle 42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3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4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24" name="Line 36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5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49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27" name="Line 50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51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60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30" name="Line 35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6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52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33" name="Line 53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54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59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36" name="Line 33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55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40" name="Line 56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7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67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43" name="Line 37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8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65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8" name="Line 19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64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032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43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40" name="AutoShape 1027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028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029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030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33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037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047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47" name="AutoShape 1031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1038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045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46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9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51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52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53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4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56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57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59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0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65" name="AutoShape 6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1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12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77" name="AutoShape 4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6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80" name="AutoShape 7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AutoShape 9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84" name="AutoShape 11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9" name="AutoShape 5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6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8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1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96" name="AutoShape 12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3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AutoShape 14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6"/>
          <p:cNvSpPr/>
          <p:nvPr/>
        </p:nvSpPr>
        <p:spPr>
          <a:xfrm flipH="1">
            <a:off x="1637640" y="2666880"/>
            <a:ext cx="152388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7"/>
          <p:cNvSpPr/>
          <p:nvPr/>
        </p:nvSpPr>
        <p:spPr>
          <a:xfrm flipH="1">
            <a:off x="3124080" y="177156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8"/>
          <p:cNvSpPr/>
          <p:nvPr/>
        </p:nvSpPr>
        <p:spPr>
          <a:xfrm flipH="1">
            <a:off x="4743360" y="91440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9"/>
          <p:cNvSpPr/>
          <p:nvPr/>
        </p:nvSpPr>
        <p:spPr>
          <a:xfrm flipH="1">
            <a:off x="6400080" y="57240"/>
            <a:ext cx="1523880" cy="799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29"/>
          <p:cNvSpPr/>
          <p:nvPr/>
        </p:nvSpPr>
        <p:spPr>
          <a:xfrm>
            <a:off x="1714680" y="4133880"/>
            <a:ext cx="140940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30"/>
          <p:cNvSpPr/>
          <p:nvPr/>
        </p:nvSpPr>
        <p:spPr>
          <a:xfrm>
            <a:off x="3124080" y="4686480"/>
            <a:ext cx="140976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31"/>
          <p:cNvSpPr/>
          <p:nvPr/>
        </p:nvSpPr>
        <p:spPr>
          <a:xfrm>
            <a:off x="4667400" y="5295960"/>
            <a:ext cx="161928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rc 34"/>
          <p:cNvSpPr/>
          <p:nvPr/>
        </p:nvSpPr>
        <p:spPr>
          <a:xfrm>
            <a:off x="6305400" y="5867280"/>
            <a:ext cx="1810080" cy="13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9-03-10T00:43:02Z</dcterms:modified>
  <cp:revision>170</cp:revision>
  <dc:subject/>
  <dc:title>Evaluación de Proyectos</dc:title>
</cp:coreProperties>
</file>