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FRENADA.WAV" ContentType="audio/x-wav"/>
  <Override PartName="/ppt/media/DIAPO.WAV" ContentType="audio/x-wav"/>
  <Override PartName="/ppt/media/CLIC.WAV" ContentType="audio/x-wav"/>
  <Override PartName="/ppt/media/LATIGO.WAV" ContentType="audio/x-wav"/>
  <Override PartName="/ppt/media/DISPARO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6DEA-89DD-4C3E-B569-3C7AAEA0F7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251920"/>
            <a:ext cx="29718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B29D-709B-4F4F-A597-BF44B70A7ED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125600"/>
            <a:ext cx="502920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C2B-870B-47B7-BC87-81B83FD3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DF4-0D84-4628-977D-1D25640C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039-587F-4383-BB3A-1B2F10AA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543-595E-4EF9-80EE-B38EEE6D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1AA1-7D8C-448A-8E5A-BF9561F9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77B5-1ED4-4A6D-A644-9796DD65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7EC1-5DAF-4378-8451-D95967DF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C724-17F8-4DC4-979F-C6C4DA5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6A29-389B-4B86-8A24-8F08DBAD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E370-4E83-4D0A-9326-B7739BCE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67D-5270-4855-86AF-D5927766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ABB-3364-4330-A9BE-66AA887A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7EE7-82DA-4206-83A9-070A67CE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C55C-F94E-47B1-938C-A2BD42E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6A13-380E-4464-825F-466ADBEA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480-BDA1-4337-B866-F149173C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DF92-3C4A-4171-A295-202D5A8C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9A2-C018-4E26-A04E-AB3D278A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939-E44D-48E2-9701-A3013962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EB0-0775-4AC9-862C-312B4AF5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149-42CB-4D6C-BD51-392EEF5A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FFB-E99B-49D3-B704-90A0CFA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5CA-5963-4D97-AC5F-4E13ACF7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C45-D215-4AF4-8629-AAE1D0B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84D-2842-4C28-9EF9-0B76EB03C9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015-C0E1-47AE-BB8A-187542CC5F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LATIGO.WAV"/><Relationship Id="rId17" Type="http://schemas.openxmlformats.org/officeDocument/2006/relationships/audio" Target="../media/LATIGO.WAV"/><Relationship Id="rId18" Type="http://schemas.openxmlformats.org/officeDocument/2006/relationships/audio" Target="../media/LATIGO.WAV"/><Relationship Id="rId19" Type="http://schemas.openxmlformats.org/officeDocument/2006/relationships/audio" Target="../media/LATIGO.WAV"/><Relationship Id="rId20" Type="http://schemas.openxmlformats.org/officeDocument/2006/relationships/audio" Target="../media/LATIGO.WAV"/><Relationship Id="rId21" Type="http://schemas.openxmlformats.org/officeDocument/2006/relationships/audio" Target="../media/LATIGO.WAV"/><Relationship Id="rId22" Type="http://schemas.openxmlformats.org/officeDocument/2006/relationships/audio" Target="../media/LATIGO.WAV"/><Relationship Id="rId23" Type="http://schemas.openxmlformats.org/officeDocument/2006/relationships/audio" Target="../media/LATIGO.WAV"/><Relationship Id="rId24" Type="http://schemas.openxmlformats.org/officeDocument/2006/relationships/audio" Target="../media/LATIGO.WAV"/><Relationship Id="rId25" Type="http://schemas.openxmlformats.org/officeDocument/2006/relationships/audio" Target="../media/LATIGO.WAV"/><Relationship Id="rId26" Type="http://schemas.openxmlformats.org/officeDocument/2006/relationships/audio" Target="../media/LATIGO.WAV"/><Relationship Id="rId27" Type="http://schemas.openxmlformats.org/officeDocument/2006/relationships/audio" Target="../media/LATIGO.WAV"/><Relationship Id="rId28" Type="http://schemas.openxmlformats.org/officeDocument/2006/relationships/audio" Target="../media/LATIGO.WAV"/><Relationship Id="rId29" Type="http://schemas.openxmlformats.org/officeDocument/2006/relationships/audio" Target="../media/LATIGO.WAV"/><Relationship Id="rId30" Type="http://schemas.openxmlformats.org/officeDocument/2006/relationships/audio" Target="../media/LATIGO.WAV"/><Relationship Id="rId31" Type="http://schemas.openxmlformats.org/officeDocument/2006/relationships/audio" Target="../media/LATIGO.WAV"/><Relationship Id="rId32" Type="http://schemas.openxmlformats.org/officeDocument/2006/relationships/audio" Target="../media/LATIGO.WAV"/><Relationship Id="rId33" Type="http://schemas.openxmlformats.org/officeDocument/2006/relationships/audio" Target="../media/LATIGO.WAV"/><Relationship Id="rId34" Type="http://schemas.openxmlformats.org/officeDocument/2006/relationships/audio" Target="../media/LATIGO.WAV"/><Relationship Id="rId35" Type="http://schemas.openxmlformats.org/officeDocument/2006/relationships/audio" Target="../media/LATIGO.WAV"/><Relationship Id="rId36" Type="http://schemas.openxmlformats.org/officeDocument/2006/relationships/audio" Target="../media/LATIGO.WAV"/><Relationship Id="rId37" Type="http://schemas.openxmlformats.org/officeDocument/2006/relationships/audio" Target="../media/LATIGO.WAV"/><Relationship Id="rId38" Type="http://schemas.openxmlformats.org/officeDocument/2006/relationships/audio" Target="../media/LATIGO.WAV"/><Relationship Id="rId39" Type="http://schemas.openxmlformats.org/officeDocument/2006/relationships/audio" Target="../media/LATIGO.WAV"/><Relationship Id="rId40" Type="http://schemas.openxmlformats.org/officeDocument/2006/relationships/audio" Target="../media/LATIGO.WAV"/><Relationship Id="rId41" Type="http://schemas.openxmlformats.org/officeDocument/2006/relationships/audio" Target="../media/LATIGO.WAV"/><Relationship Id="rId42" Type="http://schemas.openxmlformats.org/officeDocument/2006/relationships/audio" Target="../media/LATIGO.WAV"/><Relationship Id="rId43" Type="http://schemas.openxmlformats.org/officeDocument/2006/relationships/audio" Target="../media/LATIGO.WAV"/><Relationship Id="rId44" Type="http://schemas.openxmlformats.org/officeDocument/2006/relationships/audio" Target="../media/LATIGO.WAV"/><Relationship Id="rId4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audio" Target="../media/LATIGO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DIAPO.WAV"/><Relationship Id="rId7" Type="http://schemas.openxmlformats.org/officeDocument/2006/relationships/audio" Target="../media/DIAPO.WAV"/><Relationship Id="rId8" Type="http://schemas.openxmlformats.org/officeDocument/2006/relationships/audio" Target="../media/DIAPO.WAV"/><Relationship Id="rId9" Type="http://schemas.openxmlformats.org/officeDocument/2006/relationships/audio" Target="../media/DIAPO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DIAPO.WAV"/><Relationship Id="rId3" Type="http://schemas.openxmlformats.org/officeDocument/2006/relationships/audio" Target="../media/DIAPO.WAV"/><Relationship Id="rId4" Type="http://schemas.openxmlformats.org/officeDocument/2006/relationships/audio" Target="../media/DIAPO.WAV"/><Relationship Id="rId5" Type="http://schemas.openxmlformats.org/officeDocument/2006/relationships/audio" Target="../media/DIAPO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DISPARO.WAV"/><Relationship Id="rId6" Type="http://schemas.openxmlformats.org/officeDocument/2006/relationships/audio" Target="../media/DISPARO.WAV"/><Relationship Id="rId7" Type="http://schemas.openxmlformats.org/officeDocument/2006/relationships/audio" Target="../media/DISPARO.WAV"/><Relationship Id="rId8" Type="http://schemas.openxmlformats.org/officeDocument/2006/relationships/audio" Target="../media/DISPARO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521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3333cc"/>
                </a:solidFill>
                <a:latin typeface="Arial Black"/>
              </a:rPr>
              <a:t>Evaluación de Proyectos</a:t>
            </a:r>
            <a:br>
              <a:rPr sz="7200"/>
            </a:br>
            <a:br>
              <a:rPr sz="7200"/>
            </a:br>
            <a:endParaRPr b="0" lang="en-US" sz="6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6 Generación y análisis de la idea de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crucial contar con un buen diagnóstico, de modo que la generación de una idea de proyecto de inversión surja como consecuencia clara de necesidades insatisfechas, de objetivos y/o políticas generales de la organización, de un plan de desarrollo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establecer su magnitud, a quienes afecta y la confiabilidad de la información utilizada. Así como también las alternativa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l análisis surgirá la especificación precisa del bien que se desea construir o el servicio que se pretende dar. Y servirá para adoptar la decisión de abandonar, postergar o profundizar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143000" y="958320"/>
            <a:ext cx="77724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7 Estudio en el Nivel de Perf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studian los antecedentes que permitan formar un juicio respecto de la conveniencia  y factibilidad técnico-económica de llevar a cabo la idea de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identificar los beneficios y costos pertinentes respecto de la situación base (situación actual optimizada), sin incurrir en mayores costos en recursos financieros y humanos para medirlos y valorarl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e incluir un análisis preliminar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estimaciones gruesas de los beneficios y costos.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eneralmente basadas en información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abandonar, postergar o profund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143000" y="85356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 Estudio de Pre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de esta etapa es medir los beneficios y costos identificados en la etapa de perf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 lo anterior permite tener una estimación de los montos de inversión, costos de operación y de los ingresos que generaría el proyecto durante su vida útil. Lo que se utiliza para la evaluación económica y para determinar las alternativas más ren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viene sensibilizar los resultados de la evaluación a cambios en las variables más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cide realizar el proyecto o postergar, abandonar o profund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9 Estudio de Fact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43000" y="1518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ntes, condiciones y plazos de financi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143000" y="888840"/>
            <a:ext cx="777240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 Tipos de Evalu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para quien se evalué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mismo proyecto se puede evaluar desde diferentes puntos de vista y arrojar diferentes resul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ocurre porque los proyectos afectan de diferente manera a los agentes involucrados, quienes tienen, por lo general, diferentes objetivos e intere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Proyecto de vertedero para las comunas del centro-sur de Santia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 municip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Vecinos del s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aí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43000" y="64764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Proyecto de inversión extranjera mix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Inversionista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ancos que aportan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stado n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reg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Gobierno extranj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Privad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 un agente económico privado o individual (persona, empresa, grupo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Social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desde la perspectiva del conjunto del país (sociedad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siempre un proyecto que es rentable para un privado lo será también para la comunidad, y vicever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gún el momento en que se real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Ante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en el período de preinversión, entrega una recomendación sobre la conveniencia de realizar el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 Pos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 realiza una vez ejecutado el proyecto, sirve para estimar los verdaderos beneficios del proyecto, encontrar las fuentes de error y generar aprendiza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1 Preparación y evaluación de proyectos (Contenidos míni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. Prepar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tecedentes gener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ustria, ámbito o sector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ón de la zona de 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a zona en estudio (culturales, económicas, políticas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generales de los gestores del proyecto (aspectos organizacionales, marco legal, aspectos de cultura organizativa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vistas con expertos o personas experimentadas en el 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pilación bibliográfica (incluye estudios anteriores a nivel de perfil, prefactibilidad o factibil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0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143000" y="76644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udio de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pecificación de el (los) producto 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histórica y sus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s y métodos de tarificación y pre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y concentración de la 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bertura geográf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tricciones de disponibilidad de recurs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indent="0" algn="just">
              <a:lnSpc>
                <a:spcPct val="75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8576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histórica y factores de incid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actual y proye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ment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ntración de la demanda (por áreas geográficas, por segmentos, por ingreso, etc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09720" algn="just">
              <a:lnSpc>
                <a:spcPct val="75000"/>
              </a:lnSpc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po de consumo (residencial, comercial, indust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5216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ste punto puede/debe ser complement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143000" y="1550520"/>
            <a:ext cx="7772400" cy="55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tecedentes generales + estudio de mercado  </a:t>
            </a:r>
            <a:r>
              <a:rPr b="0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definición de situación sin proye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s de resultados de diagnós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Demanda insatisfech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ala calidad de los servic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0" algn="just">
              <a:lnSpc>
                <a:spcPct val="75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Optimización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s beneficios netos de se obtienen comparando la situación con proyecto con la sin proyecto 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optimizada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sz="2000" spc="-1" strike="noStrike">
                <a:solidFill>
                  <a:srgbClr val="000000"/>
                </a:solidFill>
                <a:latin typeface="Tahoma"/>
              </a:rPr>
              <a:t>situación base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), evitando que se asignen al proyecto beneficios que no  correspon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61928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Ejemplo de optimizaciones de la situación act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Rediseño de procesos y reingenier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ejoras en la gest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03832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dificaciones que impliquen inversiones margi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3000" y="17791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ar un vocabulario común y una visión general sobre qué es la Evaluación de Proye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idea de cambio en la asignación actual de recursos que sigue un objetivo y que genera beneficios y costos, cualitativos y cuantitativos, tanto al realizador del proyecto como a tercer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elegir una carr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lantación y tala de un bosque de pi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obras de benefic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lanzar un nuevo produ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mejoramiento de una car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43000" y="38088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 Generación de alternativas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Las alternativas generadas debe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ermitir solucionar y/o aprovechar las oportunidades identificadas en el diagnóst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técn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económicamente facti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fundamentalmente distintas entre s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r comparables en términos de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f) </a:t>
            </a: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lección (preselección) de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Se deberá analizar la conveniencia de las distintas alternativas comparándolas entre sí de acuerdo a criterios técnicos y económ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0" algn="just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56760" indent="-96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ara la (s) alternativa(s) seleccionada (s) se debe analiz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Tamaño óptimo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Localización ópti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Momento óptimo para realizar 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Prediseño (obras civiles, equipamiento, insum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 y c es un proceso de tres pasos sucesivos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iendo del agente que hace la estimación tendremos byc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en cambio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49896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 vs. Lea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sing vs. Arrien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641520" indent="-7740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álisis comparativo de distintas instituciones financie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784080" indent="0" algn="just">
              <a:lnSpc>
                <a:spcPct val="75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algn="just">
              <a:lnSpc>
                <a:spcPct val="75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vaproy2.Do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8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5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5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0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0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0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50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50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0">
                                            <p:txEl>
                                              <p:pRg st="35" end="3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50">
                                            <p:txEl>
                                              <p:pRg st="36" end="3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50">
                                            <p:txEl>
                                              <p:pRg st="37" end="3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0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0">
                                            <p:txEl>
                                              <p:pRg st="40" end="4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0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0">
                                            <p:txEl>
                                              <p:pRg st="42" end="4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50">
                                            <p:txEl>
                                              <p:pRg st="44" end="4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50">
                                            <p:txEl>
                                              <p:pRg st="46" end="4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49" end="4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0">
                                            <p:txEl>
                                              <p:pRg st="51" end="5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0">
                                            <p:txEl>
                                              <p:pRg st="52" end="5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>
                                            <p:txEl>
                                              <p:pRg st="53" end="5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0">
                                            <p:txEl>
                                              <p:pRg st="54" end="5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0">
                                            <p:txEl>
                                              <p:pRg st="57" end="5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>
                                            <p:txEl>
                                              <p:pRg st="59" end="5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0">
                                            <p:txEl>
                                              <p:pRg st="61" end="6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0">
                                            <p:txEl>
                                              <p:pRg st="62" end="6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0">
                                            <p:txEl>
                                              <p:pRg st="63" end="6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50">
                                            <p:txEl>
                                              <p:pRg st="64" end="6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65" end="6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0">
                                            <p:txEl>
                                              <p:pRg st="67" end="6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ahoma"/>
              </a:rPr>
              <a:t>II. Evaluación del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stimación de beneficios y cos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timación de beneficios y costos es un proceso de tres pasos suces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ción / Medición / Valo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agente que hace la estimación 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v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 (valorables), no cuantificables (no valor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38920" indent="-223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rectos, indir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antificables, no cuantific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49680" indent="-223920" algn="just">
              <a:lnSpc>
                <a:spcPct val="75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b y c directos e indirectos cuantificables deben ser estimados según algún numerario común (normalmente $ de hoy), los no cuantificables deben ser identificados y medidos en las unidades que resulte pertin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71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28160" indent="-28008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 : beneficio no (o menos) cuantificable de un proyecto de semaforización : disminución de accid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143000" y="133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trucción del Flujo de Caj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ja Operac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lujo de Capit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)  Cálculo de indic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 presente neto (VPN o V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sa interna de retorno (T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íodo de recuperación del capital (PR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-28584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nálisis de las distintas alternativas, se deberá analizar temas como 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49400" indent="0" algn="just">
              <a:lnSpc>
                <a:spcPct val="7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rcentajes de capital propio vs. Deud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icitud de préstam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bo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68440" indent="-22860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misión de ac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) Análisis de Riesgo: Sensibilidad, simulación, análisis probabilístic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777960" y="1752480"/>
            <a:ext cx="8137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509040" indent="0">
              <a:lnSpc>
                <a:spcPct val="125000"/>
              </a:lnSpc>
              <a:buNone/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a50021"/>
                </a:solidFill>
                <a:latin typeface="Tahoma"/>
              </a:rPr>
              <a:t>CONTEXTO (ESTRATÉGICO) DEL MERCA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 proceso organizacional que apunta a la especificación de la estrategia de una firma y la asignación de las tareas y responsabilidades necesarias para llevarla a cab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ón con la Evaluación de Proyectos:  Muchas veces un proyecto es parte de una estrategia más general, o bien, algunas veces una idea de proyecto da origen a una nueva estrateg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oceso de Planificación Estratégica consiste 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a visión de la organización: misión, segmentar los negocios/actividades, determinar el grado de integración horizontal y vertical, filosofía/cultura de la organización y tópicos especiales con significación estraté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sión del negocio: identificación de segmentos de producto-mercado, ámbitos del negocio/actividad y forma de mantener un liderazgo competit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lanificación Estraté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1633680" y="3092400"/>
            <a:ext cx="5010120" cy="266544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4"/>
          <p:cNvSpPr/>
          <p:nvPr/>
        </p:nvSpPr>
        <p:spPr>
          <a:xfrm>
            <a:off x="1022400" y="2049480"/>
            <a:ext cx="6942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ulación de  la estrategia de negocios y programas generales de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921600" y="6023880"/>
            <a:ext cx="6887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Times New Roman"/>
              </a:rPr>
              <a:t>Fuente: GERENCIA DE PROYECTOS POR VALOR GANADO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César Augusto Leal Coronado*, Germán Gutiérrez Pache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cuela Colombiana de Ingeniería,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30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ceso de Planificación Estratégica de Nego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743200" y="1066680"/>
            <a:ext cx="4572000" cy="1067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isión d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ámbitos: de producto, de mercado y ge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identificación de las competencias distin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modo de conseguir un liderazgo competit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1932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ríticos para lograr una ven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et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Fortaleza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486400" y="2209680"/>
            <a:ext cx="3352680" cy="19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Desempeño pasad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yecciones futu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dentificación de factore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ue contribuyen al atractivo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finici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 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352680" y="4343400"/>
            <a:ext cx="335304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rmulación de la Estrate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Neg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programas gen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acción a lo largo del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15"/>
          <p:cNvGrpSpPr/>
          <p:nvPr/>
        </p:nvGrpSpPr>
        <p:grpSpPr>
          <a:xfrm>
            <a:off x="3352680" y="5334120"/>
            <a:ext cx="3353040" cy="914400"/>
            <a:chOff x="3352680" y="5334120"/>
            <a:chExt cx="3353040" cy="914400"/>
          </a:xfrm>
        </p:grpSpPr>
        <p:sp>
          <p:nvSpPr>
            <p:cNvPr id="265" name="Rectangle 7"/>
            <p:cNvSpPr/>
            <p:nvPr/>
          </p:nvSpPr>
          <p:spPr>
            <a:xfrm>
              <a:off x="3352680" y="5410080"/>
              <a:ext cx="3353040" cy="838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ción Estratég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efinición y evaluació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programas específicos de 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502920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3352680" y="6248520"/>
            <a:ext cx="3353040" cy="380520"/>
            <a:chOff x="3352680" y="6248520"/>
            <a:chExt cx="3353040" cy="380520"/>
          </a:xfrm>
        </p:grpSpPr>
        <p:sp>
          <p:nvSpPr>
            <p:cNvPr id="268" name="Rectangle 8"/>
            <p:cNvSpPr/>
            <p:nvPr/>
          </p:nvSpPr>
          <p:spPr>
            <a:xfrm>
              <a:off x="3352680" y="6302520"/>
              <a:ext cx="3353040" cy="326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esupuesto y Control de Gest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1"/>
            <p:cNvSpPr/>
            <p:nvPr/>
          </p:nvSpPr>
          <p:spPr>
            <a:xfrm>
              <a:off x="5029200" y="6248520"/>
              <a:ext cx="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4"/>
          <p:cNvGrpSpPr/>
          <p:nvPr/>
        </p:nvGrpSpPr>
        <p:grpSpPr>
          <a:xfrm>
            <a:off x="2895480" y="2133720"/>
            <a:ext cx="4419720" cy="2209680"/>
            <a:chOff x="2895480" y="2133720"/>
            <a:chExt cx="4419720" cy="2209680"/>
          </a:xfrm>
        </p:grpSpPr>
        <p:sp>
          <p:nvSpPr>
            <p:cNvPr id="271" name="Line 9"/>
            <p:cNvSpPr/>
            <p:nvPr/>
          </p:nvSpPr>
          <p:spPr>
            <a:xfrm>
              <a:off x="5029200" y="2133720"/>
              <a:ext cx="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2"/>
            <p:cNvSpPr/>
            <p:nvPr/>
          </p:nvSpPr>
          <p:spPr>
            <a:xfrm>
              <a:off x="2895480" y="4114800"/>
              <a:ext cx="2057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3"/>
            <p:cNvSpPr/>
            <p:nvPr/>
          </p:nvSpPr>
          <p:spPr>
            <a:xfrm flipH="1">
              <a:off x="5105520" y="4114800"/>
              <a:ext cx="22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Ex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Estructural del Sector Industrial o el Modelo de las Cinco Fuerzas Competitivas (Michael Porter, Profesor de Harvard University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tula que hay cinco fuerzas que conforman la estructura de una industri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ensidad de la rivalidad entre competi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nuevos particip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enaza de Sustitu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Provee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der de Negociación de los Comprad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s fuerzas delimitan precios, costos y requerimientos de inversión, que constituyen los factores explicativos de la rentabilidad esperada de largo plazo de la industr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3828960" y="2381400"/>
            <a:ext cx="2266920" cy="21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725796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066680" y="2914560"/>
            <a:ext cx="1619280" cy="68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4181400" y="564840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181400" y="533520"/>
            <a:ext cx="1619280" cy="68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ticip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45"/>
          <p:cNvGrpSpPr/>
          <p:nvPr/>
        </p:nvGrpSpPr>
        <p:grpSpPr>
          <a:xfrm>
            <a:off x="2186280" y="2203560"/>
            <a:ext cx="1675800" cy="1282680"/>
            <a:chOff x="2186280" y="2203560"/>
            <a:chExt cx="1675800" cy="1282680"/>
          </a:xfrm>
        </p:grpSpPr>
        <p:sp>
          <p:nvSpPr>
            <p:cNvPr id="281" name="AutoShape 17"/>
            <p:cNvSpPr/>
            <p:nvPr/>
          </p:nvSpPr>
          <p:spPr>
            <a:xfrm>
              <a:off x="2685960" y="302904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2186280" y="2203560"/>
              <a:ext cx="1675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Provee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43"/>
          <p:cNvGrpSpPr/>
          <p:nvPr/>
        </p:nvGrpSpPr>
        <p:grpSpPr>
          <a:xfrm>
            <a:off x="4268160" y="2666880"/>
            <a:ext cx="1489680" cy="1827720"/>
            <a:chOff x="4268160" y="2666880"/>
            <a:chExt cx="1489680" cy="1827720"/>
          </a:xfrm>
        </p:grpSpPr>
        <p:sp>
          <p:nvSpPr>
            <p:cNvPr id="284" name="AutoShape 15"/>
            <p:cNvSpPr/>
            <p:nvPr/>
          </p:nvSpPr>
          <p:spPr>
            <a:xfrm flipV="1">
              <a:off x="4552920" y="2666880"/>
              <a:ext cx="919080" cy="990720"/>
            </a:xfrm>
            <a:prstGeom prst="pi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33"/>
            <p:cNvSpPr/>
            <p:nvPr/>
          </p:nvSpPr>
          <p:spPr>
            <a:xfrm>
              <a:off x="4268160" y="3701880"/>
              <a:ext cx="14896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Rivalidad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mpet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ct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47"/>
          <p:cNvGrpSpPr/>
          <p:nvPr/>
        </p:nvGrpSpPr>
        <p:grpSpPr>
          <a:xfrm>
            <a:off x="3452040" y="4514760"/>
            <a:ext cx="1777320" cy="1123920"/>
            <a:chOff x="3452040" y="4514760"/>
            <a:chExt cx="1777320" cy="1123920"/>
          </a:xfrm>
        </p:grpSpPr>
        <p:sp>
          <p:nvSpPr>
            <p:cNvPr id="287" name="Rectangle 24"/>
            <p:cNvSpPr/>
            <p:nvPr/>
          </p:nvSpPr>
          <p:spPr>
            <a:xfrm>
              <a:off x="3452040" y="4946760"/>
              <a:ext cx="143964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ustit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39"/>
            <p:cNvSpPr/>
            <p:nvPr/>
          </p:nvSpPr>
          <p:spPr>
            <a:xfrm>
              <a:off x="4772160" y="4514760"/>
              <a:ext cx="457200" cy="1123920"/>
            </a:xfrm>
            <a:prstGeom prst="upArrow">
              <a:avLst>
                <a:gd name="adj1" fmla="val 50000"/>
                <a:gd name="adj2" fmla="val 6145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46"/>
          <p:cNvGrpSpPr/>
          <p:nvPr/>
        </p:nvGrpSpPr>
        <p:grpSpPr>
          <a:xfrm>
            <a:off x="6083280" y="3048120"/>
            <a:ext cx="1812960" cy="1319760"/>
            <a:chOff x="6083280" y="3048120"/>
            <a:chExt cx="1812960" cy="1319760"/>
          </a:xfrm>
        </p:grpSpPr>
        <p:sp>
          <p:nvSpPr>
            <p:cNvPr id="290" name="Rectangle 21"/>
            <p:cNvSpPr/>
            <p:nvPr/>
          </p:nvSpPr>
          <p:spPr>
            <a:xfrm>
              <a:off x="6083280" y="3575160"/>
              <a:ext cx="181296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oder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 Compr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AutoShape 41"/>
            <p:cNvSpPr/>
            <p:nvPr/>
          </p:nvSpPr>
          <p:spPr>
            <a:xfrm>
              <a:off x="6105600" y="3048120"/>
              <a:ext cx="1152360" cy="41904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44"/>
          <p:cNvGrpSpPr/>
          <p:nvPr/>
        </p:nvGrpSpPr>
        <p:grpSpPr>
          <a:xfrm>
            <a:off x="4772160" y="1219320"/>
            <a:ext cx="1744920" cy="1162080"/>
            <a:chOff x="4772160" y="1219320"/>
            <a:chExt cx="1744920" cy="1162080"/>
          </a:xfrm>
        </p:grpSpPr>
        <p:sp>
          <p:nvSpPr>
            <p:cNvPr id="293" name="Rectangle 23"/>
            <p:cNvSpPr/>
            <p:nvPr/>
          </p:nvSpPr>
          <p:spPr>
            <a:xfrm>
              <a:off x="5039280" y="1289160"/>
              <a:ext cx="14778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menaz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ue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rticipa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AutoShape 42"/>
            <p:cNvSpPr/>
            <p:nvPr/>
          </p:nvSpPr>
          <p:spPr>
            <a:xfrm rot="10800000">
              <a:off x="4772160" y="1219320"/>
              <a:ext cx="457200" cy="1162080"/>
            </a:xfrm>
            <a:prstGeom prst="upArrow">
              <a:avLst>
                <a:gd name="adj1" fmla="val 50000"/>
                <a:gd name="adj2" fmla="val 6354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1430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8000"/>
          </a:bodyPr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barreras a la entrada están relacionadas positivamente con el atractivo de la industria. En tanto que las barreras a la salida aumentan la inestabilidad (riesgo) del nego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ent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as las fuerzas son igualmente import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son igualmente impor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todos los factores están en la lista (son una gu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840" indent="0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027"/>
          <p:cNvSpPr/>
          <p:nvPr/>
        </p:nvSpPr>
        <p:spPr>
          <a:xfrm>
            <a:off x="3800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28"/>
          <p:cNvSpPr/>
          <p:nvPr/>
        </p:nvSpPr>
        <p:spPr>
          <a:xfrm>
            <a:off x="6086520" y="22287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alt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29"/>
          <p:cNvSpPr/>
          <p:nvPr/>
        </p:nvSpPr>
        <p:spPr>
          <a:xfrm>
            <a:off x="3800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 y 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30"/>
          <p:cNvSpPr/>
          <p:nvPr/>
        </p:nvSpPr>
        <p:spPr>
          <a:xfrm>
            <a:off x="6086520" y="3143160"/>
            <a:ext cx="2286000" cy="9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ntabilidad baj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o proba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33"/>
          <p:cNvSpPr/>
          <p:nvPr/>
        </p:nvSpPr>
        <p:spPr>
          <a:xfrm>
            <a:off x="1142280" y="2867040"/>
            <a:ext cx="1349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34"/>
          <p:cNvSpPr/>
          <p:nvPr/>
        </p:nvSpPr>
        <p:spPr>
          <a:xfrm>
            <a:off x="2533680" y="2523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35"/>
          <p:cNvSpPr/>
          <p:nvPr/>
        </p:nvSpPr>
        <p:spPr>
          <a:xfrm>
            <a:off x="2571840" y="345744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36"/>
          <p:cNvSpPr/>
          <p:nvPr/>
        </p:nvSpPr>
        <p:spPr>
          <a:xfrm>
            <a:off x="5410800" y="1228680"/>
            <a:ext cx="1155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e sa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37"/>
          <p:cNvSpPr/>
          <p:nvPr/>
        </p:nvSpPr>
        <p:spPr>
          <a:xfrm>
            <a:off x="6553080" y="1704960"/>
            <a:ext cx="115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v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038"/>
          <p:cNvSpPr/>
          <p:nvPr/>
        </p:nvSpPr>
        <p:spPr>
          <a:xfrm>
            <a:off x="4629240" y="1743120"/>
            <a:ext cx="7902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04800" y="609480"/>
            <a:ext cx="6229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oyectos y sistema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09800" y="175248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ores e 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467320" y="1733400"/>
            <a:ext cx="2666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695760" y="3314880"/>
            <a:ext cx="2324160" cy="2133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095720" y="3867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stema Produ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238400" y="24573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238400" y="2838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238400" y="323856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276200" y="363852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295280" y="4038480"/>
            <a:ext cx="19080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31436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1333440" y="53532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333440" y="49150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333440" y="58104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6838920" y="325764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6877080" y="3867120"/>
            <a:ext cx="190440" cy="2858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1333440" y="626760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19"/>
          <p:cNvSpPr/>
          <p:nvPr/>
        </p:nvSpPr>
        <p:spPr>
          <a:xfrm>
            <a:off x="6953400" y="4457880"/>
            <a:ext cx="190440" cy="2854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1410840" y="2333520"/>
            <a:ext cx="1598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1562400" y="2771640"/>
            <a:ext cx="1442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7241040" y="3781440"/>
            <a:ext cx="133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22880" y="3152880"/>
            <a:ext cx="657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 +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7202160" y="3133800"/>
            <a:ext cx="141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1582200" y="3571920"/>
            <a:ext cx="1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s pr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1622520" y="3971880"/>
            <a:ext cx="97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7"/>
          <p:cNvSpPr/>
          <p:nvPr/>
        </p:nvSpPr>
        <p:spPr>
          <a:xfrm>
            <a:off x="1602720" y="441000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1583640" y="4867200"/>
            <a:ext cx="108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rr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9"/>
          <p:cNvSpPr/>
          <p:nvPr/>
        </p:nvSpPr>
        <p:spPr>
          <a:xfrm>
            <a:off x="1640880" y="5286240"/>
            <a:ext cx="101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0"/>
          <p:cNvSpPr/>
          <p:nvPr/>
        </p:nvSpPr>
        <p:spPr>
          <a:xfrm>
            <a:off x="1641240" y="5819760"/>
            <a:ext cx="133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xis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31"/>
          <p:cNvSpPr/>
          <p:nvPr/>
        </p:nvSpPr>
        <p:spPr>
          <a:xfrm>
            <a:off x="1699560" y="6143760"/>
            <a:ext cx="913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7393680" y="4390920"/>
            <a:ext cx="112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3067200" y="2571840"/>
            <a:ext cx="12571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5"/>
          <p:cNvSpPr/>
          <p:nvPr/>
        </p:nvSpPr>
        <p:spPr>
          <a:xfrm>
            <a:off x="3067200" y="3105000"/>
            <a:ext cx="100944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2666880" y="3448080"/>
            <a:ext cx="1067040" cy="13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7"/>
          <p:cNvSpPr/>
          <p:nvPr/>
        </p:nvSpPr>
        <p:spPr>
          <a:xfrm>
            <a:off x="3390840" y="3886200"/>
            <a:ext cx="3049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8"/>
          <p:cNvSpPr/>
          <p:nvPr/>
        </p:nvSpPr>
        <p:spPr>
          <a:xfrm>
            <a:off x="2762280" y="4286160"/>
            <a:ext cx="723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9"/>
          <p:cNvSpPr/>
          <p:nvPr/>
        </p:nvSpPr>
        <p:spPr>
          <a:xfrm flipV="1">
            <a:off x="2819520" y="4590720"/>
            <a:ext cx="7426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1"/>
          <p:cNvSpPr/>
          <p:nvPr/>
        </p:nvSpPr>
        <p:spPr>
          <a:xfrm flipV="1">
            <a:off x="2705040" y="5028840"/>
            <a:ext cx="914400" cy="190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42"/>
          <p:cNvSpPr/>
          <p:nvPr/>
        </p:nvSpPr>
        <p:spPr>
          <a:xfrm flipV="1">
            <a:off x="2743200" y="5314680"/>
            <a:ext cx="971640" cy="36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3"/>
          <p:cNvSpPr/>
          <p:nvPr/>
        </p:nvSpPr>
        <p:spPr>
          <a:xfrm flipV="1">
            <a:off x="3029040" y="5543280"/>
            <a:ext cx="95256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V="1">
            <a:off x="3238560" y="5753160"/>
            <a:ext cx="857160" cy="66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 flipV="1">
            <a:off x="6000840" y="3390840"/>
            <a:ext cx="857160" cy="28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6"/>
          <p:cNvSpPr/>
          <p:nvPr/>
        </p:nvSpPr>
        <p:spPr>
          <a:xfrm flipV="1">
            <a:off x="6153120" y="4114440"/>
            <a:ext cx="628560" cy="9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6229440" y="4629240"/>
            <a:ext cx="666720" cy="57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9480"/>
            <a:ext cx="84549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trabajo pionero de Porter (o la matriz del BCS) comienza a ser cuestionado después de un tiemp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factores determinantes de la rentabilidad tendrían que ver más con factores propios de cada empresa (más que con la industr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opio Porter y otros desarrollan el modelo de la cadena de valor ¿de qué depende el valor creado? (El diagnóstico favorable.i.e.,la oportunidad de hacer un proyec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co se traslada de la industria a la compañía (y de los productos a los client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3000" y="94284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nálisis del Medio Inter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análisis del medio interno intenta identificar el conjunto de factores que determina la posición competitiva que va a adoptar el negocio a fin de obtene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para realizar el análisis 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r los competidores releva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nalizar las capacidades que la firma puede controlar y en las que tiene que sobresalir para lograr una ventaja competitiva sosten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un perfil competitivo midiendo fortalezas y debilidades del negocio frente a cada uno de los competidores de mayor importa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-225720">
              <a:lnSpc>
                <a:spcPct val="75000"/>
              </a:lnSpc>
              <a:buClr>
                <a:srgbClr val="ffcc00"/>
              </a:buClr>
              <a:buFont typeface="Monotype Sorts" charset="2"/>
              <a:buChar char="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en de las fortalezas y debilidades gener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nálisis de las Capacidades de la Fir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requiere de conocer las actividades de la firma que otorgan valor y separalas en etapas estratégicamente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metodología utilizada es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28720" indent="0">
              <a:lnSpc>
                <a:spcPct val="7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7020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3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y dos grupos de actividades: las primarias y las de apoy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Primari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In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cepción, almacenaje, manejo de materiales, bodegaje, control de inventario, programación de vehículos y devolución a provee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Opera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transformación de los insumos en el producto/servicio final. Producción, embalaje, montaje, mantenimiento, control de calidad, reemplazo de equip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Logística Exter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istribución del producto terminado. Almacenaje de productos terminados, operación de vehículos de despacho, procesamiento y programación de pedi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rketing y Venta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inducir y facilitar el proceso de compra a los clientes. Diseño de producto, selección y relación con canales de distribución, determinación de precios, apoyo publicitario, cotizaciones, política de descuentos y despach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143000" y="172728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Servici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antener o acrecentar el valor del producto después de la venta. Instalación, reparación, entrenamiento, suministro de repuestos y ajustes del produc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Actividades de Apoy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Adquisicion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mpra de materias primas, suministros y otros í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Desarrollo de Tecnologí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nocimiento experto, procedimientos e insumos tecnológicos que precise cada actividad de la cadena del val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ejo de Recursos Human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selección, promoción y colocación; evaluación, recompensas, desarrollo administrativo y relación accionistas(dueños) / ejecutivos / emple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Infraestructura de la Firm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gestión general, planificación, finanzas, manejo contable, legal, asuntos de gobierno y gestión de 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143000" y="4604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dena del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507672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374328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0984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1076400" y="3828960"/>
            <a:ext cx="1333440" cy="2745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63"/>
          <p:cNvGrpSpPr/>
          <p:nvPr/>
        </p:nvGrpSpPr>
        <p:grpSpPr>
          <a:xfrm>
            <a:off x="6408720" y="3836880"/>
            <a:ext cx="2189160" cy="2733840"/>
            <a:chOff x="6408720" y="3836880"/>
            <a:chExt cx="2189160" cy="2733840"/>
          </a:xfrm>
        </p:grpSpPr>
        <p:sp>
          <p:nvSpPr>
            <p:cNvPr id="316" name="Line 18"/>
            <p:cNvSpPr/>
            <p:nvPr/>
          </p:nvSpPr>
          <p:spPr>
            <a:xfrm flipV="1">
              <a:off x="7746840" y="3836880"/>
              <a:ext cx="851040" cy="273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2"/>
            <p:cNvSpPr/>
            <p:nvPr/>
          </p:nvSpPr>
          <p:spPr>
            <a:xfrm>
              <a:off x="6408720" y="6570720"/>
              <a:ext cx="1349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6734520" y="5103720"/>
              <a:ext cx="97020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erv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62"/>
          <p:cNvGrpSpPr/>
          <p:nvPr/>
        </p:nvGrpSpPr>
        <p:grpSpPr>
          <a:xfrm>
            <a:off x="1076400" y="1084320"/>
            <a:ext cx="6657840" cy="696960"/>
            <a:chOff x="1076400" y="1084320"/>
            <a:chExt cx="6657840" cy="696960"/>
          </a:xfrm>
        </p:grpSpPr>
        <p:sp>
          <p:nvSpPr>
            <p:cNvPr id="320" name="Rectangle 42"/>
            <p:cNvSpPr/>
            <p:nvPr/>
          </p:nvSpPr>
          <p:spPr>
            <a:xfrm>
              <a:off x="3066480" y="1212840"/>
              <a:ext cx="28965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raestructura de la 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3"/>
            <p:cNvSpPr/>
            <p:nvPr/>
          </p:nvSpPr>
          <p:spPr>
            <a:xfrm flipV="1">
              <a:off x="1076400" y="1084320"/>
              <a:ext cx="0" cy="696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4"/>
            <p:cNvSpPr/>
            <p:nvPr/>
          </p:nvSpPr>
          <p:spPr>
            <a:xfrm>
              <a:off x="1076400" y="1085760"/>
              <a:ext cx="6657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61"/>
          <p:cNvGrpSpPr/>
          <p:nvPr/>
        </p:nvGrpSpPr>
        <p:grpSpPr>
          <a:xfrm>
            <a:off x="1076400" y="1770120"/>
            <a:ext cx="6877080" cy="696960"/>
            <a:chOff x="1076400" y="1770120"/>
            <a:chExt cx="6877080" cy="696960"/>
          </a:xfrm>
        </p:grpSpPr>
        <p:sp>
          <p:nvSpPr>
            <p:cNvPr id="324" name="Line 36"/>
            <p:cNvSpPr/>
            <p:nvPr/>
          </p:nvSpPr>
          <p:spPr>
            <a:xfrm>
              <a:off x="6410520" y="1771560"/>
              <a:ext cx="1542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45"/>
            <p:cNvSpPr/>
            <p:nvPr/>
          </p:nvSpPr>
          <p:spPr>
            <a:xfrm>
              <a:off x="2858760" y="1898640"/>
              <a:ext cx="31600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Manejo de Recursos Human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49"/>
            <p:cNvGrpSpPr/>
            <p:nvPr/>
          </p:nvGrpSpPr>
          <p:grpSpPr>
            <a:xfrm>
              <a:off x="1076400" y="1770120"/>
              <a:ext cx="5343840" cy="696960"/>
              <a:chOff x="1076400" y="1770120"/>
              <a:chExt cx="5343840" cy="696960"/>
            </a:xfrm>
          </p:grpSpPr>
          <p:sp>
            <p:nvSpPr>
              <p:cNvPr id="327" name="Line 50"/>
              <p:cNvSpPr/>
              <p:nvPr/>
            </p:nvSpPr>
            <p:spPr>
              <a:xfrm flipV="1">
                <a:off x="1076400" y="17701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51"/>
              <p:cNvSpPr/>
              <p:nvPr/>
            </p:nvSpPr>
            <p:spPr>
              <a:xfrm>
                <a:off x="1076400" y="17715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Group 60"/>
          <p:cNvGrpSpPr/>
          <p:nvPr/>
        </p:nvGrpSpPr>
        <p:grpSpPr>
          <a:xfrm>
            <a:off x="1076400" y="2455920"/>
            <a:ext cx="7105680" cy="696960"/>
            <a:chOff x="1076400" y="2455920"/>
            <a:chExt cx="7105680" cy="696960"/>
          </a:xfrm>
        </p:grpSpPr>
        <p:sp>
          <p:nvSpPr>
            <p:cNvPr id="330" name="Line 35"/>
            <p:cNvSpPr/>
            <p:nvPr/>
          </p:nvSpPr>
          <p:spPr>
            <a:xfrm>
              <a:off x="6410520" y="2457360"/>
              <a:ext cx="1771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6"/>
            <p:cNvSpPr/>
            <p:nvPr/>
          </p:nvSpPr>
          <p:spPr>
            <a:xfrm>
              <a:off x="3238200" y="2546280"/>
              <a:ext cx="2623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Desarrollo de Tecnolog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Group 52"/>
            <p:cNvGrpSpPr/>
            <p:nvPr/>
          </p:nvGrpSpPr>
          <p:grpSpPr>
            <a:xfrm>
              <a:off x="1076400" y="2455920"/>
              <a:ext cx="5343840" cy="696960"/>
              <a:chOff x="1076400" y="2455920"/>
              <a:chExt cx="5343840" cy="696960"/>
            </a:xfrm>
          </p:grpSpPr>
          <p:sp>
            <p:nvSpPr>
              <p:cNvPr id="333" name="Line 53"/>
              <p:cNvSpPr/>
              <p:nvPr/>
            </p:nvSpPr>
            <p:spPr>
              <a:xfrm flipV="1">
                <a:off x="1076400" y="24559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Line 54"/>
              <p:cNvSpPr/>
              <p:nvPr/>
            </p:nvSpPr>
            <p:spPr>
              <a:xfrm>
                <a:off x="1076400" y="2457360"/>
                <a:ext cx="534384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59"/>
          <p:cNvGrpSpPr/>
          <p:nvPr/>
        </p:nvGrpSpPr>
        <p:grpSpPr>
          <a:xfrm>
            <a:off x="1076400" y="3141720"/>
            <a:ext cx="7524360" cy="696960"/>
            <a:chOff x="1076400" y="3141720"/>
            <a:chExt cx="7524360" cy="696960"/>
          </a:xfrm>
        </p:grpSpPr>
        <p:sp>
          <p:nvSpPr>
            <p:cNvPr id="336" name="Line 33"/>
            <p:cNvSpPr/>
            <p:nvPr/>
          </p:nvSpPr>
          <p:spPr>
            <a:xfrm>
              <a:off x="6410160" y="3828960"/>
              <a:ext cx="2190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410160" y="3143160"/>
              <a:ext cx="196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7"/>
            <p:cNvSpPr/>
            <p:nvPr/>
          </p:nvSpPr>
          <p:spPr>
            <a:xfrm>
              <a:off x="3678480" y="3251160"/>
              <a:ext cx="15386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55"/>
            <p:cNvGrpSpPr/>
            <p:nvPr/>
          </p:nvGrpSpPr>
          <p:grpSpPr>
            <a:xfrm>
              <a:off x="1076400" y="3141720"/>
              <a:ext cx="5343480" cy="696960"/>
              <a:chOff x="1076400" y="3141720"/>
              <a:chExt cx="5343480" cy="696960"/>
            </a:xfrm>
          </p:grpSpPr>
          <p:sp>
            <p:nvSpPr>
              <p:cNvPr id="340" name="Line 56"/>
              <p:cNvSpPr/>
              <p:nvPr/>
            </p:nvSpPr>
            <p:spPr>
              <a:xfrm flipV="1">
                <a:off x="1076400" y="3141720"/>
                <a:ext cx="0" cy="696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7"/>
              <p:cNvSpPr/>
              <p:nvPr/>
            </p:nvSpPr>
            <p:spPr>
              <a:xfrm>
                <a:off x="1076400" y="3143160"/>
                <a:ext cx="53434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just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67"/>
          <p:cNvGrpSpPr/>
          <p:nvPr/>
        </p:nvGrpSpPr>
        <p:grpSpPr>
          <a:xfrm>
            <a:off x="2409840" y="1771200"/>
            <a:ext cx="4000320" cy="2057760"/>
            <a:chOff x="2409840" y="1771200"/>
            <a:chExt cx="4000320" cy="2057760"/>
          </a:xfrm>
        </p:grpSpPr>
        <p:sp>
          <p:nvSpPr>
            <p:cNvPr id="343" name="Line 37"/>
            <p:cNvSpPr/>
            <p:nvPr/>
          </p:nvSpPr>
          <p:spPr>
            <a:xfrm flipV="1">
              <a:off x="507672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8"/>
            <p:cNvSpPr/>
            <p:nvPr/>
          </p:nvSpPr>
          <p:spPr>
            <a:xfrm flipV="1">
              <a:off x="374328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39"/>
            <p:cNvSpPr/>
            <p:nvPr/>
          </p:nvSpPr>
          <p:spPr>
            <a:xfrm flipV="1">
              <a:off x="2409840" y="1781280"/>
              <a:ext cx="0" cy="204768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8"/>
            <p:cNvSpPr/>
            <p:nvPr/>
          </p:nvSpPr>
          <p:spPr>
            <a:xfrm flipV="1">
              <a:off x="6410160" y="1771200"/>
              <a:ext cx="0" cy="20480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65"/>
          <p:cNvGrpSpPr/>
          <p:nvPr/>
        </p:nvGrpSpPr>
        <p:grpSpPr>
          <a:xfrm>
            <a:off x="7734240" y="1085760"/>
            <a:ext cx="1190520" cy="5486400"/>
            <a:chOff x="7734240" y="1085760"/>
            <a:chExt cx="1190520" cy="5486400"/>
          </a:xfrm>
        </p:grpSpPr>
        <p:sp>
          <p:nvSpPr>
            <p:cNvPr id="348" name="Line 19"/>
            <p:cNvSpPr/>
            <p:nvPr/>
          </p:nvSpPr>
          <p:spPr>
            <a:xfrm flipV="1">
              <a:off x="8072280" y="3827160"/>
              <a:ext cx="851040" cy="273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7753320" y="108576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8076960" y="1095480"/>
              <a:ext cx="84780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31"/>
            <p:cNvSpPr/>
            <p:nvPr/>
          </p:nvSpPr>
          <p:spPr>
            <a:xfrm>
              <a:off x="7734240" y="10857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64"/>
            <p:cNvSpPr/>
            <p:nvPr/>
          </p:nvSpPr>
          <p:spPr>
            <a:xfrm>
              <a:off x="7753320" y="6572160"/>
              <a:ext cx="352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AP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Tecnología?, ¿operaciones?: Se consideraron alguna vez como fuente de ventajas competi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son pre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requiere cada vez más: Flexibilidad ante el cambio (fuente de ventaj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éxito de ayer no es garantía de éxito en el futuro, por el contrario, parece desventaja e impedimento a la innov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Ventajas competitiv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ack Welch, CEO de General Electri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que fue la clave del éxito en los 70, es una receta para marcar el paso en los 80 y un boleto para el cementerio en los 90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oy no podemos hablar de buenas o malas insdustrias (v.g. El “Análisis estructural de los sectores industriales” de los primeros trabajos de Porter) sino de buenas o malas empre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032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1043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40" name="AutoShape 1027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AutoShape 1028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1029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AutoShape 1030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bje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33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037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047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47" name="AutoShape 1031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ltern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1038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AutoShape 1045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46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oriz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9"/>
          <p:cNvSpPr/>
          <p:nvPr/>
        </p:nvSpPr>
        <p:spPr>
          <a:xfrm>
            <a:off x="4309560" y="-68400"/>
            <a:ext cx="4089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proceso de to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 deci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51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52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053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54"/>
          <p:cNvSpPr/>
          <p:nvPr/>
        </p:nvSpPr>
        <p:spPr>
          <a:xfrm>
            <a:off x="4553280" y="5730840"/>
            <a:ext cx="2774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gro 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56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57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059"/>
          <p:cNvSpPr/>
          <p:nvPr/>
        </p:nvSpPr>
        <p:spPr>
          <a:xfrm>
            <a:off x="3486240" y="3124080"/>
            <a:ext cx="914400" cy="1809720"/>
          </a:xfrm>
          <a:custGeom>
            <a:avLst/>
            <a:gdLst>
              <a:gd name="textAreaLeft" fmla="*/ 0 w 914400"/>
              <a:gd name="textAreaRight" fmla="*/ 330120 w 914400"/>
              <a:gd name="textAreaTop" fmla="*/ 47160 h 1809720"/>
              <a:gd name="textAreaBottom" fmla="*/ 176256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0"/>
          <p:cNvSpPr/>
          <p:nvPr/>
        </p:nvSpPr>
        <p:spPr>
          <a:xfrm>
            <a:off x="4608360" y="3701880"/>
            <a:ext cx="434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terios coherentes con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43000" y="85716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4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borda en forma explícita el problema de la asignación de recursos escasos en forma óptim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comienda al tomador de decisiones, a través de distintas metodologías, para determinar la conveniencia relativa de una acción o un proyec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562040" y="35812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524400" y="3562200"/>
            <a:ext cx="53337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5"/>
          <p:cNvGrpSpPr/>
          <p:nvPr/>
        </p:nvGrpSpPr>
        <p:grpSpPr>
          <a:xfrm>
            <a:off x="1467000" y="704880"/>
            <a:ext cx="7315200" cy="1390680"/>
            <a:chOff x="1467000" y="704880"/>
            <a:chExt cx="7315200" cy="1390680"/>
          </a:xfrm>
        </p:grpSpPr>
        <p:sp>
          <p:nvSpPr>
            <p:cNvPr id="165" name="AutoShape 6"/>
            <p:cNvSpPr/>
            <p:nvPr/>
          </p:nvSpPr>
          <p:spPr>
            <a:xfrm>
              <a:off x="3219480" y="933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utoShape 7"/>
            <p:cNvSpPr/>
            <p:nvPr/>
          </p:nvSpPr>
          <p:spPr>
            <a:xfrm>
              <a:off x="3600360" y="933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8"/>
            <p:cNvSpPr/>
            <p:nvPr/>
          </p:nvSpPr>
          <p:spPr>
            <a:xfrm>
              <a:off x="3295800" y="857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9"/>
            <p:cNvSpPr/>
            <p:nvPr/>
          </p:nvSpPr>
          <p:spPr>
            <a:xfrm>
              <a:off x="1467000" y="762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einver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0"/>
            <p:cNvSpPr/>
            <p:nvPr/>
          </p:nvSpPr>
          <p:spPr>
            <a:xfrm>
              <a:off x="3524400" y="704880"/>
              <a:ext cx="5257800" cy="12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e prepara y evalúa el proyecto de manera de obtener de él, el máximo excedente económico  a lo largo de su vida útil, realizando para esto estudios de mercado, técnicos, económicos, financieros y otr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1"/>
            <p:cNvSpPr/>
            <p:nvPr/>
          </p:nvSpPr>
          <p:spPr>
            <a:xfrm>
              <a:off x="2076480" y="1486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2"/>
          <p:cNvSpPr/>
          <p:nvPr/>
        </p:nvSpPr>
        <p:spPr>
          <a:xfrm>
            <a:off x="1447920" y="21906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505320" y="2133720"/>
            <a:ext cx="52578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2114640" y="2952720"/>
            <a:ext cx="533160" cy="609480"/>
          </a:xfrm>
          <a:prstGeom prst="downArrow">
            <a:avLst>
              <a:gd name="adj1" fmla="val 50000"/>
              <a:gd name="adj2" fmla="val 28579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70240" y="44280"/>
            <a:ext cx="3094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Ciclo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43000" y="39996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entifica, mide y valoriza, cuantitativa y cualitativamente, los beneficios y costos para la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-10476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a inversión será rentable si permite un aumento mayor en la riqueza que el que se podría obtener utilizando los recursos en otras inversiones altern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5 Etapas de la Evaluación de Proye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lección de los mejores proyectos de inversión, es decir, los de mayor conveniencia relativa (evaluación) y hacia los cuales deben destinarse preferentemente los recursos disponibles, constituye un proceso que sigue las siguientes etapas iter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 algn="just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93680" indent="0">
              <a:lnSpc>
                <a:spcPct val="75000"/>
              </a:lnSpc>
              <a:buNone/>
              <a:tabLst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09680" y="4057560"/>
            <a:ext cx="5791320" cy="685800"/>
            <a:chOff x="2209680" y="4057560"/>
            <a:chExt cx="5791320" cy="685800"/>
          </a:xfrm>
        </p:grpSpPr>
        <p:sp>
          <p:nvSpPr>
            <p:cNvPr id="177" name="AutoShape 4"/>
            <p:cNvSpPr/>
            <p:nvPr/>
          </p:nvSpPr>
          <p:spPr>
            <a:xfrm>
              <a:off x="2209680" y="40575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Generación y Análisis de la idea del proyec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4800600" y="45147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6"/>
          <p:cNvGrpSpPr/>
          <p:nvPr/>
        </p:nvGrpSpPr>
        <p:grpSpPr>
          <a:xfrm>
            <a:off x="2209680" y="4743360"/>
            <a:ext cx="5791320" cy="685800"/>
            <a:chOff x="2209680" y="4743360"/>
            <a:chExt cx="5791320" cy="685800"/>
          </a:xfrm>
        </p:grpSpPr>
        <p:sp>
          <p:nvSpPr>
            <p:cNvPr id="180" name="AutoShape 7"/>
            <p:cNvSpPr/>
            <p:nvPr/>
          </p:nvSpPr>
          <p:spPr>
            <a:xfrm>
              <a:off x="2209680" y="47433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en el Nivel de 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4800600" y="52005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AutoShape 9"/>
          <p:cNvSpPr/>
          <p:nvPr/>
        </p:nvSpPr>
        <p:spPr>
          <a:xfrm>
            <a:off x="2209680" y="6114960"/>
            <a:ext cx="5791320" cy="457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 de 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2209680" y="5429160"/>
            <a:ext cx="5791320" cy="685800"/>
            <a:chOff x="2209680" y="5429160"/>
            <a:chExt cx="5791320" cy="685800"/>
          </a:xfrm>
        </p:grpSpPr>
        <p:sp>
          <p:nvSpPr>
            <p:cNvPr id="184" name="AutoShape 11"/>
            <p:cNvSpPr/>
            <p:nvPr/>
          </p:nvSpPr>
          <p:spPr>
            <a:xfrm>
              <a:off x="2209680" y="5429160"/>
              <a:ext cx="5791320" cy="45720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studio de prefacti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4800600" y="5886360"/>
              <a:ext cx="38088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PA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189" name="AutoShape 5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6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AutoShape 8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0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1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196" name="AutoShape 12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AutoShape 13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AutoShape 14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8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9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1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443952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4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2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rc 6"/>
          <p:cNvSpPr/>
          <p:nvPr/>
        </p:nvSpPr>
        <p:spPr>
          <a:xfrm flipH="1">
            <a:off x="1637640" y="2666880"/>
            <a:ext cx="152388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rc 7"/>
          <p:cNvSpPr/>
          <p:nvPr/>
        </p:nvSpPr>
        <p:spPr>
          <a:xfrm flipH="1">
            <a:off x="3124080" y="177156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rc 8"/>
          <p:cNvSpPr/>
          <p:nvPr/>
        </p:nvSpPr>
        <p:spPr>
          <a:xfrm flipH="1">
            <a:off x="4743360" y="914400"/>
            <a:ext cx="1524240" cy="800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rc 9"/>
          <p:cNvSpPr/>
          <p:nvPr/>
        </p:nvSpPr>
        <p:spPr>
          <a:xfrm flipH="1">
            <a:off x="6400080" y="57240"/>
            <a:ext cx="1523880" cy="799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1066680" y="6667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/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162080" y="3753000"/>
            <a:ext cx="2019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rado de Incertid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4781520" y="628560"/>
            <a:ext cx="135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5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8039160" y="636264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29"/>
          <p:cNvSpPr/>
          <p:nvPr/>
        </p:nvSpPr>
        <p:spPr>
          <a:xfrm>
            <a:off x="1714680" y="4133880"/>
            <a:ext cx="140940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rc 30"/>
          <p:cNvSpPr/>
          <p:nvPr/>
        </p:nvSpPr>
        <p:spPr>
          <a:xfrm>
            <a:off x="3124080" y="4686480"/>
            <a:ext cx="140976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rc 31"/>
          <p:cNvSpPr/>
          <p:nvPr/>
        </p:nvSpPr>
        <p:spPr>
          <a:xfrm>
            <a:off x="4667400" y="5295960"/>
            <a:ext cx="1619280" cy="552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rc 34"/>
          <p:cNvSpPr/>
          <p:nvPr/>
        </p:nvSpPr>
        <p:spPr>
          <a:xfrm>
            <a:off x="6305400" y="5867280"/>
            <a:ext cx="1810080" cy="133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5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Umbral de lo previ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1919160"/>
            <a:ext cx="7772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una de ellas busca reproducir el ciclo de vida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algn="just">
              <a:lnSpc>
                <a:spcPct val="75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8920" indent="0" algn="just">
              <a:lnSpc>
                <a:spcPct val="7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2T06:30:40Z</dcterms:created>
  <dc:creator>Eduardo Contreras</dc:creator>
  <dc:description/>
  <dc:language>en-US</dc:language>
  <cp:lastModifiedBy>Eduardo Contreras Villablanca</cp:lastModifiedBy>
  <cp:lastPrinted>1998-09-30T04:31:26Z</cp:lastPrinted>
  <dcterms:modified xsi:type="dcterms:W3CDTF">2009-03-10T00:43:02Z</dcterms:modified>
  <cp:revision>170</cp:revision>
  <dc:subject/>
  <dc:title>Evaluación de Proyectos</dc:title>
</cp:coreProperties>
</file>