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21A5-D8E7-47E8-B60F-CB7B559320E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5049-C288-4CB2-8EED-DA54D7F9632F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1BB3-661A-4FBE-87D4-422F0F518607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20D8-0A5C-40C1-9162-082B4F3C7155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B2B7-CDB7-4F69-8D9A-E535A004CAB6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9B5B-00A2-4A30-92B0-F6A0943F1485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333A-956A-4978-A804-2EA2D093A66D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BAD0D-E014-4D6E-8A29-83A4589C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89865-F1BD-49CF-807A-CDD9897B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4B8D9-E6DD-407B-BAC1-3DB5EB84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A5D40-AC71-4156-BCB4-5A121578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A0054-1929-464F-99AF-DD72282B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E5028-B5C4-438F-A834-A7FAF3ED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7B9D8-2B4B-4437-9B34-515D694F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5765C-B9B5-4782-A275-F9BFEE24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32A1E-9C82-4BC7-8977-15A9E2FF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E1A75-2967-4B53-91E2-D7E298D3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83FC2-D45B-481C-BDC6-D05AF648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B1BCE-53CB-4BCF-90EA-329841E4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2608-841B-46FA-98BF-6BB1F2192224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stimar beneficios y costos relevantes en un proyecto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777708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ormulación de Proyect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máticas Financie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aboración del Flujo de Caja Priv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Evalu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ptimiz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de Proyectos bajo Incertidumbr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Social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 clases de cátedra semanale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realizarán  sólo 2 clases auxiliares (una antes de cada control); el resto de las aplicaciones se verán durante las clases de cátedr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horario de clase auxiliar se realizarán los controles y posiblemente alguna actividad extr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ecturas y estudio clase a clase. 7 contro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rea: una integral a lo largo del semestre (con varios entregables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udio de Casos (2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058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 (4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2 controles y un examen. Controles en semanas 7 y 13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Tareas (25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1 tarea integral (con varios entregables) durante el semestr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es de Lectura (25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se realizarán 7 controles de lectura cortos y se elimina una nota (cualquiera excepto el CL7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de Casos (1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se realizarán 2 casos durante el semestr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2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5,5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Tarea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es de Lectura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aso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ximi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09-03-10T00:35:08Z</dcterms:modified>
  <cp:revision>357</cp:revision>
  <dc:subject/>
  <dc:title>Formulación de Proyectos</dc:title>
</cp:coreProperties>
</file>