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move the slide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22DD7-516E-4737-8B2D-43AECAEDAFB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33A70-1B36-42D6-A7BC-0F16FE4331EC}" type="slidenum">
              <a:rPr b="0" lang="es-ES_tradnl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E5A40-6616-40E6-AED6-50B1B174C086}" type="slidenum">
              <a:rPr b="0" lang="es-ES_tradnl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55600" y="682560"/>
            <a:ext cx="4548240" cy="341172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BCC54-5C9B-46AF-99E5-6728FD6A23F5}" type="slidenum">
              <a:rPr b="0" lang="es-ES_tradnl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55600" y="682560"/>
            <a:ext cx="4548240" cy="341172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E8C82-33F9-48D0-9C61-629F0D9F61C4}" type="slidenum">
              <a:rPr b="0" lang="es-ES_tradnl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55600" y="682560"/>
            <a:ext cx="4548240" cy="341172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6B52C-CAD0-4B65-8676-25DB7523BE13}" type="slidenum">
              <a:rPr b="0" lang="es-ES_tradnl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55600" y="682560"/>
            <a:ext cx="4548240" cy="341172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1B2B7-6BD4-4C81-8CDC-4FE6B7562000}" type="slidenum">
              <a:rPr b="0" lang="es-ES_tradnl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55600" y="682560"/>
            <a:ext cx="4548240" cy="341172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FABC79-CE02-499B-9CDA-18B1A7CCA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2E8A15-60D1-49AC-AB42-6E166B6E7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85B288-28C7-4386-B8AC-8ED8A48F2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3A3695-1A0B-4952-B3FC-C487CA4F2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C77E13-444A-427A-8BA7-8BDB70228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88420E-BAF5-4BB1-A860-E41864CA4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AD731F-92A5-4C67-A5CC-BD69F9C9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49B374-94AC-4909-853E-5CC8FC0C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4F169C-64BC-4379-9A5C-B1099CB7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8D2357-F78E-40B1-87D1-01EE81114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12034C-7B37-4631-9EC8-062AB0129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B8AF84-5BD9-40CC-B7AF-137A19582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16DD1-1B2D-4F03-A2FF-7EA3628E97CB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2A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Evaluación de Proyecto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94920" y="1267920"/>
            <a:ext cx="84978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l finalizar el curso los alumnos serán capaces de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spcBef>
                <a:spcPts val="67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4d4d4d"/>
                </a:solidFill>
                <a:latin typeface="Verdana"/>
              </a:rPr>
              <a:t>Estimar beneficios y costos relevantes en un proyecto.</a:t>
            </a: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spcBef>
                <a:spcPts val="67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4d4d4d"/>
                </a:solidFill>
                <a:latin typeface="Verdana"/>
              </a:rPr>
              <a:t>Formular, preparar y evaluar proyectos de inversión y nuevos negocios en el marco de una economía de mercado. </a:t>
            </a: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spcBef>
                <a:spcPts val="67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4d4d4d"/>
                </a:solidFill>
                <a:latin typeface="Verdana"/>
              </a:rPr>
              <a:t>Elaborar recomendaciones fundadas sobre los proyectos que evalúen, apoyando la toma de decisiones de inversión.</a:t>
            </a: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  <a:p>
            <a:pPr marL="469800" indent="0" algn="just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Objetivo General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10920" y="1267920"/>
            <a:ext cx="777708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90000"/>
              </a:lnSpc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Formulación de Proyect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Matemáticas Financiera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laboración del Flujo de Caja Privad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Indicadores de Evaluación de Proyect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Optimización de Proyect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valuación de Proyectos bajo Incertidumbr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valuación Social de Proyect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ontenido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39280" y="1125000"/>
            <a:ext cx="8137800" cy="45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4d4d4d"/>
                </a:solidFill>
                <a:latin typeface="Verdana"/>
              </a:rPr>
              <a:t>Docentes:</a:t>
            </a:r>
            <a:endParaRPr b="0" lang="en-US" sz="33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2 clases de cátedra semanales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realizarán  sólo 2 clases auxiliares (una antes de cada control); el resto de las aplicaciones se verán durante las clases de cátedra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n horario de clase auxiliar se realizarán los controles y posiblemente alguna actividad extra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ctividade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39280" y="1125000"/>
            <a:ext cx="8137800" cy="45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4d4d4d"/>
                </a:solidFill>
                <a:latin typeface="Verdana"/>
              </a:rPr>
              <a:t>Trabajo Personal y Grupal</a:t>
            </a:r>
            <a:endParaRPr b="0" lang="en-US" sz="33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ecturas y estudio clase a clase. 7 controle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area: una integral a lo largo del semestre (con varios entregables)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studio de Casos (2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ctividade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10920" y="1268280"/>
            <a:ext cx="770580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90000"/>
              </a:lnSpc>
              <a:spcBef>
                <a:spcPts val="10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4d4d4d"/>
                </a:solidFill>
                <a:latin typeface="Verdana"/>
              </a:rPr>
              <a:t>Nota Control (40%):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2 controles y un examen. Controles en semanas 7 y 13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10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4d4d4d"/>
                </a:solidFill>
                <a:latin typeface="Verdana"/>
              </a:rPr>
              <a:t>Nota Tareas (25%):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1 tarea integral (con varios entregables) durante el semestre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4d4d4d"/>
                </a:solidFill>
                <a:latin typeface="Verdana"/>
              </a:rPr>
              <a:t>Nota Controles de Lectura (25%):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se realizarán 7 controles de lectura cortos y se elimina una nota (cualquiera excepto el CL7)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4d4d4d"/>
                </a:solidFill>
                <a:latin typeface="Verdana"/>
              </a:rPr>
              <a:t>Nota de Casos (10%):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se realizarán 2 casos durante el semestre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95280" y="1341360"/>
            <a:ext cx="8305920" cy="42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Aft>
                <a:spcPts val="25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25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Nota Control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  <a:ea typeface="Tahoma"/>
              </a:rPr>
              <a:t>≥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5,5.</a:t>
            </a: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25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Nota Tareas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  <a:ea typeface="Tahoma"/>
              </a:rPr>
              <a:t>≥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 5,0.</a:t>
            </a: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25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Nota Controles de Lectura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  <a:ea typeface="Tahoma"/>
              </a:rPr>
              <a:t>≥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 5,0.</a:t>
            </a: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25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Nota Casos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  <a:ea typeface="Tahoma"/>
              </a:rPr>
              <a:t>≥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 5,0.</a:t>
            </a: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ximi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Anita Ramírez</dc:creator>
  <dc:description/>
  <dc:language>en-US</dc:language>
  <cp:lastModifiedBy>Eduardo Contreras Villablanca</cp:lastModifiedBy>
  <cp:lastPrinted>2002-11-13T13:47:55Z</cp:lastPrinted>
  <dcterms:modified xsi:type="dcterms:W3CDTF">2009-03-10T00:35:08Z</dcterms:modified>
  <cp:revision>357</cp:revision>
  <dc:subject/>
  <dc:title>Formulación de Proyectos</dc:title>
</cp:coreProperties>
</file>