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move the slide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AEAF-8DF1-4BC8-9E6D-958D80EE836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4A84-8D2C-422A-A2B3-5E643C77F894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4452-62F1-4BF7-89AA-7F215ADB78D7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3544-4AF8-4EF3-A68C-74A78766BF19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D8E1-D206-4660-AD93-24531DDCB625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F871-9C25-4A4F-8090-2FF21E1DDC71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9A42-5BFE-43F9-9044-AB286BB1B139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79744-2E91-45C8-9301-8D6B71274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F3E08-BF49-4574-B445-F6AB681C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8BD44-E74A-47D5-8E07-C58FD83D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48B78-FB22-4EAF-961F-4193B26D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AB4A4-4654-4F36-9176-C771FB52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A1A5D-B74D-4664-8079-CD750B3D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026DB-D9DB-48E8-AA6B-1735533E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B9274-7883-4A93-A220-A4BF49C3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1839F-A577-43B4-9143-19F0A3C0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D8C55-8999-4315-AF9B-3CA77E38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FA591-3FB0-4E85-A0D5-8B5465A7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8EEF0-E8C4-4FF2-A434-EE09AF87A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D885-FC65-40CB-BBB3-06893774E324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2A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78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 finalizar el curso los alumnos serán capaces de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Estimar beneficios y costos relevantes en un proyecto.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Formular, preparar y evaluar proyectos de inversión y nuevos negocios en el marco de una economía de mercado. 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Elaborar recomendaciones fundadas sobre los proyectos que evalúen, apoyando la toma de decisiones de inversión.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just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 General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10920" y="1267920"/>
            <a:ext cx="777708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ormulación de Proyect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atemáticas Financier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aboración del Flujo de Caja Priv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Indicadores de Evaluación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ptimización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aluación de Proyectos bajo Incertidumbr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aluación Social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ontenid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1378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Docentes: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2 clases de cátedra semanale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realizarán  sólo 2 clases auxiliares (una antes de cada control); el resto de las aplicaciones se verán durante las clases de cátedr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horario de clase auxiliar se realizarán los controles y posiblemente alguna actividad extr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ctividad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1378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Trabajo Personal y Grupal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ecturas y estudio clase a clase. 7 controle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rea: una integral a lo largo del semestre (con varios entregables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udio de Casos (2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ctividad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058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10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Control (40%):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2 controles y un examen. Controles en semanas 7 y 13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0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Tareas (25%):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1 tarea integral (con varios entregables) durante el semestre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Controles de Lectura (25%):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se realizarán 7 controles de lectura cortos y se elimina una nota (cualquiera excepto el CL7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de Casos (10%):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se realizarán 2 casos durante el semestre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2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Aft>
                <a:spcPts val="25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5,5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Tareas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es de Lectura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asos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ximi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Eduardo Contreras Villablanca</cp:lastModifiedBy>
  <cp:lastPrinted>2002-11-13T13:47:55Z</cp:lastPrinted>
  <dcterms:modified xsi:type="dcterms:W3CDTF">2009-03-10T00:35:08Z</dcterms:modified>
  <cp:revision>357</cp:revision>
  <dc:subject/>
  <dc:title>Formulación de Proyectos</dc:title>
</cp:coreProperties>
</file>