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9B6-B91B-45B2-9E3A-21EBF01DFD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F7D-754D-4702-922F-62DE2354167C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47F-C4D4-456F-B8DB-305F313EA25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5B0C-5A16-419C-A7ED-09A880B83F0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9F9-7E1D-40E5-B87C-8889C0420BD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CC3-3BC6-45E9-AD8B-DD17CAC9C13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A58-65F3-48B4-AA42-E381B6C6A05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BDFDF-C21D-4033-A38D-781C26F2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1FC7-30BE-4503-8762-4DAB3D32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13959-C4B7-49CD-8C99-874E4631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C20CA-DEAE-456A-923E-C365742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B3900-39DE-4944-8AAF-C55FA3D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EF2BD-CB82-4DB8-9B6B-A9CE56AD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40FBD-CC3E-4CC1-B11C-6491586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0CF7-E0B3-4725-9C79-68AC561A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8C82-31D9-47F8-8453-0E06721C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159C7-E4F3-4EF1-B06A-DABD586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A6FBC-D43A-422A-AFBD-F371E7DE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29167-CB99-4735-903C-F201875A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03AC-64AF-4BD4-843A-35834F6DE6C0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realizarán  sólo 2 clases auxiliares (una antes de cada contro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7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: una integral a lo largo del semestre (con varios entregable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 (2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1 tarea integral (con varios entregables)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cualquiera excepto el CL7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09-03-10T00:35:08Z</dcterms:modified>
  <cp:revision>357</cp:revision>
  <dc:subject/>
  <dc:title>Formulación de Proyectos</dc:title>
</cp:coreProperties>
</file>