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41FE-D8FC-497F-AD77-B50CD292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524-5179-4416-997F-3876D568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DEF-735F-48D8-9CEC-2F0BB40B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153-A7D8-43E1-816E-134DB549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FD26-1296-4706-B5B8-29CB12BB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EEFA-16BE-4D3F-A31A-B561352F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5C18-2FCD-4C9D-B33A-39301BF5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CA29-4FE6-4D50-8F63-A8A8A042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8B0F-8DCF-4F7E-9717-FFF6B543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8713-295F-49EA-BE2D-EACAD993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429D-5ED7-4678-AC26-7FBCABC4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ECB-583A-4003-A6C4-4E202934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7678-19F6-435A-85B9-23610B6E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B68D-A402-4945-89C7-8EF73B2A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EBE4-16D9-43BF-BF4A-5D84635B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45F0-77CC-4C07-88A6-55011CF1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72F4-D465-4E3F-9FFB-801951DC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3FB-8126-4EE0-9200-AB9D4CB0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5EE-92B3-4756-B845-D297AAE5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91D-D0F3-4463-BD09-6F6DB464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F1B6-39D6-42F6-8705-80F4D9DC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16F-8B0D-4951-BDC0-7E7916FC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104-D00F-478C-860C-D843B97E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3B18-D37C-4AF8-BE35-4825899A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367B-54CE-4A7F-B536-D1707E7A4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C16E-85FA-48D4-889D-5BA5A84D3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¡Incertidumbre!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537600" cy="5045040"/>
          </a:xfrm>
          <a:prstGeom prst="rect">
            <a:avLst/>
          </a:prstGeom>
          <a:ln w="0">
            <a:noFill/>
          </a:ln>
        </p:spPr>
      </p:pic>
      <p:sp>
        <p:nvSpPr>
          <p:cNvPr id="85" name="Line 5"/>
          <p:cNvSpPr/>
          <p:nvPr/>
        </p:nvSpPr>
        <p:spPr>
          <a:xfrm flipV="1">
            <a:off x="6227640" y="3716280"/>
            <a:ext cx="0" cy="1225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6227640" y="3716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6227640" y="4941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Line 17"/>
          <p:cNvSpPr/>
          <p:nvPr/>
        </p:nvSpPr>
        <p:spPr>
          <a:xfrm flipV="1">
            <a:off x="5219640" y="2565000"/>
            <a:ext cx="720720" cy="576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" name="Line 17"/>
          <p:cNvSpPr/>
          <p:nvPr/>
        </p:nvSpPr>
        <p:spPr>
          <a:xfrm>
            <a:off x="5940360" y="2565360"/>
            <a:ext cx="287280" cy="792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6229440" y="3355920"/>
            <a:ext cx="142920" cy="577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 sub-prime: protagonista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79280" y="1150920"/>
            <a:ext cx="8964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os deudores subprime: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El sueño de la casa propia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El gobierno de EE.UU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Incentivos a prestar a inelegible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a banca de inversión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Ingeniería financiera necesaria e ingentes ganancia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as clasificadoras de riesgo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Los conflictos de intereses por roles contrapuesto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os modelos de default (no-pago)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Quiebras altamente correlacionada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as autoridades fiscalizadoras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Falta de monitoreo y relajamiento de requisito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a Reserva Federal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Tasas de interés (cortas) reales negativa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os privados en USA en general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Por no ahorrar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El estado chino y el resto del mundo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Por prestarle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 sub-prime: arma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79280" y="1150920"/>
            <a:ext cx="8964720" cy="46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Securitización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Transformar un conjunto de créditos en instrumentos homogéneos transables en el mercado secundario (bonos). Tranches – diferentes niveles de riesgo contra el mismo pool de activo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CDS – credit default swap: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Un seguro por el riesgo de no-pago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CDOs – collateralized debt obligations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Instrumentos emitidos respaldados por otros instrumentos financieros + CD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SIV – special investment vehicles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Vehículos a través de los cuales se realizan inversiones (fuera de balance) en instrumentos securitizados, en CDOs, con o sin CD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 sub-prime: tram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4920" y="1150920"/>
            <a:ext cx="8675640" cy="48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Bookman Old Style"/>
              </a:rPr>
              <a:t>Sobreendeudamiento</a:t>
            </a:r>
            <a:r>
              <a:rPr b="0" lang="es-CL" sz="2600" spc="-1" strike="noStrike">
                <a:solidFill>
                  <a:srgbClr val="000000"/>
                </a:solidFill>
                <a:latin typeface="Bookman Old Style"/>
              </a:rPr>
              <a:t> (bajas tasas, baja regulación, Bear Sterns deuda a activos - 30:1 )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Bookman Old Style"/>
              </a:rPr>
              <a:t>Fallas de información</a:t>
            </a:r>
            <a:r>
              <a:rPr b="0" lang="es-CL" sz="2600" spc="-1" strike="noStrike">
                <a:solidFill>
                  <a:srgbClr val="000000"/>
                </a:solidFill>
                <a:latin typeface="Bookman Old Style"/>
              </a:rPr>
              <a:t> (deuda consolidada, valor de subyacentes)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- Por conflictos de intereses (clasificadoras de riesgo)</a:t>
            </a: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Por complejidad de instrumentos (paralización de inversionistas)</a:t>
            </a: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Por opacidad de transacciones (falta de información)</a:t>
            </a: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Calidad de modelos (</a:t>
            </a:r>
            <a:r>
              <a:rPr b="0" i="1" lang="es-CL" sz="2300" spc="-1" strike="noStrike">
                <a:solidFill>
                  <a:srgbClr val="000000"/>
                </a:solidFill>
                <a:latin typeface="Bookman Old Style"/>
              </a:rPr>
              <a:t>defaults</a:t>
            </a: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 correlacionados; altas tasas por riesgo sistémico – no diversificable)</a:t>
            </a: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 sub-prime: desenlac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68360" y="1150920"/>
            <a:ext cx="867564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0099"/>
                </a:solidFill>
                <a:latin typeface="Bookman Old Style"/>
              </a:rPr>
              <a:t>¿Y si la casa no sube de valor? ¿Y si no me pagan?</a:t>
            </a:r>
            <a:r>
              <a:rPr b="0" lang="es-CL" sz="23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53735"/>
                </a:solidFill>
                <a:latin typeface="Bookman Old Style"/>
              </a:rPr>
              <a:t>“</a:t>
            </a:r>
            <a:r>
              <a:rPr b="1" lang="es-CL" sz="2000" spc="-1" strike="noStrike">
                <a:solidFill>
                  <a:srgbClr val="953735"/>
                </a:solidFill>
                <a:latin typeface="Bookman Old Style"/>
              </a:rPr>
              <a:t>Pánico” por…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man Old Style"/>
              </a:rPr>
              <a:t>No conocer el valor real de los activos ni la capacidad crediticia de la contraparte (paralizan las transacciones)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man Old Style"/>
              </a:rPr>
              <a:t>No conocer el activo subyacente (no es factible retroceder en la cadena de instrumentos financieros para encontrarlos)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man Old Style"/>
              </a:rPr>
              <a:t>=&gt; Pérdida de confianza en las clasificadoras de riesgo y en las relaciones con los banqueros de inversión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53735"/>
                </a:solidFill>
                <a:latin typeface="Bookman Old Style"/>
              </a:rPr>
              <a:t>Quiebra masiva de la banca de inversiones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53735"/>
                </a:solidFill>
                <a:latin typeface="Bookman Old Style"/>
              </a:rPr>
              <a:t>Caídas en las bolsas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man Old Style"/>
              </a:rPr>
              <a:t>Efecto directo por proceso de “desendeudamiento”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man Old Style"/>
              </a:rPr>
              <a:t>Efecto en el VP: efecto sobre flujos futuros de la recesión y por mayores premios por riesgo (numerador y denominador)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53735"/>
                </a:solidFill>
                <a:latin typeface="Bookman Old Style"/>
              </a:rPr>
              <a:t>Reestructuración financiera genera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0"/>
            <a:ext cx="914400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ACTUAL:                     EL EFECTO REAL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: qué sabemos y qué no sabemo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79280" y="1150920"/>
            <a:ext cx="8964720" cy="46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Las 5 etapas de una crisis financiera y real: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1. Explota “burbuja” (caen precios de activos con 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subyacente inmobiliario)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2. Descapitalización (pocos activos dada la deuda)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3. Escasez de crédito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4. Tasas suben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5. Efecto real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ookman Old Style"/>
              </a:rPr>
              <a:t>Need for cash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ookman Old Style"/>
              </a:rPr>
              <a:t>Flight to quality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 hacia Chil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62120" y="1268280"/>
            <a:ext cx="76975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 en Chile: lo positivo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39640" y="1147680"/>
            <a:ext cx="813600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Política macro sana (WEF 2009: 14/134) 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- prudencia fisca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- metas de inflación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- tipo de cambio flexible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2. Ahorro global neto positivo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3. Mercado financiero sano (</a:t>
            </a: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WEF 2009: Banca solvente (17/134) y regulación adecuada (14/134) 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Bookman Old Style"/>
              </a:rPr>
              <a:t>PERO ………………………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Bookman Old Styl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Y CHILE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Preocupación 1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El mundo dejó de ayudarnos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0"/>
            <a:ext cx="9144000" cy="66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MACRO EN CHILE,               CON MUCHO RUIDO 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Raphael Bergoeing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Marzo 31, 2009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Bookman Old Style"/>
              </a:rPr>
              <a:t>UNIVERSIDAD DE CHILE Y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Bookman Old Style"/>
              </a:rPr>
              <a:t>BANCHILE INVERSIONES 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Line 5"/>
          <p:cNvSpPr/>
          <p:nvPr/>
        </p:nvSpPr>
        <p:spPr>
          <a:xfrm flipV="1">
            <a:off x="380880" y="6162840"/>
            <a:ext cx="8512200" cy="2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Chile: demasiado acoplado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7812000" y="4149720"/>
            <a:ext cx="647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7812000" y="4653000"/>
            <a:ext cx="647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28760" y="706320"/>
            <a:ext cx="86072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El mundo ya no nos ayud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7812000" y="4149720"/>
            <a:ext cx="647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8000" y="871560"/>
            <a:ext cx="8856720" cy="55101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5379120" y="6067440"/>
            <a:ext cx="352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Bookman Old Style"/>
              </a:rPr>
              <a:t>E(BC Chile): 0,2%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Bookman Old Style"/>
              </a:rPr>
              <a:t>E(FMI y BM mundo): -1%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8028000" y="4149720"/>
            <a:ext cx="792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8028000" y="4724280"/>
            <a:ext cx="792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8028000" y="5157720"/>
            <a:ext cx="7920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1" name="Line 22"/>
          <p:cNvSpPr/>
          <p:nvPr/>
        </p:nvSpPr>
        <p:spPr>
          <a:xfrm>
            <a:off x="7599240" y="3500280"/>
            <a:ext cx="789120" cy="2089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Y CHILE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Preocupación 2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El ajuste está siendo profundo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Recesiones en EEUU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87520" y="631800"/>
            <a:ext cx="924084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Recesiones en Chile (à la EEUU)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5720" y="631800"/>
            <a:ext cx="9240840" cy="5749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885080" y="364500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4" name=""/>
          <p:cNvSpPr/>
          <p:nvPr/>
        </p:nvSpPr>
        <p:spPr>
          <a:xfrm>
            <a:off x="7956720" y="4437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0"/>
            <a:ext cx="914400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Y CHILE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Preocupación 3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Recuperación lenta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Y todavía falta (y durará) má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8029440" y="3141720"/>
            <a:ext cx="863640" cy="266364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3130560" y="1484280"/>
            <a:ext cx="5257800" cy="432108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68200" y="851040"/>
            <a:ext cx="86076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Algunos desafíos micro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1"/>
          <a:stretch/>
        </p:blipFill>
        <p:spPr>
          <a:xfrm>
            <a:off x="1200240" y="1368360"/>
            <a:ext cx="6743520" cy="4869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788000" y="2421000"/>
            <a:ext cx="287964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Y CHILE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Preocupación 4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¿Y después de la crisis?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Inflación, ¿qué inflación?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15" name="Picture 10" descr=""/>
          <p:cNvPicPr/>
          <p:nvPr/>
        </p:nvPicPr>
        <p:blipFill>
          <a:blip r:embed="rId1"/>
          <a:stretch/>
        </p:blipFill>
        <p:spPr>
          <a:xfrm>
            <a:off x="268200" y="922320"/>
            <a:ext cx="86076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prensa no exagera: WS se desplomó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79280" y="1150920"/>
            <a:ext cx="896472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6294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TPM en caída libr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9280" y="779400"/>
            <a:ext cx="86076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Inflación, ¿y mañana?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85840" y="922320"/>
            <a:ext cx="8607240" cy="5746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388360" y="4221000"/>
            <a:ext cx="360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Y la historia NO inform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076760"/>
            <a:ext cx="8136000" cy="52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Bookman Old Style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1" lang="es-ES" sz="2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eptiembre 15, 2008:</a:t>
            </a:r>
            <a:r>
              <a:rPr b="0" lang="es-ES" sz="2400" spc="-1" strike="noStrike">
                <a:solidFill>
                  <a:srgbClr val="3333cc"/>
                </a:solidFill>
                <a:latin typeface="Bookman Old Style"/>
                <a:ea typeface="Times New Roman"/>
              </a:rPr>
              <a:t> Lehman Brothers quiebra (MM US$ 639.000 en activos, la mayor quiebra en EEUU)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3333cc"/>
              </a:buClr>
              <a:buFont typeface="Bookman Old Style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Bookman Old Style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Bookman Old Style"/>
              </a:rPr>
              <a:t>Enero 8, 2009: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Bookman Old Style"/>
              </a:rPr>
              <a:t>El Banco de Inglaterra reduce su tasa base hasta 1,5%, el menor nivel desde su fundación en 1694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3333cc"/>
              </a:buClr>
              <a:buFont typeface="Bookman Old Style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Bookman Old Style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Bookman Old Style"/>
              </a:rPr>
              <a:t>Enero, febrero y marzo 2009: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Bookman Old Style"/>
              </a:rPr>
              <a:t>El Banco Central de Chile redujo la TPM 600 puntos base, desde 8,25% hasta 2,25%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Bookman Old Style"/>
              </a:rPr>
              <a:t>2ª mayor corrección del DJ desde 1896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79280" y="779400"/>
            <a:ext cx="8607600" cy="5962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08000" y="3357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bolsa en EEUU: ¿cerca de su piso?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619960" y="5300640"/>
            <a:ext cx="30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Bookman Old Style"/>
              </a:rPr>
              <a:t>35,9% menos en 7/1982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212760" y="765000"/>
            <a:ext cx="8607240" cy="5962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244000" y="44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4" name=""/>
          <p:cNvSpPr/>
          <p:nvPr/>
        </p:nvSpPr>
        <p:spPr>
          <a:xfrm>
            <a:off x="8101080" y="450864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Y esta historia, ¿informa?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79280" y="1150920"/>
            <a:ext cx="896472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851040"/>
            <a:ext cx="8607600" cy="5962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32000" y="2349360"/>
            <a:ext cx="6264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Pero, </a:t>
            </a:r>
            <a:r>
              <a:rPr b="1" i="1" lang="es-ES" sz="2800" spc="-1" strike="noStrike">
                <a:solidFill>
                  <a:srgbClr val="000000"/>
                </a:solidFill>
                <a:latin typeface="Bookman Old Style"/>
              </a:rPr>
              <a:t>market timing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 es para mago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79280" y="1147680"/>
            <a:ext cx="849636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Con datos de 20 países de la OECD (para 20 años) </a:t>
            </a:r>
            <a:r>
              <a:rPr b="1" lang="es-ES" sz="2600" spc="-1" strike="noStrike">
                <a:solidFill>
                  <a:srgbClr val="ff0000"/>
                </a:solidFill>
                <a:latin typeface="Bookman Old Style"/>
              </a:rPr>
              <a:t>perder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 en promedio los </a:t>
            </a:r>
            <a:r>
              <a:rPr b="1" lang="es-ES" sz="2600" spc="-1" strike="noStrike">
                <a:solidFill>
                  <a:srgbClr val="ff0000"/>
                </a:solidFill>
                <a:latin typeface="Bookman Old Style"/>
              </a:rPr>
              <a:t>10 mejores días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 (0,1% de los días totales) </a:t>
            </a:r>
            <a:r>
              <a:rPr b="1" lang="es-ES" sz="2600" spc="-1" strike="noStrike">
                <a:solidFill>
                  <a:srgbClr val="ff0000"/>
                </a:solidFill>
                <a:latin typeface="Bookman Old Style"/>
              </a:rPr>
              <a:t>reduce 51%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 el valor del </a:t>
            </a:r>
            <a:r>
              <a:rPr b="1" lang="es-ES" sz="2600" spc="-1" strike="noStrike">
                <a:solidFill>
                  <a:srgbClr val="ff0000"/>
                </a:solidFill>
                <a:latin typeface="Bookman Old Style"/>
              </a:rPr>
              <a:t>portafolio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 fina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Estrada (2008). “Black Swans and Market 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Timing: How Not To Generate Alpha”.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ACTUAL:                  UNA PELICULA DE HORROR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5:00:36Z</dcterms:created>
  <dc:creator>RBERGOEI</dc:creator>
  <dc:description/>
  <dc:language>en-US</dc:language>
  <cp:lastModifiedBy>nb112</cp:lastModifiedBy>
  <cp:lastPrinted>2008-01-24T15:58:41Z</cp:lastPrinted>
  <dcterms:modified xsi:type="dcterms:W3CDTF">2009-03-31T14:51:46Z</dcterms:modified>
  <cp:revision>1385</cp:revision>
  <dc:subject/>
  <dc:title>Sin título de diapositiva</dc:title>
</cp:coreProperties>
</file>