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33E-D693-4096-85A4-74BE5326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327-2F6F-4A15-A223-BAB167DA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417-1ED2-482F-A12B-4CFCFF35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17D-4BCE-4253-8462-7060EB3B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A017-B145-43F8-9222-2509D163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014D-2C72-4500-A8D4-1A131106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DBBB-035F-41D2-983C-C450A759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BB5F-38BC-4EF1-B36C-EBB52019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8FF2-89E7-4FCE-A26B-93C70E8D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087B-9251-4399-ADC8-F377B61E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EE88-BD62-43F7-94E0-FA97264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691-3807-4D56-AFC6-2797CA3F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83AB-9FDC-49D5-AB3C-8A15390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D9E4-7E55-49CC-B3F1-3C4B984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56B2-BFDE-46DF-8945-AB47B84B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38AB-B611-49D1-B4F4-8E1B428D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5B5D-DF6D-41AB-B159-FCE2035C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A86-C6F1-4948-8DD4-ABB1B50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03F-78CD-4B22-B34D-6534229A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12B-370B-4324-AA24-32F3FB76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38A-2959-4F77-8413-FE7D6EDD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3A8-0D77-4AE6-B5E7-7114744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8AA-CDEF-4D9E-A308-CC52F91B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C21-136C-4A64-958F-0CD1EC0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D96E-6F83-4541-8A98-75CEFF8D9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0807-F654-407A-BBB2-2C5A3B54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¡Incertidumbre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37600" cy="5045040"/>
          </a:xfrm>
          <a:prstGeom prst="rect">
            <a:avLst/>
          </a:prstGeom>
          <a:ln w="0">
            <a:noFill/>
          </a:ln>
        </p:spPr>
      </p:pic>
      <p:sp>
        <p:nvSpPr>
          <p:cNvPr id="85" name="Line 5"/>
          <p:cNvSpPr/>
          <p:nvPr/>
        </p:nvSpPr>
        <p:spPr>
          <a:xfrm flipV="1">
            <a:off x="6227640" y="3716280"/>
            <a:ext cx="0" cy="1225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6227640" y="3716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6227640" y="494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Line 17"/>
          <p:cNvSpPr/>
          <p:nvPr/>
        </p:nvSpPr>
        <p:spPr>
          <a:xfrm flipV="1">
            <a:off x="5219640" y="2565000"/>
            <a:ext cx="720720" cy="576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5940360" y="2565360"/>
            <a:ext cx="28728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229440" y="3355920"/>
            <a:ext cx="142920" cy="57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protagonista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79280" y="1150920"/>
            <a:ext cx="8964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deudores subprime: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El sueño de la casa propia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El gobierno de EE.UU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centivos a prestar a inelegible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 banca de inversión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geniería financiera necesaria e ingentes gananci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s clasificadoras de riesgo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Los conflictos de intereses por roles contrapuest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modelos de default (no-pago)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Quiebras altamente correlacionad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s autoridades fiscalizadora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Falta de monitoreo y relajamiento de requisit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 Reserva Federal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Tasas de interés (cortas) reales negativ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privados en USA en general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Por no ahorrar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El estado chino y el resto del mundo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Por prestarle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arma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79280" y="1150920"/>
            <a:ext cx="896472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Securitización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Transformar un conjunto de créditos en instrumentos homogéneos transables en el mercado secundario (bonos). Tranches – diferentes niveles de riesgo contra el mismo pool de activ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CDS – credit default swap: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Un seguro por el riesgo de no-pago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CDOs – collateralized debt obligation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strumentos emitidos respaldados por otros instrumentos financieros + CD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SIV – special investment vehicle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Vehículos a través de los cuales se realizan inversiones (fuera de balance) en instrumentos securitizados, en CDOs, con o sin CD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tram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4920" y="1150920"/>
            <a:ext cx="8675640" cy="48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Bookman Old Style"/>
              </a:rPr>
              <a:t>Sobreendeudamiento</a:t>
            </a:r>
            <a:r>
              <a:rPr b="0" lang="es-CL" sz="2600" spc="-1" strike="noStrike">
                <a:solidFill>
                  <a:srgbClr val="000000"/>
                </a:solidFill>
                <a:latin typeface="Bookman Old Style"/>
              </a:rPr>
              <a:t> (bajas tasas, baja regulación, Bear Sterns deuda a activos - 30:1 )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Bookman Old Style"/>
              </a:rPr>
              <a:t>Fallas de información</a:t>
            </a:r>
            <a:r>
              <a:rPr b="0" lang="es-CL" sz="2600" spc="-1" strike="noStrike">
                <a:solidFill>
                  <a:srgbClr val="000000"/>
                </a:solidFill>
                <a:latin typeface="Bookman Old Style"/>
              </a:rPr>
              <a:t> (deuda consolidada, valor de subyacentes)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- Por conflictos de intereses (clasificadoras de riesgo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Por complejidad de instrumentos (paralización de inversionistas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Por opacidad de transacciones (falta de información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Calidad de modelos (</a:t>
            </a:r>
            <a:r>
              <a:rPr b="0" i="1" lang="es-CL" sz="2300" spc="-1" strike="noStrike">
                <a:solidFill>
                  <a:srgbClr val="000000"/>
                </a:solidFill>
                <a:latin typeface="Bookman Old Style"/>
              </a:rPr>
              <a:t>defaults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 correlacionados; altas tasas por riesgo sistémico – no diversificable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desenlac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68360" y="1150920"/>
            <a:ext cx="867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99"/>
                </a:solidFill>
                <a:latin typeface="Bookman Old Style"/>
              </a:rPr>
              <a:t>¿Y si la casa no sube de valor? ¿Y si no me pagan?</a:t>
            </a:r>
            <a:r>
              <a:rPr b="0" lang="es-CL" sz="23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“</a:t>
            </a: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Pánico” por…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No conocer el valor real de los activos ni la capacidad crediticia de la contraparte (paralizan las transacciones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No conocer el activo subyacente (no es factible retroceder en la cadena de instrumentos financieros para encontrarlos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=&gt; Pérdida de confianza en las clasificadoras de riesgo y en las relaciones con los banqueros de inversió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Quiebra masiva de la banca de inversione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Caídas en las bolsa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Efecto directo por proceso de “desendeudamient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Efecto en el VP: efecto sobre flujos futuros de la recesión y por mayores premios por riesgo (numerador y denominador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Reestructuración financiera genera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ACTUAL:                     EL EFECTO REAL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: qué sabemos y qué no sabemo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9280" y="1150920"/>
            <a:ext cx="896472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Las 5 etapas de una crisis financiera y real: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1. Explota “burbuja” (caen precios de activos con 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ubyacente inmobiliario)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2. Descapitalización (pocos activos dada la deuda)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3. Escasez de crédito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4. Tasas sube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5. Efecto real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Need for cash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Flight to quality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hacia Chi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1268280"/>
            <a:ext cx="76975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en Chile: lo positiv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1147680"/>
            <a:ext cx="81360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Política macro sana (WEF 2009: 14/134)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prudencia fisca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metas de inflación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tipo de cambio flexible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2. Ahorro global neto positivo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3. Mercado financiero sano (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WEF 2009: Banca solvente (17/134) y regulación adecuada (14/134)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ERO ………………………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Bookman Old Styl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1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El mundo dejó de ayudarnos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MACRO EN CHILE,               CON MUCHO RUIDO 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Raphael Bergoeing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Marzo 31, 2009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UNIVERSIDAD DE CHILE Y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BANCHILE INVERSIONES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Line 5"/>
          <p:cNvSpPr/>
          <p:nvPr/>
        </p:nvSpPr>
        <p:spPr>
          <a:xfrm flipV="1">
            <a:off x="380880" y="6162840"/>
            <a:ext cx="8512200" cy="2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Chile: demasiado acoplad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7812000" y="414972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7812000" y="4653000"/>
            <a:ext cx="647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8760" y="706320"/>
            <a:ext cx="86072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El mundo ya no nos ayud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812000" y="414972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8000" y="871560"/>
            <a:ext cx="8856720" cy="5510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5379120" y="6067440"/>
            <a:ext cx="35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Bookman Old Style"/>
              </a:rPr>
              <a:t>E(BC Chile): 0,2%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Bookman Old Style"/>
              </a:rPr>
              <a:t>E(FMI y BM mundo): -1%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028000" y="4149720"/>
            <a:ext cx="792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028000" y="4724280"/>
            <a:ext cx="792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028000" y="5157720"/>
            <a:ext cx="7920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7599240" y="3500280"/>
            <a:ext cx="789120" cy="208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2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El ajuste está siendo profundo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Recesiones en EEUU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7520" y="631800"/>
            <a:ext cx="924084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Recesiones en Chile (à la EEUU)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5720" y="631800"/>
            <a:ext cx="9240840" cy="5749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885080" y="3645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"/>
          <p:cNvSpPr/>
          <p:nvPr/>
        </p:nvSpPr>
        <p:spPr>
          <a:xfrm>
            <a:off x="7956720" y="4437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3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Recuperación lenta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todavía falta (y durará) má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029440" y="3141720"/>
            <a:ext cx="863640" cy="266364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3130560" y="1484280"/>
            <a:ext cx="5257800" cy="43210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68200" y="85104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Algunos desafíos micr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1200240" y="1368360"/>
            <a:ext cx="6743520" cy="4869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788000" y="2421000"/>
            <a:ext cx="28796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4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¿Y después de la crisis?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Inflación, ¿qué inflación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1"/>
          <a:stretch/>
        </p:blipFill>
        <p:spPr>
          <a:xfrm>
            <a:off x="268200" y="92232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prensa no exagera: WS se desplomó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1150920"/>
            <a:ext cx="8964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9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TPM en caída libr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77940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Inflación, ¿y mañana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5840" y="922320"/>
            <a:ext cx="8607240" cy="5746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388360" y="4221000"/>
            <a:ext cx="360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la historia NO inform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076760"/>
            <a:ext cx="8136000" cy="52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eptiembre 15, 2008: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  <a:ea typeface="Times New Roman"/>
              </a:rPr>
              <a:t> Lehman Brothers quiebra (MM US$ 639.000 en activos, la mayor quiebra en EEUU)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3333cc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Enero 8, 2009: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</a:rPr>
              <a:t>El Banco de Inglaterra reduce su tasa base hasta 1,5%, el menor nivel desde su fundación en 1694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3333cc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Enero, febrero y marzo 2009: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</a:rPr>
              <a:t>El Banco Central de Chile redujo la TPM 600 puntos base, desde 8,25% hasta 2,25%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2ª mayor corrección del DJ desde 1896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79280" y="779400"/>
            <a:ext cx="8607600" cy="596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8000" y="3357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bolsa en EEUU: ¿cerca de su piso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19960" y="530064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Bookman Old Style"/>
              </a:rPr>
              <a:t>35,9% menos en 7/1982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212760" y="765000"/>
            <a:ext cx="8607240" cy="5962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4400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450864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esta historia, ¿informa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79280" y="1150920"/>
            <a:ext cx="8964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851040"/>
            <a:ext cx="8607600" cy="596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234936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Pero, </a:t>
            </a: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market timing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es para mago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1147680"/>
            <a:ext cx="84963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Con datos de 20 países de la OECD (para 20 años)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erder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en promedio los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10 mejores días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(0,1% de los días totales)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reduce 51%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el valor del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ortafolio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fina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Estrada (2008). “Black Swans and Market 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Timing: How Not To Generate Alpha”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ACTUAL:                  UNA PELICULA DE HORROR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00:36Z</dcterms:created>
  <dc:creator>RBERGOEI</dc:creator>
  <dc:description/>
  <dc:language>en-US</dc:language>
  <cp:lastModifiedBy>nb112</cp:lastModifiedBy>
  <cp:lastPrinted>2008-01-24T15:58:41Z</cp:lastPrinted>
  <dcterms:modified xsi:type="dcterms:W3CDTF">2009-03-31T14:51:46Z</dcterms:modified>
  <cp:revision>1385</cp:revision>
  <dc:subject/>
  <dc:title>Sin título de diapositiva</dc:title>
</cp:coreProperties>
</file>