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B28-8008-4C2E-8573-2AD5F01C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7F8-AE82-47A0-B6A5-1FB2503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FC3-3DD0-4CFD-B164-E505B516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30D-9A90-46C8-8A55-A8FB611A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1F2C-573B-4C64-A8BB-8C3A2533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63B2-4194-4C63-820A-9AD618ED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741A-B2EB-44E1-9DAF-7C374A81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627-3B4F-48C6-A86F-BC8E6F0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5AF6-2F09-4934-9360-E64C738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E0D-B631-4D44-A302-FF973F1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04F-F4D7-4820-93AD-D2FD616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147-9C18-41BE-AC14-8E0B4F9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1E24-BD4E-42E3-854D-4256716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B959-2076-4B5A-9F0D-D443893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1DD3-1CD5-4BE8-8DE3-B3375B90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8927-B279-46A4-AA9C-9A883B66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498-DCD7-426E-A358-3CAA0B57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4C0-EA40-4468-9458-8EF9A72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1B2-69C4-4C0A-BB1F-4E461FF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631-B527-4631-BC89-08E3E30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2FE-898D-4CA8-910D-86C3D90A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52F-4912-48C8-A06C-D98015A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F52-9F64-42F0-9D70-419F0269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94F-CD43-4D52-AC45-DD99268F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910-F16C-4334-9623-25873C5F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FEE-D388-4A1E-A11B-7CFB6708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¡Incertidumbre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37600" cy="5045040"/>
          </a:xfrm>
          <a:prstGeom prst="rect">
            <a:avLst/>
          </a:prstGeom>
          <a:ln w="0">
            <a:noFill/>
          </a:ln>
        </p:spPr>
      </p:pic>
      <p:sp>
        <p:nvSpPr>
          <p:cNvPr id="85" name="Line 5"/>
          <p:cNvSpPr/>
          <p:nvPr/>
        </p:nvSpPr>
        <p:spPr>
          <a:xfrm flipV="1">
            <a:off x="6227640" y="3716280"/>
            <a:ext cx="0" cy="1225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22764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227640" y="49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219640" y="2565000"/>
            <a:ext cx="72072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5940360" y="2565360"/>
            <a:ext cx="28728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229440" y="3355920"/>
            <a:ext cx="142920" cy="57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protagonist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150920"/>
            <a:ext cx="896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deudores subprime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El sueño de la casa propia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gobierno de EE.UU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centivos a prestar a inelegib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banca de invers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geniería financiera necesaria e ingentes gananci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clasificadoras de riesg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Los conflictos de intereses por roles contrapues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modelos de default (no-pago)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Quiebras altamente correlacionad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autoridades fiscalizadora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Falta de monitoreo y relajamiento de requisi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Reserva Fed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asas de interés (cortas) reales negativ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privados en USA en gen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no ahorrar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estado chino y el resto del mund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prestar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arm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9280" y="1150920"/>
            <a:ext cx="89647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ecuritizac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ransformar un conjunto de créditos en instrumentos homogéneos transables en el mercado secundario (bonos). Tranches – diferentes niveles de riesgo contra el mismo pool de activ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S – credit default swap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Un seguro por el riesgo de no-pago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Os – collateralized debt obligation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strumentos emitidos respaldados por otros instrumentos financieros +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IV – special investment vehicle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Vehículos a través de los cuales se realizan inversiones (fuera de balance) en instrumentos securitizados, en CDOs, con o sin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tra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20" y="1150920"/>
            <a:ext cx="8675640" cy="48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Sobreendeudamiento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bajas tasas, baja regulación, Bear Sterns deuda a activos - 30:1 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Fallas de información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deuda consolidada, valor de subyacentes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- Por conflictos de intereses (clasificadoras de riesgo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complejidad de instrumentos (paralización de inversionistas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opacidad de transacciones (falta de información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Calidad de modelos (</a:t>
            </a:r>
            <a:r>
              <a:rPr b="0" i="1" lang="es-CL" sz="2300" spc="-1" strike="noStrike">
                <a:solidFill>
                  <a:srgbClr val="000000"/>
                </a:solidFill>
                <a:latin typeface="Bookman Old Style"/>
              </a:rPr>
              <a:t>defaults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 correlacionados; altas tasas por riesgo sistémico – no diversificable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desenlac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1150920"/>
            <a:ext cx="867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99"/>
                </a:solidFill>
                <a:latin typeface="Bookman Old Style"/>
              </a:rPr>
              <a:t>¿Y si la casa no sube de valor? ¿Y si no me pagan?</a:t>
            </a:r>
            <a:r>
              <a:rPr b="0" lang="es-CL" sz="23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“</a:t>
            </a: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Pánico” por…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valor real de los activos ni la capacidad crediticia de la contraparte (paralizan las transaccione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activo subyacente (no es factible retroceder en la cadena de instrumentos financieros para encontrarlo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=&gt; Pérdida de confianza en las clasificadoras de riesgo y en las relaciones con los banqueros de inversió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Quiebra masiva de la banca de inversion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Caídas en las bolsa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directo por proceso de “desendeudamient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en el VP: efecto sobre flujos futuros de la recesión y por mayores premios por riesgo (numerador y denominado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Reestructuración financiera genera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   EL EFECTO REAL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: qué sabemos y qué no sabem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1150920"/>
            <a:ext cx="8964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Las 5 etapas de una crisis financiera y real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1. Explota “burbuja” (caen precios de activos con 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ubyacente inmobiliario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2. Descapitalización (pocos activos dada la deuda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3. Escasez de crédito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4. Tasas sube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5. Efecto real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Need for cash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Flight to quality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hacia Chi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975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en Chile: lo positiv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147680"/>
            <a:ext cx="81360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Política macro sana (WEF 2009: 14/134)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prudencia fisc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metas de inflación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tipo de cambio flexible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2. Ahorro global neto positivo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3. Mercado financiero sano (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WEF 2009: Banca solvente (17/134) y regulación adecuada (14/134)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O ………………………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Bookman Old Styl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1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mundo dejó de ayudarnos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MACRO EN CHILE,               CON MUCHO RUIDO 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Raphael Bergoe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Marzo 31, 2009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UNIVERSIDAD DE CHILE Y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BANCHILE INVERSIONES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380880" y="6162840"/>
            <a:ext cx="8512200" cy="2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Chile: demasiado acoplad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812000" y="4653000"/>
            <a:ext cx="6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8760" y="706320"/>
            <a:ext cx="8607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El mundo ya no nos ayud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871560"/>
            <a:ext cx="8856720" cy="551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5379120" y="606744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BC Chile): 0,2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FMI y BM mundo): -1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028000" y="4149720"/>
            <a:ext cx="792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028000" y="4724280"/>
            <a:ext cx="792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28000" y="5157720"/>
            <a:ext cx="792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7599240" y="3500280"/>
            <a:ext cx="789120" cy="208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2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ajuste está siendo profundo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EEUU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7520" y="63180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Chile (à la EEUU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5720" y="631800"/>
            <a:ext cx="9240840" cy="574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85080" y="3645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7956720" y="4437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3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Recuperación lenta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todavía falta (y durará) má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029440" y="3141720"/>
            <a:ext cx="863640" cy="2663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3130560" y="1484280"/>
            <a:ext cx="5257800" cy="4321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8200" y="85104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Algunos desafíos micr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200240" y="1368360"/>
            <a:ext cx="6743520" cy="4869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421000"/>
            <a:ext cx="2879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4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¿Y después de la crisis?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qué inflación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268200" y="92232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prensa no exagera: WS se desplomó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9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TPM en caída libr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y mañan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922320"/>
            <a:ext cx="8607240" cy="574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8360" y="4221000"/>
            <a:ext cx="360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la historia NO infor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076760"/>
            <a:ext cx="8136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ptiembre 15, 2008: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 Lehman Brothers quiebra (MM US$ 639.000 en activos, la mayor quiebra en EEUU)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 8,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de Inglaterra reduce su tasa base hasta 1,5%, el menor nivel desde su fundación en 1694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, febrero y marzo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Central de Chile redujo la TPM 600 puntos base, desde 8,25% hasta 2,25%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2ª mayor corrección del DJ desde 1896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8000" y="3357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bolsa en EEUU: ¿cerca de su piso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19960" y="530064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Bookman Old Style"/>
              </a:rPr>
              <a:t>35,9% menos en 7/1982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12760" y="765000"/>
            <a:ext cx="8607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44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esta historia, ¿inform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85104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349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Pero, </a:t>
            </a: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market timing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es para mag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1147680"/>
            <a:ext cx="8496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Con datos de 20 países de la OECD (para 20 año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der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n promedio los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10 mejores días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(0,1% de los días totale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reduce 51%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l valor del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ortafolio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fin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strada (2008). “Black Swans and Market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Timing: How Not To Generate Alpha”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UNA PELICULA DE HORROR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00:36Z</dcterms:created>
  <dc:creator>RBERGOEI</dc:creator>
  <dc:description/>
  <dc:language>en-US</dc:language>
  <cp:lastModifiedBy>nb112</cp:lastModifiedBy>
  <cp:lastPrinted>2008-01-24T15:58:41Z</cp:lastPrinted>
  <dcterms:modified xsi:type="dcterms:W3CDTF">2009-03-31T14:51:46Z</dcterms:modified>
  <cp:revision>1385</cp:revision>
  <dc:subject/>
  <dc:title>Sin título de diapositiva</dc:title>
</cp:coreProperties>
</file>