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50440" y="190440"/>
            <a:ext cx="798372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33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00" y="104760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9120" y="120636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20440" y="6440400"/>
            <a:ext cx="41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ítulo 6: La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9200" y="628164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19040" y="4629240"/>
            <a:ext cx="702000" cy="1555200"/>
            <a:chOff x="419040" y="4629240"/>
            <a:chExt cx="702000" cy="1555200"/>
          </a:xfrm>
        </p:grpSpPr>
        <p:sp>
          <p:nvSpPr>
            <p:cNvPr id="8" name=""/>
            <p:cNvSpPr/>
            <p:nvPr/>
          </p:nvSpPr>
          <p:spPr>
            <a:xfrm>
              <a:off x="492120" y="4629240"/>
              <a:ext cx="509400" cy="1555200"/>
            </a:xfrm>
            <a:prstGeom prst="rtTriangle">
              <a:avLst/>
            </a:prstGeom>
            <a:gradFill rotWithShape="0">
              <a:gsLst>
                <a:gs pos="0">
                  <a:srgbClr val="1c4e35"/>
                </a:gs>
                <a:gs pos="100000">
                  <a:srgbClr val="48845c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19040" y="5024520"/>
              <a:ext cx="0" cy="108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783000" y="5056920"/>
              <a:ext cx="338040" cy="842760"/>
            </a:xfrm>
            <a:prstGeom prst="line">
              <a:avLst/>
            </a:prstGeom>
            <a:ln w="2844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7800" y="6086160"/>
              <a:ext cx="350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3300"/>
                </a:solidFill>
                <a:latin typeface="Arial"/>
              </a:rPr>
              <a:t>Capítulo 6</a:t>
            </a:r>
            <a:endParaRPr b="1" lang="en-US" sz="6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400800" cy="990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546"/>
                </a:solidFill>
                <a:latin typeface="Arial"/>
              </a:rPr>
              <a:t>La producción</a:t>
            </a:r>
            <a:endParaRPr b="0" lang="en-US" sz="60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7480" y="492120"/>
            <a:ext cx="1076400" cy="5556240"/>
          </a:xfrm>
          <a:prstGeom prst="rtTriangle">
            <a:avLst/>
          </a:prstGeom>
          <a:gradFill rotWithShape="0">
            <a:gsLst>
              <a:gs pos="0">
                <a:srgbClr val="1c4e35"/>
              </a:gs>
              <a:gs pos="100000">
                <a:srgbClr val="48845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400" y="1905120"/>
            <a:ext cx="0" cy="3879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946800" y="2491560"/>
            <a:ext cx="630720" cy="318456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5837400"/>
            <a:ext cx="739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función de producción para los alimentos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709720"/>
            <a:ext cx="8001000" cy="313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r" pos="1817640"/>
                <a:tab algn="r" pos="3203640"/>
                <a:tab algn="r" pos="4618080"/>
                <a:tab algn="r" pos="6060960"/>
                <a:tab algn="r" pos="74185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5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6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75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r" pos="1817640"/>
                <a:tab algn="r" pos="3203640"/>
                <a:tab algn="r" pos="4618080"/>
                <a:tab algn="r" pos="6060960"/>
                <a:tab algn="r" pos="74185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60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7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8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r" pos="1817640"/>
                <a:tab algn="r" pos="3203640"/>
                <a:tab algn="r" pos="4618080"/>
                <a:tab algn="r" pos="6060960"/>
                <a:tab algn="r" pos="74185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5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7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05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r" pos="1817640"/>
                <a:tab algn="r" pos="3203640"/>
                <a:tab algn="r" pos="4618080"/>
                <a:tab algn="r" pos="6060960"/>
                <a:tab algn="r" pos="74185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6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8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10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15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r" pos="1817640"/>
                <a:tab algn="r" pos="3203640"/>
                <a:tab algn="r" pos="4618080"/>
                <a:tab algn="r" pos="6060960"/>
                <a:tab algn="r" pos="74185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7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0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15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001960"/>
            <a:ext cx="914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338560"/>
                <a:tab algn="ctr" pos="3722760"/>
                <a:tab algn="ctr" pos="5079960"/>
                <a:tab algn="ctr" pos="6523200"/>
                <a:tab algn="ctr" pos="7880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tidad de capital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29000"/>
            <a:ext cx="9144000" cy="0"/>
          </a:xfrm>
          <a:prstGeom prst="line">
            <a:avLst/>
          </a:prstGeom>
          <a:ln w="5724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0920" y="1274760"/>
            <a:ext cx="3499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7960" y="1819440"/>
            <a:ext cx="6566040" cy="0"/>
          </a:xfrm>
          <a:prstGeom prst="line">
            <a:avLst/>
          </a:prstGeom>
          <a:ln w="2844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56000" y="2592360"/>
            <a:ext cx="6210000" cy="3175200"/>
            <a:chOff x="2556000" y="2592360"/>
            <a:chExt cx="6210000" cy="3175200"/>
          </a:xfrm>
        </p:grpSpPr>
        <p:sp>
          <p:nvSpPr>
            <p:cNvPr id="100" name=""/>
            <p:cNvSpPr/>
            <p:nvPr/>
          </p:nvSpPr>
          <p:spPr>
            <a:xfrm>
              <a:off x="2556000" y="5149800"/>
              <a:ext cx="617400" cy="6177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2280" y="3879720"/>
              <a:ext cx="617400" cy="6177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61120" y="3227400"/>
              <a:ext cx="617400" cy="617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48600" y="2592360"/>
              <a:ext cx="617400" cy="617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575080" y="2592360"/>
            <a:ext cx="3369960" cy="1870200"/>
            <a:chOff x="2575080" y="2592360"/>
            <a:chExt cx="3369960" cy="1870200"/>
          </a:xfrm>
        </p:grpSpPr>
        <p:sp>
          <p:nvSpPr>
            <p:cNvPr id="105" name=""/>
            <p:cNvSpPr/>
            <p:nvPr/>
          </p:nvSpPr>
          <p:spPr>
            <a:xfrm>
              <a:off x="2575080" y="3879720"/>
              <a:ext cx="582480" cy="5828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62560" y="2592360"/>
              <a:ext cx="582480" cy="582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828960" y="3049560"/>
            <a:ext cx="4975200" cy="2614680"/>
            <a:chOff x="3828960" y="3049560"/>
            <a:chExt cx="4975200" cy="2614680"/>
          </a:xfrm>
        </p:grpSpPr>
        <p:sp>
          <p:nvSpPr>
            <p:cNvPr id="108" name=""/>
            <p:cNvSpPr/>
            <p:nvPr/>
          </p:nvSpPr>
          <p:spPr>
            <a:xfrm>
              <a:off x="5275440" y="3719520"/>
              <a:ext cx="758520" cy="657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28960" y="5006880"/>
              <a:ext cx="758880" cy="657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45280" y="3049560"/>
              <a:ext cx="758880" cy="657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19400" y="1978200"/>
            <a:ext cx="3132000" cy="3282840"/>
          </a:xfrm>
          <a:custGeom>
            <a:avLst/>
            <a:gdLst/>
            <a:ahLst/>
            <a:rect l="l" t="t" r="r" b="b"/>
            <a:pathLst>
              <a:path w="1973" h="2068">
                <a:moveTo>
                  <a:pt x="0" y="0"/>
                </a:moveTo>
                <a:lnTo>
                  <a:pt x="70" y="201"/>
                </a:lnTo>
                <a:lnTo>
                  <a:pt x="139" y="403"/>
                </a:lnTo>
                <a:lnTo>
                  <a:pt x="208" y="588"/>
                </a:lnTo>
                <a:lnTo>
                  <a:pt x="290" y="768"/>
                </a:lnTo>
                <a:lnTo>
                  <a:pt x="372" y="938"/>
                </a:lnTo>
                <a:lnTo>
                  <a:pt x="460" y="1102"/>
                </a:lnTo>
                <a:lnTo>
                  <a:pt x="561" y="1256"/>
                </a:lnTo>
                <a:lnTo>
                  <a:pt x="611" y="1325"/>
                </a:lnTo>
                <a:lnTo>
                  <a:pt x="674" y="1394"/>
                </a:lnTo>
                <a:lnTo>
                  <a:pt x="744" y="1457"/>
                </a:lnTo>
                <a:lnTo>
                  <a:pt x="813" y="1521"/>
                </a:lnTo>
                <a:lnTo>
                  <a:pt x="970" y="1632"/>
                </a:lnTo>
                <a:lnTo>
                  <a:pt x="1134" y="1738"/>
                </a:lnTo>
                <a:lnTo>
                  <a:pt x="1298" y="1828"/>
                </a:lnTo>
                <a:lnTo>
                  <a:pt x="1462" y="1903"/>
                </a:lnTo>
                <a:lnTo>
                  <a:pt x="1632" y="1966"/>
                </a:lnTo>
                <a:lnTo>
                  <a:pt x="1802" y="2019"/>
                </a:lnTo>
                <a:lnTo>
                  <a:pt x="1972" y="2067"/>
                </a:lnTo>
              </a:path>
            </a:pathLst>
          </a:custGeom>
          <a:noFill/>
          <a:ln cap="rnd" w="507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7840" y="2441520"/>
            <a:ext cx="3124080" cy="3276720"/>
          </a:xfrm>
          <a:custGeom>
            <a:avLst/>
            <a:gdLst/>
            <a:ahLst/>
            <a:rect l="l" t="t" r="r" b="b"/>
            <a:pathLst>
              <a:path w="1968" h="2064">
                <a:moveTo>
                  <a:pt x="0" y="0"/>
                </a:moveTo>
                <a:lnTo>
                  <a:pt x="68" y="202"/>
                </a:lnTo>
                <a:lnTo>
                  <a:pt x="136" y="398"/>
                </a:lnTo>
                <a:lnTo>
                  <a:pt x="205" y="588"/>
                </a:lnTo>
                <a:lnTo>
                  <a:pt x="284" y="767"/>
                </a:lnTo>
                <a:lnTo>
                  <a:pt x="370" y="939"/>
                </a:lnTo>
                <a:lnTo>
                  <a:pt x="455" y="1101"/>
                </a:lnTo>
                <a:lnTo>
                  <a:pt x="557" y="1251"/>
                </a:lnTo>
                <a:lnTo>
                  <a:pt x="608" y="1320"/>
                </a:lnTo>
                <a:lnTo>
                  <a:pt x="671" y="1389"/>
                </a:lnTo>
                <a:lnTo>
                  <a:pt x="739" y="1452"/>
                </a:lnTo>
                <a:lnTo>
                  <a:pt x="807" y="1516"/>
                </a:lnTo>
                <a:lnTo>
                  <a:pt x="966" y="1631"/>
                </a:lnTo>
                <a:lnTo>
                  <a:pt x="1131" y="1735"/>
                </a:lnTo>
                <a:lnTo>
                  <a:pt x="1296" y="1821"/>
                </a:lnTo>
                <a:lnTo>
                  <a:pt x="1461" y="1896"/>
                </a:lnTo>
                <a:lnTo>
                  <a:pt x="1626" y="1959"/>
                </a:lnTo>
                <a:lnTo>
                  <a:pt x="1796" y="2017"/>
                </a:lnTo>
                <a:lnTo>
                  <a:pt x="1967" y="2063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5880" y="225360"/>
            <a:ext cx="86058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dos factores variables (</a:t>
            </a: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L,K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7000" y="1841400"/>
            <a:ext cx="0" cy="399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81400" y="5815080"/>
            <a:ext cx="532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26440" y="5859360"/>
            <a:ext cx="173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a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6560" y="5124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96560" y="42782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96560" y="34322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96560" y="2585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9216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1440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3844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6068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8436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96560" y="1739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257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5812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360" y="5440320"/>
            <a:ext cx="10058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7000" y="3657600"/>
            <a:ext cx="20653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890880"/>
            <a:ext cx="0" cy="1989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7000" y="5334120"/>
            <a:ext cx="20653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90880"/>
            <a:ext cx="0" cy="1989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4880" y="2882880"/>
            <a:ext cx="2657880" cy="1062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isocuantas descri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función de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los nivel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  55, 75, y 9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79400" y="36464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13120" y="4941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2290680"/>
            <a:ext cx="0" cy="3589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35812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3800" y="36464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95760" y="1619280"/>
            <a:ext cx="3051000" cy="3279600"/>
          </a:xfrm>
          <a:custGeom>
            <a:avLst/>
            <a:gdLst/>
            <a:ahLst/>
            <a:rect l="l" t="t" r="r" b="b"/>
            <a:pathLst>
              <a:path w="1922" h="2066">
                <a:moveTo>
                  <a:pt x="0" y="0"/>
                </a:moveTo>
                <a:lnTo>
                  <a:pt x="68" y="202"/>
                </a:lnTo>
                <a:lnTo>
                  <a:pt x="130" y="398"/>
                </a:lnTo>
                <a:lnTo>
                  <a:pt x="205" y="590"/>
                </a:lnTo>
                <a:lnTo>
                  <a:pt x="280" y="767"/>
                </a:lnTo>
                <a:lnTo>
                  <a:pt x="362" y="939"/>
                </a:lnTo>
                <a:lnTo>
                  <a:pt x="451" y="1101"/>
                </a:lnTo>
                <a:lnTo>
                  <a:pt x="547" y="1254"/>
                </a:lnTo>
                <a:lnTo>
                  <a:pt x="656" y="1391"/>
                </a:lnTo>
                <a:lnTo>
                  <a:pt x="793" y="1519"/>
                </a:lnTo>
                <a:lnTo>
                  <a:pt x="943" y="1632"/>
                </a:lnTo>
                <a:lnTo>
                  <a:pt x="1101" y="1736"/>
                </a:lnTo>
                <a:lnTo>
                  <a:pt x="1265" y="1824"/>
                </a:lnTo>
                <a:lnTo>
                  <a:pt x="1422" y="1903"/>
                </a:lnTo>
                <a:lnTo>
                  <a:pt x="1586" y="1962"/>
                </a:lnTo>
                <a:lnTo>
                  <a:pt x="1750" y="2016"/>
                </a:lnTo>
                <a:lnTo>
                  <a:pt x="1921" y="2065"/>
                </a:lnTo>
              </a:path>
            </a:pathLst>
          </a:custGeom>
          <a:noFill/>
          <a:ln cap="rnd" w="507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8360" y="5018040"/>
            <a:ext cx="10058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1880" y="4560840"/>
            <a:ext cx="10058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1905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7000" y="1981080"/>
            <a:ext cx="130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5920" y="36464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5040" y="16653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8640" y="1328760"/>
            <a:ext cx="1030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 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36480" y="1481040"/>
            <a:ext cx="37576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as de isocua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43000" y="219528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Las isocuantas muestran cómo se pueden usar distintas combinaciones de factores para producir el mismo nivel de producción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32640" indent="-3326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Esta información permite al productor responder con eficacia a los cambios de los mercados de factores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600" y="1455840"/>
            <a:ext cx="474660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ilidad de lo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as isocuantas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214720"/>
            <a:ext cx="7772400" cy="37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rto plazo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Periodo de tiempo en el que no es posible alterar las cantidades de uno o más factores de producción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Dichos factores se denomin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ctores fijos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840" y="1427040"/>
            <a:ext cx="59702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corto plazo frente al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as isocuantas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43000" y="2214720"/>
            <a:ext cx="7772400" cy="37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argo plazo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Periodo de tiempo necesario para que todos los factores de producción sean variables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as isocuantas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3840" y="1427040"/>
            <a:ext cx="59702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corto plazo frente al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189080"/>
            <a:ext cx="9144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14680"/>
                <a:tab algn="ctr" pos="3543480"/>
                <a:tab algn="ctr" pos="5086440"/>
                <a:tab algn="ctr" pos="6629400"/>
                <a:tab algn="ct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tid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14680"/>
                <a:tab algn="ctr" pos="3543480"/>
                <a:tab algn="ctr" pos="5086440"/>
                <a:tab algn="ctr" pos="6629400"/>
                <a:tab algn="ctr" pos="79437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trabajo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capital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620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0379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---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---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8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95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8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12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12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8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r" pos="1817640"/>
                <a:tab algn="r" pos="3657600"/>
                <a:tab algn="r" pos="5200560"/>
                <a:tab algn="r" pos="6743880"/>
                <a:tab algn="r" pos="81154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76546"/>
                </a:solidFill>
                <a:latin typeface="Arial"/>
              </a:rPr>
              <a:t>-8</a:t>
            </a:r>
            <a:endParaRPr b="0" lang="en-US" sz="20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Con trabajadores adicionales,  la producción (</a:t>
            </a:r>
            <a:r>
              <a:rPr b="0" i="1" lang="es-ES" sz="3200" spc="-1" strike="noStrike">
                <a:solidFill>
                  <a:srgbClr val="376546"/>
                </a:solidFill>
                <a:latin typeface="Arial"/>
              </a:rPr>
              <a:t>Q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) aumenta, alcanza un punto máximo y luego decrece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96480" y="1603440"/>
            <a:ext cx="814716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2)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El producto medio del trabajo (</a:t>
            </a:r>
            <a:r>
              <a:rPr b="0" i="1" lang="es-ES" sz="3200" spc="-1" strike="noStrike">
                <a:solidFill>
                  <a:srgbClr val="376546"/>
                </a:solidFill>
                <a:latin typeface="Arial"/>
              </a:rPr>
              <a:t>PMe</a:t>
            </a:r>
            <a:r>
              <a:rPr b="0" i="1" lang="es-ES" sz="3200" spc="-1" strike="noStrike" baseline="-25000">
                <a:solidFill>
                  <a:srgbClr val="376546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), o nivel de producción por unidad de trabajo, aumenta inicialmente, pero luego disminuye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17560" y="4497480"/>
            <a:ext cx="5926320" cy="1428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362400" y="5248440"/>
            <a:ext cx="3257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42320" y="5249880"/>
            <a:ext cx="371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54920" y="5313240"/>
            <a:ext cx="247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71760" y="4707000"/>
            <a:ext cx="322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32720" y="5313240"/>
            <a:ext cx="111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56200" y="5283360"/>
            <a:ext cx="330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antidad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82440" y="4649760"/>
            <a:ext cx="20779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61200" y="4962600"/>
            <a:ext cx="111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21360" y="4962600"/>
            <a:ext cx="111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1600" y="4876920"/>
            <a:ext cx="9396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PMe</a:t>
            </a:r>
            <a:r>
              <a:rPr b="0" i="1" lang="es-E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7360" y="496872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02680" y="490860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09200" y="1342800"/>
            <a:ext cx="8434440" cy="46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3)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El producto marginal del trabajo (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PM</a:t>
            </a:r>
            <a:r>
              <a:rPr b="0" i="1" lang="en-US" sz="3200" spc="-1" strike="noStrike" baseline="-25000">
                <a:solidFill>
                  <a:srgbClr val="376546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), o producción adicional de la cantidad de trabajo,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primero aumenta de forma muy rápida, después disminuye y se vuelve negativo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53240" y="5570640"/>
            <a:ext cx="6174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2560" y="557532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56200" y="524520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60560" y="4762440"/>
            <a:ext cx="6261120" cy="1314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75080" y="5398920"/>
            <a:ext cx="303048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56600" y="4951440"/>
            <a:ext cx="704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3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44880" y="5130720"/>
            <a:ext cx="961920" cy="6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3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0" i="1" lang="es-ES" sz="33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94760" y="5497560"/>
            <a:ext cx="4899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3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10760" y="5138640"/>
            <a:ext cx="334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31800" y="5468760"/>
            <a:ext cx="332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Cantidad de trabaj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9200" y="4844880"/>
            <a:ext cx="2215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3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84760" y="5110200"/>
            <a:ext cx="334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9480" y="5452920"/>
            <a:ext cx="7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21160" y="2514600"/>
            <a:ext cx="876600" cy="228600"/>
          </a:xfrm>
          <a:custGeom>
            <a:avLst/>
            <a:gdLst/>
            <a:ahLst/>
            <a:rect l="l" t="t" r="r" b="b"/>
            <a:pathLst>
              <a:path w="552" h="144">
                <a:moveTo>
                  <a:pt x="0" y="0"/>
                </a:moveTo>
                <a:cubicBezTo>
                  <a:pt x="122" y="12"/>
                  <a:pt x="244" y="24"/>
                  <a:pt x="336" y="48"/>
                </a:cubicBezTo>
                <a:cubicBezTo>
                  <a:pt x="428" y="72"/>
                  <a:pt x="490" y="108"/>
                  <a:pt x="552" y="144"/>
                </a:cubicBezTo>
              </a:path>
            </a:pathLst>
          </a:custGeom>
          <a:noFill/>
          <a:ln w="57240">
            <a:solidFill>
              <a:srgbClr val="3366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2400" y="3417840"/>
            <a:ext cx="173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97080" y="2514600"/>
            <a:ext cx="3124080" cy="3314880"/>
          </a:xfrm>
          <a:custGeom>
            <a:avLst/>
            <a:gdLst/>
            <a:ahLst/>
            <a:rect l="l" t="t" r="r" b="b"/>
            <a:pathLst>
              <a:path w="1968" h="2088">
                <a:moveTo>
                  <a:pt x="0" y="2088"/>
                </a:moveTo>
                <a:cubicBezTo>
                  <a:pt x="185" y="1953"/>
                  <a:pt x="370" y="1818"/>
                  <a:pt x="492" y="1668"/>
                </a:cubicBezTo>
                <a:cubicBezTo>
                  <a:pt x="614" y="1518"/>
                  <a:pt x="652" y="1354"/>
                  <a:pt x="732" y="1188"/>
                </a:cubicBezTo>
                <a:cubicBezTo>
                  <a:pt x="812" y="1022"/>
                  <a:pt x="848" y="844"/>
                  <a:pt x="972" y="672"/>
                </a:cubicBezTo>
                <a:cubicBezTo>
                  <a:pt x="1096" y="500"/>
                  <a:pt x="1310" y="268"/>
                  <a:pt x="1476" y="156"/>
                </a:cubicBezTo>
                <a:cubicBezTo>
                  <a:pt x="1642" y="44"/>
                  <a:pt x="1866" y="32"/>
                  <a:pt x="1968" y="0"/>
                </a:cubicBezTo>
              </a:path>
            </a:pathLst>
          </a:custGeom>
          <a:noFill/>
          <a:ln w="5724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638600" y="2784240"/>
            <a:ext cx="1633680" cy="79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53000" y="1262160"/>
            <a:ext cx="4051440" cy="875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pendiente de la tangente = PM (2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endiente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 PMe (2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pendiente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PM y PM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4720" y="2514600"/>
            <a:ext cx="4141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4576680"/>
            <a:ext cx="0" cy="1227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3738600"/>
            <a:ext cx="0" cy="2065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595600"/>
            <a:ext cx="0" cy="3208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1859040"/>
            <a:ext cx="0" cy="39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5835600"/>
            <a:ext cx="400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68680" y="5799240"/>
            <a:ext cx="199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men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1040" y="1511280"/>
            <a:ext cx="144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39520" y="417816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6880" y="227340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6812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6048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5576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5248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4920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448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4156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3684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3356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30280" y="585468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340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84320" y="2122560"/>
            <a:ext cx="2651760" cy="3441600"/>
            <a:chOff x="2884320" y="2122560"/>
            <a:chExt cx="2651760" cy="3441600"/>
          </a:xfrm>
        </p:grpSpPr>
        <p:sp>
          <p:nvSpPr>
            <p:cNvPr id="241" name=""/>
            <p:cNvSpPr/>
            <p:nvPr/>
          </p:nvSpPr>
          <p:spPr>
            <a:xfrm>
              <a:off x="2884320" y="5170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5105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720" y="4343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57600" y="3505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41520" y="43322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98720" y="3443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70320" y="2122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5780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222640" y="2768760"/>
            <a:ext cx="2044440" cy="3022560"/>
            <a:chOff x="2222640" y="2768760"/>
            <a:chExt cx="2044440" cy="3022560"/>
          </a:xfrm>
        </p:grpSpPr>
        <p:sp>
          <p:nvSpPr>
            <p:cNvPr id="250" name=""/>
            <p:cNvSpPr/>
            <p:nvPr/>
          </p:nvSpPr>
          <p:spPr>
            <a:xfrm flipV="1">
              <a:off x="2235240" y="2768760"/>
              <a:ext cx="2031840" cy="3009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222640" y="4451400"/>
              <a:ext cx="1117440" cy="1339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552760" y="4851360"/>
              <a:ext cx="749160" cy="876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Esbozo del capítulo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9600" y="1574280"/>
            <a:ext cx="820404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tecnología de producción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25800" indent="-32580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s isocuantas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25800" indent="-32580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producción con un factor variable (el trabajo)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25800" indent="-32580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producción con dos factores variables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25800" indent="-32580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os rendimientos de escala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2610000" y="3870360"/>
            <a:ext cx="5648040" cy="1216080"/>
            <a:chOff x="2610000" y="3870360"/>
            <a:chExt cx="5648040" cy="1216080"/>
          </a:xfrm>
        </p:grpSpPr>
        <p:grpSp>
          <p:nvGrpSpPr>
            <p:cNvPr id="255" name=""/>
            <p:cNvGrpSpPr/>
            <p:nvPr/>
          </p:nvGrpSpPr>
          <p:grpSpPr>
            <a:xfrm>
              <a:off x="2610000" y="3994200"/>
              <a:ext cx="3276360" cy="1092240"/>
              <a:chOff x="2610000" y="3994200"/>
              <a:chExt cx="3276360" cy="1092240"/>
            </a:xfrm>
          </p:grpSpPr>
          <p:sp>
            <p:nvSpPr>
              <p:cNvPr id="256" name=""/>
              <p:cNvSpPr/>
              <p:nvPr/>
            </p:nvSpPr>
            <p:spPr>
              <a:xfrm>
                <a:off x="2610000" y="3994200"/>
                <a:ext cx="2666880" cy="1092240"/>
              </a:xfrm>
              <a:custGeom>
                <a:avLst/>
                <a:gdLst/>
                <a:ahLst/>
                <a:rect l="l" t="t" r="r" b="b"/>
                <a:pathLst>
                  <a:path w="1680" h="688">
                    <a:moveTo>
                      <a:pt x="0" y="688"/>
                    </a:moveTo>
                    <a:cubicBezTo>
                      <a:pt x="220" y="408"/>
                      <a:pt x="440" y="128"/>
                      <a:pt x="720" y="64"/>
                    </a:cubicBezTo>
                    <a:cubicBezTo>
                      <a:pt x="1000" y="0"/>
                      <a:pt x="1340" y="152"/>
                      <a:pt x="1680" y="304"/>
                    </a:cubicBezTo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53200" y="4533840"/>
                <a:ext cx="533160" cy="247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334560" y="3870360"/>
              <a:ext cx="1923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o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363640" y="4056120"/>
              <a:ext cx="1011240" cy="35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3684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1859040"/>
            <a:ext cx="0" cy="39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39520" y="491508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39520" y="38988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70680" y="194616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1859040"/>
            <a:ext cx="0" cy="39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6812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6048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5576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5248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4920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448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4156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3356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30280" y="585468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3400" y="58546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5835600"/>
            <a:ext cx="400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39520" y="279396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687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733920" y="4212720"/>
            <a:ext cx="0" cy="1614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571840" y="2771640"/>
            <a:ext cx="3073320" cy="3235320"/>
            <a:chOff x="2571840" y="2771640"/>
            <a:chExt cx="3073320" cy="3235320"/>
          </a:xfrm>
        </p:grpSpPr>
        <p:sp>
          <p:nvSpPr>
            <p:cNvPr id="284" name=""/>
            <p:cNvSpPr/>
            <p:nvPr/>
          </p:nvSpPr>
          <p:spPr>
            <a:xfrm>
              <a:off x="5288040" y="5821200"/>
              <a:ext cx="357120" cy="185760"/>
            </a:xfrm>
            <a:prstGeom prst="line">
              <a:avLst/>
            </a:prstGeom>
            <a:ln w="507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71840" y="2771640"/>
              <a:ext cx="2705040" cy="3057840"/>
            </a:xfrm>
            <a:custGeom>
              <a:avLst/>
              <a:gdLst/>
              <a:ahLst/>
              <a:rect l="l" t="t" r="r" b="b"/>
              <a:pathLst>
                <a:path w="1704" h="1926">
                  <a:moveTo>
                    <a:pt x="0" y="1470"/>
                  </a:moveTo>
                  <a:cubicBezTo>
                    <a:pt x="173" y="837"/>
                    <a:pt x="346" y="204"/>
                    <a:pt x="468" y="102"/>
                  </a:cubicBezTo>
                  <a:cubicBezTo>
                    <a:pt x="590" y="0"/>
                    <a:pt x="616" y="632"/>
                    <a:pt x="732" y="858"/>
                  </a:cubicBezTo>
                  <a:cubicBezTo>
                    <a:pt x="848" y="1084"/>
                    <a:pt x="1002" y="1280"/>
                    <a:pt x="1164" y="1458"/>
                  </a:cubicBezTo>
                  <a:cubicBezTo>
                    <a:pt x="1326" y="1636"/>
                    <a:pt x="1592" y="1828"/>
                    <a:pt x="1704" y="1926"/>
                  </a:cubicBezTo>
                </a:path>
              </a:pathLst>
            </a:cu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57600" y="4038480"/>
            <a:ext cx="15228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352680" y="2917440"/>
            <a:ext cx="0" cy="2909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74080" y="3119400"/>
            <a:ext cx="226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o margi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516480" y="2990520"/>
            <a:ext cx="947520" cy="28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39720" y="1471680"/>
            <a:ext cx="551916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izquierda de E: PM &gt; PMe y PMe es crec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derecha de E: PM &lt; PMe y PMe es decrec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 PM = PMe y PMe alcanza su máxi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1040" y="1511280"/>
            <a:ext cx="144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68680" y="5799240"/>
            <a:ext cx="199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mens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66360" y="1719360"/>
            <a:ext cx="824868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uando 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PM = 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0, 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PT 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alcanza su máximo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uando 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PM &gt; PMe, PMe 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es creciente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uando 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PM &lt; PMe, PMe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 es decreciente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uando 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PM = PMe, PMe 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alcanza su máximo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879480" y="4716360"/>
            <a:ext cx="801720" cy="101448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906480" y="3247920"/>
            <a:ext cx="1606680" cy="244944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200" y="104760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9120" y="120636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87720" y="3378240"/>
            <a:ext cx="620640" cy="162000"/>
          </a:xfrm>
          <a:custGeom>
            <a:avLst/>
            <a:gdLst/>
            <a:ahLst/>
            <a:rect l="l" t="t" r="r" b="b"/>
            <a:pathLst>
              <a:path w="552" h="144">
                <a:moveTo>
                  <a:pt x="0" y="0"/>
                </a:moveTo>
                <a:cubicBezTo>
                  <a:pt x="122" y="12"/>
                  <a:pt x="244" y="24"/>
                  <a:pt x="336" y="48"/>
                </a:cubicBezTo>
                <a:cubicBezTo>
                  <a:pt x="428" y="72"/>
                  <a:pt x="490" y="108"/>
                  <a:pt x="552" y="144"/>
                </a:cubicBezTo>
              </a:path>
            </a:pathLst>
          </a:custGeom>
          <a:noFill/>
          <a:ln w="57240">
            <a:solidFill>
              <a:srgbClr val="3366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73000" y="3378240"/>
            <a:ext cx="2214720" cy="2347920"/>
          </a:xfrm>
          <a:custGeom>
            <a:avLst/>
            <a:gdLst/>
            <a:ahLst/>
            <a:rect l="l" t="t" r="r" b="b"/>
            <a:pathLst>
              <a:path w="1968" h="2088">
                <a:moveTo>
                  <a:pt x="0" y="2088"/>
                </a:moveTo>
                <a:cubicBezTo>
                  <a:pt x="185" y="1953"/>
                  <a:pt x="370" y="1818"/>
                  <a:pt x="492" y="1668"/>
                </a:cubicBezTo>
                <a:cubicBezTo>
                  <a:pt x="614" y="1518"/>
                  <a:pt x="652" y="1354"/>
                  <a:pt x="732" y="1188"/>
                </a:cubicBezTo>
                <a:cubicBezTo>
                  <a:pt x="812" y="1022"/>
                  <a:pt x="848" y="844"/>
                  <a:pt x="972" y="672"/>
                </a:cubicBezTo>
                <a:cubicBezTo>
                  <a:pt x="1096" y="500"/>
                  <a:pt x="1310" y="268"/>
                  <a:pt x="1476" y="156"/>
                </a:cubicBezTo>
                <a:cubicBezTo>
                  <a:pt x="1642" y="44"/>
                  <a:pt x="1866" y="32"/>
                  <a:pt x="1968" y="0"/>
                </a:cubicBezTo>
              </a:path>
            </a:pathLst>
          </a:custGeom>
          <a:noFill/>
          <a:ln w="5724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1360" y="6183360"/>
            <a:ext cx="177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3000" y="2913120"/>
            <a:ext cx="0" cy="283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3000" y="5730840"/>
            <a:ext cx="2840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4200" y="45576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6560" y="32083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64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6360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4296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2556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0672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8752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868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4624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740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8560" y="57466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82800" y="5746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89160" y="52624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60440" y="5214960"/>
            <a:ext cx="10800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30440" y="4675320"/>
            <a:ext cx="108000" cy="107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0080" y="4081320"/>
            <a:ext cx="10656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33720" y="3324240"/>
            <a:ext cx="10800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4720" y="46674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4880" y="38559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0360" y="2970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14560" y="4986000"/>
            <a:ext cx="600120" cy="646200"/>
          </a:xfrm>
          <a:prstGeom prst="line">
            <a:avLst/>
          </a:prstGeom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78040" y="3378240"/>
            <a:ext cx="2933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84440" y="4840200"/>
            <a:ext cx="0" cy="868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54080" y="4245120"/>
            <a:ext cx="0" cy="1463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7720" y="3598920"/>
            <a:ext cx="0" cy="2109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9200" y="628164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92880" y="5748480"/>
            <a:ext cx="233280" cy="120600"/>
          </a:xfrm>
          <a:prstGeom prst="line">
            <a:avLst/>
          </a:prstGeom>
          <a:ln w="507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27800" y="3763800"/>
            <a:ext cx="1757160" cy="1989360"/>
          </a:xfrm>
          <a:custGeom>
            <a:avLst/>
            <a:gdLst/>
            <a:ahLst/>
            <a:rect l="l" t="t" r="r" b="b"/>
            <a:pathLst>
              <a:path w="1704" h="1926">
                <a:moveTo>
                  <a:pt x="0" y="1470"/>
                </a:moveTo>
                <a:cubicBezTo>
                  <a:pt x="173" y="837"/>
                  <a:pt x="346" y="204"/>
                  <a:pt x="468" y="102"/>
                </a:cubicBezTo>
                <a:cubicBezTo>
                  <a:pt x="590" y="0"/>
                  <a:pt x="616" y="632"/>
                  <a:pt x="732" y="858"/>
                </a:cubicBezTo>
                <a:cubicBezTo>
                  <a:pt x="848" y="1084"/>
                  <a:pt x="1002" y="1280"/>
                  <a:pt x="1164" y="1458"/>
                </a:cubicBezTo>
                <a:cubicBezTo>
                  <a:pt x="1326" y="1636"/>
                  <a:pt x="1592" y="1828"/>
                  <a:pt x="1704" y="1926"/>
                </a:cubicBezTo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51560" y="4559400"/>
            <a:ext cx="1735200" cy="711000"/>
          </a:xfrm>
          <a:custGeom>
            <a:avLst/>
            <a:gdLst/>
            <a:ahLst/>
            <a:rect l="l" t="t" r="r" b="b"/>
            <a:pathLst>
              <a:path w="1680" h="688">
                <a:moveTo>
                  <a:pt x="0" y="688"/>
                </a:moveTo>
                <a:cubicBezTo>
                  <a:pt x="220" y="408"/>
                  <a:pt x="440" y="128"/>
                  <a:pt x="720" y="64"/>
                </a:cubicBezTo>
                <a:cubicBezTo>
                  <a:pt x="1000" y="0"/>
                  <a:pt x="1340" y="152"/>
                  <a:pt x="1680" y="304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37520" y="4910040"/>
            <a:ext cx="345960" cy="162000"/>
          </a:xfrm>
          <a:prstGeom prst="line">
            <a:avLst/>
          </a:prstGeom>
          <a:ln w="572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97840" y="5776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89480" y="3170160"/>
            <a:ext cx="0" cy="259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90600" y="515772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90600" y="449892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64360" y="4265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32680" y="4589640"/>
            <a:ext cx="99720" cy="997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83440" y="4665240"/>
            <a:ext cx="0" cy="1087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033960" y="3858840"/>
            <a:ext cx="0" cy="1893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02640" y="3228840"/>
            <a:ext cx="131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89480" y="3170160"/>
            <a:ext cx="0" cy="259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32520" y="5776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8400" y="5776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08680" y="5776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64280" y="5776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23120" y="5776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78720" y="5776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7200" y="5776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53440" y="5773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15520" y="5772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2800" y="57704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89480" y="5757840"/>
            <a:ext cx="260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90600" y="37782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5120" y="1339920"/>
            <a:ext cx="8547120" cy="102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7680" y="1465200"/>
            <a:ext cx="844704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85716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Me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diente de la recta que va desde el origen hasta el punto correspondiente de la curva de producto total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recta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b y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6667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M  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diente de una tangente en cualquier punto de la curva d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rectas a y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960" y="2540160"/>
            <a:ext cx="111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s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37600" y="6008760"/>
            <a:ext cx="179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bajo mens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57920" y="2597040"/>
            <a:ext cx="111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s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61960" y="6008760"/>
            <a:ext cx="1790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bajo mens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143000" y="22716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A medida que van añadiéndose cantidades adicionales iguales de un factor, acaba alcanzándose un punto en el que los incrementos de la producción son cada vez menores, es decir,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PM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disminuye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12040" y="1477800"/>
            <a:ext cx="7652880" cy="45972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ey de los rendimientos marginales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43000" y="2233440"/>
            <a:ext cx="7772400" cy="37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uando la cantidad de trabajo es pequeña, </a:t>
            </a:r>
            <a:r>
              <a:rPr b="0" i="1" lang="es-ES" sz="3200" spc="-1" strike="noStrike">
                <a:solidFill>
                  <a:srgbClr val="376546"/>
                </a:solidFill>
                <a:latin typeface="Arial"/>
              </a:rPr>
              <a:t>PM 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aumenta debido a la especialización de las tareas realizadas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32640" indent="-3326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Cuando la cantidad de trabajo es alta, </a:t>
            </a:r>
            <a:r>
              <a:rPr b="0" i="1" lang="es-ES" sz="3200" spc="-1" strike="noStrike">
                <a:solidFill>
                  <a:srgbClr val="376546"/>
                </a:solidFill>
                <a:latin typeface="Arial"/>
              </a:rPr>
              <a:t>PM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 disminuye debido a la falta de eficacia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2040" y="1477800"/>
            <a:ext cx="7652880" cy="45972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ey de los rendimientos marginales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143000" y="22716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Se puede aplicar a largo plazo para analizar las disyuntivas de dos tamaños de plantas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e supone que la calidad de los factores variables es constante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2040" y="1477800"/>
            <a:ext cx="7652880" cy="45972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ey de los rendimientos marginales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143000" y="22716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Describe un </a:t>
            </a:r>
            <a:r>
              <a:rPr b="0" i="1" lang="es-ES" sz="3200" spc="-1" strike="noStrike">
                <a:solidFill>
                  <a:srgbClr val="376546"/>
                </a:solidFill>
                <a:latin typeface="Arial"/>
              </a:rPr>
              <a:t>PM 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decreciente, pero no necesariamente negativo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La ley de los rendimientos marginales decrecientes se aplica a una tecnología de producción dada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2040" y="1477800"/>
            <a:ext cx="7652880" cy="45972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ey de los rendimientos marginales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El efecto de la mejora tecnológica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1420920"/>
            <a:ext cx="0" cy="458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90600" y="5987880"/>
            <a:ext cx="444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52800" y="5608800"/>
            <a:ext cx="2094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bajo por perio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4800" y="1434960"/>
            <a:ext cx="15955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perio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39520" y="414036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86880" y="234936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6812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6048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5576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5248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4920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4448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4156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3684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3356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30280" y="59310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63400" y="59310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212920" y="3687840"/>
            <a:ext cx="4699800" cy="2334960"/>
            <a:chOff x="2212920" y="3687840"/>
            <a:chExt cx="4699800" cy="2334960"/>
          </a:xfrm>
        </p:grpSpPr>
        <p:sp>
          <p:nvSpPr>
            <p:cNvPr id="412" name=""/>
            <p:cNvSpPr/>
            <p:nvPr/>
          </p:nvSpPr>
          <p:spPr>
            <a:xfrm>
              <a:off x="2212920" y="4122720"/>
              <a:ext cx="4253040" cy="1900080"/>
            </a:xfrm>
            <a:custGeom>
              <a:avLst/>
              <a:gdLst/>
              <a:ahLst/>
              <a:rect l="l" t="t" r="r" b="b"/>
              <a:pathLst>
                <a:path w="2679" h="1197">
                  <a:moveTo>
                    <a:pt x="0" y="1196"/>
                  </a:moveTo>
                  <a:lnTo>
                    <a:pt x="124" y="1172"/>
                  </a:lnTo>
                  <a:lnTo>
                    <a:pt x="248" y="1141"/>
                  </a:lnTo>
                  <a:lnTo>
                    <a:pt x="365" y="1105"/>
                  </a:lnTo>
                  <a:lnTo>
                    <a:pt x="476" y="1050"/>
                  </a:lnTo>
                  <a:lnTo>
                    <a:pt x="580" y="984"/>
                  </a:lnTo>
                  <a:lnTo>
                    <a:pt x="678" y="905"/>
                  </a:lnTo>
                  <a:lnTo>
                    <a:pt x="769" y="820"/>
                  </a:lnTo>
                  <a:lnTo>
                    <a:pt x="860" y="717"/>
                  </a:lnTo>
                  <a:lnTo>
                    <a:pt x="906" y="656"/>
                  </a:lnTo>
                  <a:lnTo>
                    <a:pt x="958" y="589"/>
                  </a:lnTo>
                  <a:lnTo>
                    <a:pt x="1049" y="443"/>
                  </a:lnTo>
                  <a:lnTo>
                    <a:pt x="1095" y="371"/>
                  </a:lnTo>
                  <a:lnTo>
                    <a:pt x="1140" y="304"/>
                  </a:lnTo>
                  <a:lnTo>
                    <a:pt x="1180" y="243"/>
                  </a:lnTo>
                  <a:lnTo>
                    <a:pt x="1219" y="195"/>
                  </a:lnTo>
                  <a:lnTo>
                    <a:pt x="1251" y="158"/>
                  </a:lnTo>
                  <a:lnTo>
                    <a:pt x="1277" y="128"/>
                  </a:lnTo>
                  <a:lnTo>
                    <a:pt x="1310" y="104"/>
                  </a:lnTo>
                  <a:lnTo>
                    <a:pt x="1329" y="85"/>
                  </a:lnTo>
                  <a:lnTo>
                    <a:pt x="1381" y="61"/>
                  </a:lnTo>
                  <a:lnTo>
                    <a:pt x="1440" y="43"/>
                  </a:lnTo>
                  <a:lnTo>
                    <a:pt x="1505" y="25"/>
                  </a:lnTo>
                  <a:lnTo>
                    <a:pt x="1577" y="13"/>
                  </a:lnTo>
                  <a:lnTo>
                    <a:pt x="1720" y="0"/>
                  </a:lnTo>
                  <a:lnTo>
                    <a:pt x="1785" y="0"/>
                  </a:lnTo>
                  <a:lnTo>
                    <a:pt x="1851" y="7"/>
                  </a:lnTo>
                  <a:lnTo>
                    <a:pt x="1981" y="31"/>
                  </a:lnTo>
                  <a:lnTo>
                    <a:pt x="2053" y="55"/>
                  </a:lnTo>
                  <a:lnTo>
                    <a:pt x="2131" y="85"/>
                  </a:lnTo>
                  <a:lnTo>
                    <a:pt x="2202" y="122"/>
                  </a:lnTo>
                  <a:lnTo>
                    <a:pt x="2274" y="158"/>
                  </a:lnTo>
                  <a:lnTo>
                    <a:pt x="2333" y="201"/>
                  </a:lnTo>
                  <a:lnTo>
                    <a:pt x="2378" y="249"/>
                  </a:lnTo>
                  <a:lnTo>
                    <a:pt x="2483" y="352"/>
                  </a:lnTo>
                  <a:lnTo>
                    <a:pt x="2535" y="413"/>
                  </a:lnTo>
                  <a:lnTo>
                    <a:pt x="2593" y="486"/>
                  </a:lnTo>
                  <a:lnTo>
                    <a:pt x="2639" y="547"/>
                  </a:lnTo>
                  <a:lnTo>
                    <a:pt x="2658" y="577"/>
                  </a:lnTo>
                  <a:lnTo>
                    <a:pt x="2678" y="59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4495680" y="4194000"/>
              <a:ext cx="0" cy="1748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14720" y="4191120"/>
              <a:ext cx="2141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16040" y="36878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50840" y="486576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211480" y="1676520"/>
            <a:ext cx="4491720" cy="4474800"/>
            <a:chOff x="2211480" y="1676520"/>
            <a:chExt cx="4491720" cy="4474800"/>
          </a:xfrm>
        </p:grpSpPr>
        <p:sp>
          <p:nvSpPr>
            <p:cNvPr id="419" name=""/>
            <p:cNvSpPr/>
            <p:nvPr/>
          </p:nvSpPr>
          <p:spPr>
            <a:xfrm flipV="1">
              <a:off x="5334120" y="1793520"/>
              <a:ext cx="0" cy="4357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11480" y="1779480"/>
              <a:ext cx="4341600" cy="4167360"/>
            </a:xfrm>
            <a:custGeom>
              <a:avLst/>
              <a:gdLst/>
              <a:ahLst/>
              <a:rect l="l" t="t" r="r" b="b"/>
              <a:pathLst>
                <a:path w="2735" h="2625">
                  <a:moveTo>
                    <a:pt x="0" y="2624"/>
                  </a:moveTo>
                  <a:lnTo>
                    <a:pt x="34" y="2600"/>
                  </a:lnTo>
                  <a:lnTo>
                    <a:pt x="73" y="2576"/>
                  </a:lnTo>
                  <a:lnTo>
                    <a:pt x="126" y="2540"/>
                  </a:lnTo>
                  <a:lnTo>
                    <a:pt x="186" y="2504"/>
                  </a:lnTo>
                  <a:lnTo>
                    <a:pt x="312" y="2408"/>
                  </a:lnTo>
                  <a:lnTo>
                    <a:pt x="372" y="2348"/>
                  </a:lnTo>
                  <a:lnTo>
                    <a:pt x="425" y="2288"/>
                  </a:lnTo>
                  <a:lnTo>
                    <a:pt x="471" y="2217"/>
                  </a:lnTo>
                  <a:lnTo>
                    <a:pt x="525" y="2145"/>
                  </a:lnTo>
                  <a:lnTo>
                    <a:pt x="617" y="1971"/>
                  </a:lnTo>
                  <a:lnTo>
                    <a:pt x="717" y="1779"/>
                  </a:lnTo>
                  <a:lnTo>
                    <a:pt x="817" y="1563"/>
                  </a:lnTo>
                  <a:lnTo>
                    <a:pt x="870" y="1444"/>
                  </a:lnTo>
                  <a:lnTo>
                    <a:pt x="929" y="1300"/>
                  </a:lnTo>
                  <a:lnTo>
                    <a:pt x="996" y="1150"/>
                  </a:lnTo>
                  <a:lnTo>
                    <a:pt x="1055" y="1000"/>
                  </a:lnTo>
                  <a:lnTo>
                    <a:pt x="1115" y="850"/>
                  </a:lnTo>
                  <a:lnTo>
                    <a:pt x="1175" y="713"/>
                  </a:lnTo>
                  <a:lnTo>
                    <a:pt x="1221" y="587"/>
                  </a:lnTo>
                  <a:lnTo>
                    <a:pt x="1248" y="533"/>
                  </a:lnTo>
                  <a:lnTo>
                    <a:pt x="1268" y="485"/>
                  </a:lnTo>
                  <a:lnTo>
                    <a:pt x="1301" y="407"/>
                  </a:lnTo>
                  <a:lnTo>
                    <a:pt x="1334" y="347"/>
                  </a:lnTo>
                  <a:lnTo>
                    <a:pt x="1354" y="293"/>
                  </a:lnTo>
                  <a:lnTo>
                    <a:pt x="1374" y="257"/>
                  </a:lnTo>
                  <a:lnTo>
                    <a:pt x="1394" y="221"/>
                  </a:lnTo>
                  <a:lnTo>
                    <a:pt x="1414" y="197"/>
                  </a:lnTo>
                  <a:lnTo>
                    <a:pt x="1460" y="143"/>
                  </a:lnTo>
                  <a:lnTo>
                    <a:pt x="1513" y="95"/>
                  </a:lnTo>
                  <a:lnTo>
                    <a:pt x="1573" y="59"/>
                  </a:lnTo>
                  <a:lnTo>
                    <a:pt x="1633" y="35"/>
                  </a:lnTo>
                  <a:lnTo>
                    <a:pt x="1699" y="17"/>
                  </a:lnTo>
                  <a:lnTo>
                    <a:pt x="1765" y="5"/>
                  </a:lnTo>
                  <a:lnTo>
                    <a:pt x="1838" y="0"/>
                  </a:lnTo>
                  <a:lnTo>
                    <a:pt x="1911" y="0"/>
                  </a:lnTo>
                  <a:lnTo>
                    <a:pt x="1978" y="0"/>
                  </a:lnTo>
                  <a:lnTo>
                    <a:pt x="2031" y="0"/>
                  </a:lnTo>
                  <a:lnTo>
                    <a:pt x="2077" y="0"/>
                  </a:lnTo>
                  <a:lnTo>
                    <a:pt x="2124" y="11"/>
                  </a:lnTo>
                  <a:lnTo>
                    <a:pt x="2177" y="29"/>
                  </a:lnTo>
                  <a:lnTo>
                    <a:pt x="2243" y="59"/>
                  </a:lnTo>
                  <a:lnTo>
                    <a:pt x="2316" y="101"/>
                  </a:lnTo>
                  <a:lnTo>
                    <a:pt x="2396" y="149"/>
                  </a:lnTo>
                  <a:lnTo>
                    <a:pt x="2469" y="209"/>
                  </a:lnTo>
                  <a:lnTo>
                    <a:pt x="2502" y="245"/>
                  </a:lnTo>
                  <a:lnTo>
                    <a:pt x="2535" y="293"/>
                  </a:lnTo>
                  <a:lnTo>
                    <a:pt x="2608" y="401"/>
                  </a:lnTo>
                  <a:lnTo>
                    <a:pt x="2635" y="449"/>
                  </a:lnTo>
                  <a:lnTo>
                    <a:pt x="2668" y="497"/>
                  </a:lnTo>
                  <a:lnTo>
                    <a:pt x="2688" y="539"/>
                  </a:lnTo>
                  <a:lnTo>
                    <a:pt x="2708" y="569"/>
                  </a:lnTo>
                  <a:lnTo>
                    <a:pt x="2721" y="587"/>
                  </a:lnTo>
                  <a:lnTo>
                    <a:pt x="2727" y="599"/>
                  </a:lnTo>
                  <a:lnTo>
                    <a:pt x="2734" y="599"/>
                  </a:lnTo>
                  <a:lnTo>
                    <a:pt x="2727" y="587"/>
                  </a:lnTo>
                  <a:lnTo>
                    <a:pt x="2727" y="581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52520" y="1752480"/>
              <a:ext cx="29419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7800" y="1676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22600" y="1741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41320" y="265572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2241720" y="3106800"/>
            <a:ext cx="4236840" cy="2870280"/>
          </a:xfrm>
          <a:custGeom>
            <a:avLst/>
            <a:gdLst/>
            <a:ahLst/>
            <a:rect l="l" t="t" r="r" b="b"/>
            <a:pathLst>
              <a:path w="2669" h="1808">
                <a:moveTo>
                  <a:pt x="0" y="1807"/>
                </a:moveTo>
                <a:lnTo>
                  <a:pt x="33" y="1789"/>
                </a:lnTo>
                <a:lnTo>
                  <a:pt x="73" y="1771"/>
                </a:lnTo>
                <a:lnTo>
                  <a:pt x="125" y="1753"/>
                </a:lnTo>
                <a:lnTo>
                  <a:pt x="184" y="1723"/>
                </a:lnTo>
                <a:lnTo>
                  <a:pt x="309" y="1656"/>
                </a:lnTo>
                <a:lnTo>
                  <a:pt x="368" y="1614"/>
                </a:lnTo>
                <a:lnTo>
                  <a:pt x="421" y="1572"/>
                </a:lnTo>
                <a:lnTo>
                  <a:pt x="519" y="1476"/>
                </a:lnTo>
                <a:lnTo>
                  <a:pt x="618" y="1361"/>
                </a:lnTo>
                <a:lnTo>
                  <a:pt x="717" y="1229"/>
                </a:lnTo>
                <a:lnTo>
                  <a:pt x="809" y="1078"/>
                </a:lnTo>
                <a:lnTo>
                  <a:pt x="861" y="988"/>
                </a:lnTo>
                <a:lnTo>
                  <a:pt x="907" y="892"/>
                </a:lnTo>
                <a:lnTo>
                  <a:pt x="960" y="783"/>
                </a:lnTo>
                <a:lnTo>
                  <a:pt x="1006" y="675"/>
                </a:lnTo>
                <a:lnTo>
                  <a:pt x="1052" y="566"/>
                </a:lnTo>
                <a:lnTo>
                  <a:pt x="1091" y="464"/>
                </a:lnTo>
                <a:lnTo>
                  <a:pt x="1130" y="374"/>
                </a:lnTo>
                <a:lnTo>
                  <a:pt x="1170" y="301"/>
                </a:lnTo>
                <a:lnTo>
                  <a:pt x="1203" y="247"/>
                </a:lnTo>
                <a:lnTo>
                  <a:pt x="1236" y="205"/>
                </a:lnTo>
                <a:lnTo>
                  <a:pt x="1262" y="175"/>
                </a:lnTo>
                <a:lnTo>
                  <a:pt x="1288" y="145"/>
                </a:lnTo>
                <a:lnTo>
                  <a:pt x="1341" y="109"/>
                </a:lnTo>
                <a:lnTo>
                  <a:pt x="1400" y="79"/>
                </a:lnTo>
                <a:lnTo>
                  <a:pt x="1465" y="48"/>
                </a:lnTo>
                <a:lnTo>
                  <a:pt x="1538" y="30"/>
                </a:lnTo>
                <a:lnTo>
                  <a:pt x="1610" y="18"/>
                </a:lnTo>
                <a:lnTo>
                  <a:pt x="1682" y="12"/>
                </a:lnTo>
                <a:lnTo>
                  <a:pt x="1755" y="6"/>
                </a:lnTo>
                <a:lnTo>
                  <a:pt x="1820" y="0"/>
                </a:lnTo>
                <a:lnTo>
                  <a:pt x="1886" y="6"/>
                </a:lnTo>
                <a:lnTo>
                  <a:pt x="1958" y="24"/>
                </a:lnTo>
                <a:lnTo>
                  <a:pt x="2050" y="54"/>
                </a:lnTo>
                <a:lnTo>
                  <a:pt x="2155" y="91"/>
                </a:lnTo>
                <a:lnTo>
                  <a:pt x="2260" y="139"/>
                </a:lnTo>
                <a:lnTo>
                  <a:pt x="2352" y="199"/>
                </a:lnTo>
                <a:lnTo>
                  <a:pt x="2392" y="235"/>
                </a:lnTo>
                <a:lnTo>
                  <a:pt x="2438" y="283"/>
                </a:lnTo>
                <a:lnTo>
                  <a:pt x="2517" y="386"/>
                </a:lnTo>
                <a:lnTo>
                  <a:pt x="2556" y="434"/>
                </a:lnTo>
                <a:lnTo>
                  <a:pt x="2589" y="482"/>
                </a:lnTo>
                <a:lnTo>
                  <a:pt x="2622" y="524"/>
                </a:lnTo>
                <a:lnTo>
                  <a:pt x="2641" y="554"/>
                </a:lnTo>
                <a:lnTo>
                  <a:pt x="2655" y="578"/>
                </a:lnTo>
                <a:lnTo>
                  <a:pt x="2668" y="590"/>
                </a:lnTo>
                <a:lnTo>
                  <a:pt x="2668" y="603"/>
                </a:lnTo>
                <a:lnTo>
                  <a:pt x="2661" y="603"/>
                </a:lnTo>
                <a:lnTo>
                  <a:pt x="2661" y="609"/>
                </a:lnTo>
              </a:path>
            </a:pathLst>
          </a:custGeom>
          <a:noFill/>
          <a:ln cap="rnd" w="507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93600" y="4027320"/>
            <a:ext cx="461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14720" y="3124080"/>
            <a:ext cx="2598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952880" y="3146040"/>
            <a:ext cx="0" cy="2814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76920" y="3048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89080" y="2579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75560" y="1601640"/>
            <a:ext cx="2303640" cy="158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1800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roductividad del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 aumentar si  mej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tecnología, aun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rendimie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l trabajo en un proce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producción determin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an decrec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104840" y="162684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Malthus creía que el hambre y la inanición serían generales a medida que disminuyeran tanto la productividad marginal del trabajo como la productividad media y hubiera más bocas que alimentar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¿Por qué Malthus estaba en un error?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46188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Malthus y la crisis de los alimentos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50440" y="34272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Índice de consumo mundial de alimentos per cápita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72720"/>
            <a:ext cx="5562720" cy="407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3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33560"/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948-1952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53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33560"/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960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15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53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33560"/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970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23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53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33560"/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980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53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33560"/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990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37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53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33560"/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995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35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53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33560"/>
                <a:tab algn="l" pos="430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998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2040" y="1265400"/>
            <a:ext cx="396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Ín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93880" y="1790640"/>
            <a:ext cx="3297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Introducción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6480" y="1459080"/>
            <a:ext cx="814716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Nos centraremos en el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lado de la oferta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</a:t>
            </a:r>
            <a:r>
              <a:rPr b="1" lang="en-US" sz="3200" spc="-1" strike="noStrike">
                <a:solidFill>
                  <a:srgbClr val="376546"/>
                </a:solidFill>
                <a:latin typeface="Arial"/>
              </a:rPr>
              <a:t> teoría de la empresa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explica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ómo una empresa toma decisiones de producción minimizadoras de los costes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ómo estos varían con la producción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s características de la oferta del mercado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os problemas sobre las reglamentaciones en las empresas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os datos muestran que los aumentos de producción han sobrepasado el crecimiento demográfico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Malthus no tuvo en cuenta la gran influencia de la tecnología que ha permitido que la oferta de alimentos crezca más rápido que la demanda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25236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Malthus y la crisis de los alimentos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La tecnología ha creado excedentes y ha reducido los precios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2801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Si existen excedentes alimenticios, ¿por qué el hambre sigue siendo un problema?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25236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Malthus y la crisis de los alimentos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spuesta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Debido al coste de la distribución de alimentos de las regiones más productivas a las menos productivas y a la renta baja de las regiones menos productivas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236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Malthus y la crisis de los alimentos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productividad del trabajo: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88200" y="395460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627960" y="345600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51400" y="367812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03560" y="367812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955800" y="3056040"/>
            <a:ext cx="7732440" cy="1199880"/>
            <a:chOff x="955800" y="3056040"/>
            <a:chExt cx="7732440" cy="1199880"/>
          </a:xfrm>
        </p:grpSpPr>
        <p:sp>
          <p:nvSpPr>
            <p:cNvPr id="463" name=""/>
            <p:cNvSpPr/>
            <p:nvPr/>
          </p:nvSpPr>
          <p:spPr>
            <a:xfrm>
              <a:off x="955800" y="3056040"/>
              <a:ext cx="7732440" cy="1199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11960" y="3753000"/>
              <a:ext cx="3882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Cantidad total de trabaj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55840" y="3168720"/>
              <a:ext cx="255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Producción tot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33560" y="3419640"/>
              <a:ext cx="3228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Productividad me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17480" y="338472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75320" y="3606840"/>
              <a:ext cx="38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productividad del trabajo y el nivel de vida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El nivel de consumo puede incrementarse, sólo si la productividad aumenta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Determinantes de la productividad: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Stock de capital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ambio tecnológico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tividad del trabajo en los países desarrollado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3886200"/>
            <a:ext cx="8305920" cy="16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r" pos="2343240"/>
                <a:tab algn="r" pos="3486240"/>
                <a:tab algn="r" pos="4857840"/>
                <a:tab algn="r" pos="6229440"/>
                <a:tab algn="r" pos="77151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960-1973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4,75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4,04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8,30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2,89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2,36</a:t>
            </a:r>
            <a:endParaRPr b="0" lang="en-US" sz="24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r" pos="2343240"/>
                <a:tab algn="r" pos="3486240"/>
                <a:tab algn="r" pos="4857840"/>
                <a:tab algn="r" pos="6229440"/>
                <a:tab algn="r" pos="77151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974-1986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2,10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,85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2,50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,69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0,71</a:t>
            </a:r>
            <a:endParaRPr b="0" lang="en-US" sz="2400" spc="-1" strike="noStrike">
              <a:solidFill>
                <a:srgbClr val="376546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r" pos="2343240"/>
                <a:tab algn="r" pos="3486240"/>
                <a:tab algn="r" pos="4857840"/>
                <a:tab algn="r" pos="6229440"/>
                <a:tab algn="r" pos="77151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987-1997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,48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2,00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,94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,02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,09</a:t>
            </a:r>
            <a:endParaRPr b="0" lang="en-US" sz="24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33600" y="1206360"/>
            <a:ext cx="76230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085760"/>
                <a:tab algn="ctr" pos="2343240"/>
                <a:tab algn="ctr" pos="3886200"/>
                <a:tab algn="ctr" pos="5200560"/>
                <a:tab algn="ctr" pos="6686640"/>
                <a:tab algn="ctr" pos="7880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i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085760"/>
                <a:tab algn="ctr" pos="2343240"/>
                <a:tab algn="ctr" pos="3886200"/>
                <a:tab algn="ctr" pos="5200560"/>
                <a:tab algn="ctr" pos="6686640"/>
                <a:tab algn="ctr" pos="7880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man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p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28680" y="2000160"/>
            <a:ext cx="701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9120" y="3287880"/>
            <a:ext cx="7656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a anual de crecimiento de la productividad del trabajo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28680" y="2571840"/>
            <a:ext cx="701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17680" y="2673360"/>
            <a:ext cx="683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57160"/>
                <a:tab algn="r" pos="2114640"/>
                <a:tab algn="r" pos="3486240"/>
                <a:tab algn="r" pos="4915080"/>
                <a:tab algn="r" pos="6343560"/>
                <a:tab algn="ctr" pos="7880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.507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.644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6.048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.630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.916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3162240"/>
            <a:ext cx="82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70640" y="2068560"/>
            <a:ext cx="5046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 por persona ocupada (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00000" y="3772080"/>
            <a:ext cx="82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Tendencias en la productividad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productividad ha crecido a una tasa menor en Estados Unidos que en casi todos los demás países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El crecimiento de la productividad en en los países desarrollados ha ido disminuyendo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Explicaciones de la desaceleración del crecimiento de productividad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Una de las fuentes más importantes  de crecimiento de la productividad es el crecimiento del stock de capital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Explicaciones de la desaceleración del crecimiento de productividad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Las tasas de crecimiento en Estados Unidos fueron más lentas que las de otros países 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desarrollados porque se reconstruyeron tras la Segunda Guerra Mundial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Explicaciones de la desaceleración del crecimiento de productividad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omenzaron a agotarse los recursos naturales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4) Las reglamentaciones relativas al medio ambiente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Tecnología de producción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3920" y="1375920"/>
            <a:ext cx="777240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Función de producción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690840" indent="-26568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El proceso de combinar los factores de producción para conseguir un producto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s categorías de los factores (factores de producción)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546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Materias primas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apital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ón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 productividad de Estados Unidos ha aumentado en los últimos años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¿Se trata de una aberración a corto plazo o del comienzo de una tendencia a largo plazo?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producción con un factor variable </a:t>
            </a:r>
            <a:br>
              <a:rPr sz="32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(el trabajo)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Existe una relación entre la producción y la productividad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En la producción a largo plazo,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y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 L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on variables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s isocuantas analizan y comparan todas las combinaciones del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y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 L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y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producción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50440" y="225360"/>
            <a:ext cx="830124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La forma de las isocuantas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7000" y="1841400"/>
            <a:ext cx="0" cy="399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81400" y="5815080"/>
            <a:ext cx="532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527520" y="5859360"/>
            <a:ext cx="178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al 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96560" y="512460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96560" y="42782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96560" y="34322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96560" y="2585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9216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1440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3844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6068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84360" y="58514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96560" y="1739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65040" y="2882880"/>
            <a:ext cx="3177720" cy="1305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ando tanto el trabajo com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apital son variables a larg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zo, ambos  factor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 pueden most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dimientos decreci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7840" y="1600200"/>
            <a:ext cx="5339880" cy="4275720"/>
            <a:chOff x="2517840" y="1600200"/>
            <a:chExt cx="5339880" cy="4275720"/>
          </a:xfrm>
        </p:grpSpPr>
        <p:sp>
          <p:nvSpPr>
            <p:cNvPr id="525" name=""/>
            <p:cNvSpPr/>
            <p:nvPr/>
          </p:nvSpPr>
          <p:spPr>
            <a:xfrm>
              <a:off x="3119400" y="1978200"/>
              <a:ext cx="3132000" cy="3282840"/>
            </a:xfrm>
            <a:custGeom>
              <a:avLst/>
              <a:gdLst/>
              <a:ahLst/>
              <a:rect l="l" t="t" r="r" b="b"/>
              <a:pathLst>
                <a:path w="1973" h="2068">
                  <a:moveTo>
                    <a:pt x="0" y="0"/>
                  </a:moveTo>
                  <a:lnTo>
                    <a:pt x="70" y="201"/>
                  </a:lnTo>
                  <a:lnTo>
                    <a:pt x="139" y="403"/>
                  </a:lnTo>
                  <a:lnTo>
                    <a:pt x="208" y="588"/>
                  </a:lnTo>
                  <a:lnTo>
                    <a:pt x="290" y="768"/>
                  </a:lnTo>
                  <a:lnTo>
                    <a:pt x="372" y="938"/>
                  </a:lnTo>
                  <a:lnTo>
                    <a:pt x="460" y="1102"/>
                  </a:lnTo>
                  <a:lnTo>
                    <a:pt x="561" y="1256"/>
                  </a:lnTo>
                  <a:lnTo>
                    <a:pt x="611" y="1325"/>
                  </a:lnTo>
                  <a:lnTo>
                    <a:pt x="674" y="1394"/>
                  </a:lnTo>
                  <a:lnTo>
                    <a:pt x="744" y="1457"/>
                  </a:lnTo>
                  <a:lnTo>
                    <a:pt x="813" y="1521"/>
                  </a:lnTo>
                  <a:lnTo>
                    <a:pt x="970" y="1632"/>
                  </a:lnTo>
                  <a:lnTo>
                    <a:pt x="1134" y="1738"/>
                  </a:lnTo>
                  <a:lnTo>
                    <a:pt x="1298" y="1828"/>
                  </a:lnTo>
                  <a:lnTo>
                    <a:pt x="1462" y="1903"/>
                  </a:lnTo>
                  <a:lnTo>
                    <a:pt x="1632" y="1966"/>
                  </a:lnTo>
                  <a:lnTo>
                    <a:pt x="1802" y="2019"/>
                  </a:lnTo>
                  <a:lnTo>
                    <a:pt x="1972" y="2067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17840" y="2441520"/>
              <a:ext cx="3124080" cy="3276720"/>
            </a:xfrm>
            <a:custGeom>
              <a:avLst/>
              <a:gdLst/>
              <a:ahLst/>
              <a:rect l="l" t="t" r="r" b="b"/>
              <a:pathLst>
                <a:path w="1968" h="2064">
                  <a:moveTo>
                    <a:pt x="0" y="0"/>
                  </a:moveTo>
                  <a:lnTo>
                    <a:pt x="68" y="202"/>
                  </a:lnTo>
                  <a:lnTo>
                    <a:pt x="136" y="398"/>
                  </a:lnTo>
                  <a:lnTo>
                    <a:pt x="205" y="588"/>
                  </a:lnTo>
                  <a:lnTo>
                    <a:pt x="284" y="767"/>
                  </a:lnTo>
                  <a:lnTo>
                    <a:pt x="370" y="939"/>
                  </a:lnTo>
                  <a:lnTo>
                    <a:pt x="455" y="1101"/>
                  </a:lnTo>
                  <a:lnTo>
                    <a:pt x="557" y="1251"/>
                  </a:lnTo>
                  <a:lnTo>
                    <a:pt x="608" y="1320"/>
                  </a:lnTo>
                  <a:lnTo>
                    <a:pt x="671" y="1389"/>
                  </a:lnTo>
                  <a:lnTo>
                    <a:pt x="739" y="1452"/>
                  </a:lnTo>
                  <a:lnTo>
                    <a:pt x="807" y="1516"/>
                  </a:lnTo>
                  <a:lnTo>
                    <a:pt x="966" y="1631"/>
                  </a:lnTo>
                  <a:lnTo>
                    <a:pt x="1131" y="1735"/>
                  </a:lnTo>
                  <a:lnTo>
                    <a:pt x="1296" y="1821"/>
                  </a:lnTo>
                  <a:lnTo>
                    <a:pt x="1461" y="1896"/>
                  </a:lnTo>
                  <a:lnTo>
                    <a:pt x="1626" y="1959"/>
                  </a:lnTo>
                  <a:lnTo>
                    <a:pt x="1796" y="2017"/>
                  </a:lnTo>
                  <a:lnTo>
                    <a:pt x="1967" y="2063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69360" y="5440320"/>
              <a:ext cx="10058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57600" y="1600200"/>
              <a:ext cx="3051000" cy="3279600"/>
            </a:xfrm>
            <a:custGeom>
              <a:avLst/>
              <a:gdLst/>
              <a:ahLst/>
              <a:rect l="l" t="t" r="r" b="b"/>
              <a:pathLst>
                <a:path w="1922" h="2066">
                  <a:moveTo>
                    <a:pt x="0" y="0"/>
                  </a:moveTo>
                  <a:lnTo>
                    <a:pt x="68" y="202"/>
                  </a:lnTo>
                  <a:lnTo>
                    <a:pt x="130" y="398"/>
                  </a:lnTo>
                  <a:lnTo>
                    <a:pt x="205" y="590"/>
                  </a:lnTo>
                  <a:lnTo>
                    <a:pt x="280" y="767"/>
                  </a:lnTo>
                  <a:lnTo>
                    <a:pt x="362" y="939"/>
                  </a:lnTo>
                  <a:lnTo>
                    <a:pt x="451" y="1101"/>
                  </a:lnTo>
                  <a:lnTo>
                    <a:pt x="547" y="1254"/>
                  </a:lnTo>
                  <a:lnTo>
                    <a:pt x="656" y="1391"/>
                  </a:lnTo>
                  <a:lnTo>
                    <a:pt x="793" y="1519"/>
                  </a:lnTo>
                  <a:lnTo>
                    <a:pt x="943" y="1632"/>
                  </a:lnTo>
                  <a:lnTo>
                    <a:pt x="1101" y="1736"/>
                  </a:lnTo>
                  <a:lnTo>
                    <a:pt x="1265" y="1824"/>
                  </a:lnTo>
                  <a:lnTo>
                    <a:pt x="1422" y="1903"/>
                  </a:lnTo>
                  <a:lnTo>
                    <a:pt x="1586" y="1962"/>
                  </a:lnTo>
                  <a:lnTo>
                    <a:pt x="1750" y="2016"/>
                  </a:lnTo>
                  <a:lnTo>
                    <a:pt x="1921" y="2065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18360" y="5018040"/>
              <a:ext cx="10058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1880" y="4560840"/>
              <a:ext cx="10058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712800" y="1328760"/>
            <a:ext cx="1030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 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367000" y="1665360"/>
            <a:ext cx="3322440" cy="4214880"/>
            <a:chOff x="2367000" y="1665360"/>
            <a:chExt cx="3322440" cy="4214880"/>
          </a:xfrm>
        </p:grpSpPr>
        <p:sp>
          <p:nvSpPr>
            <p:cNvPr id="533" name=""/>
            <p:cNvSpPr/>
            <p:nvPr/>
          </p:nvSpPr>
          <p:spPr>
            <a:xfrm>
              <a:off x="4495680" y="5257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95480" y="3581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7000" y="3657600"/>
              <a:ext cx="332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71800" y="3890880"/>
              <a:ext cx="0" cy="1989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67000" y="5334120"/>
              <a:ext cx="2065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72000" y="3890880"/>
              <a:ext cx="0" cy="1989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79400" y="36464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13120" y="49417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9880" y="2290680"/>
              <a:ext cx="0" cy="3589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339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493800" y="36464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33920" y="1905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94080" y="3665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75040" y="1665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02160" y="3589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879120" y="2233080"/>
            <a:ext cx="8264520" cy="42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Interpretación del modelo de la isocuanta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upongamos que el capital es 3 y el trabajo aumenta de 0 a 1 a 2 y a 3: 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143000" indent="-228600">
              <a:spcBef>
                <a:spcPts val="1137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76546"/>
                </a:solidFill>
                <a:latin typeface="Arial"/>
              </a:rPr>
              <a:t>Observe que el nivel de producción aumenta en una relación decreciente (55, 20, 15), mostrando que el trabajo tiene rendimientos decrecientes tanto a largo plazo como a corto plazo. </a:t>
            </a:r>
            <a:endParaRPr b="0" lang="en-US" sz="26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9240" y="1427040"/>
            <a:ext cx="782820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ción marginal de sustitución de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550440" y="34272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795240" y="2271600"/>
            <a:ext cx="8120160" cy="36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Interpretación del modelo de la isocuanta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358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upongamos que el trabajo es 3 y el capital aumenta de 0 a 1 a 2 y a 3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119960" indent="-223920"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El nivel de producción también aumenta de forma decreciente (55, 20, 15), debido a los rendimientos decrecientes del capital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9240" y="1427040"/>
            <a:ext cx="782820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ción marginal de sustitución de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sustitución de los factor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os directivos desearán considerar la posibilidad de sustituir un factor por otro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Tienen que tratar cómo pueden intercambiarse los factores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sustitución de los factor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 pendiente de cada isocuanta indica cómo pueden intercambiarse dos factores sin alterar el nivel de producción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sustitución de los factor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 relación marginal de sustitución técnica es: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09880" y="3378240"/>
            <a:ext cx="6381720" cy="2031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87640" y="38973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49520" y="38973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70040" y="3363840"/>
            <a:ext cx="4763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Variación de la cantidad de capi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35040" y="38973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36400" y="357336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38320" y="38973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16080" y="3592440"/>
            <a:ext cx="9525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00"/>
                </a:solidFill>
                <a:latin typeface="Times New Roman"/>
              </a:rPr>
              <a:t>RM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83680" y="361008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4160520" y="4680000"/>
            <a:ext cx="406440" cy="628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817040" y="47307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388280" y="47307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16800" y="47307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81600" y="47307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46360" y="47307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68800" y="47307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56040" y="4692600"/>
            <a:ext cx="101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RM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95960" y="4896000"/>
            <a:ext cx="47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28960" y="4581360"/>
            <a:ext cx="635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11600" y="45813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40080" y="468468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43480" y="378936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07040" y="3809880"/>
            <a:ext cx="4981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Variación de la cantidad de trabaj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11840" y="5000760"/>
            <a:ext cx="3443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imes New Roman"/>
              </a:rPr>
              <a:t>(manteniendo fijo el nivel de Q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50440" y="-360"/>
            <a:ext cx="7983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relación marginal de sustitución técnica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1897200"/>
            <a:ext cx="0" cy="39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28760" y="5873760"/>
            <a:ext cx="541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92160" y="5124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92160" y="4278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892160" y="3432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892160" y="25858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92520" y="5973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4760" y="5973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38800" y="5973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61040" y="5973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84720" y="5973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92160" y="17398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616000" y="2097000"/>
            <a:ext cx="2455200" cy="1062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isocuantas tie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ndiente negativa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n convexas como 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rvas de indifer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693520" y="1890720"/>
            <a:ext cx="3484800" cy="3657960"/>
            <a:chOff x="2693520" y="1890720"/>
            <a:chExt cx="3484800" cy="3657960"/>
          </a:xfrm>
        </p:grpSpPr>
        <p:sp>
          <p:nvSpPr>
            <p:cNvPr id="611" name=""/>
            <p:cNvSpPr/>
            <p:nvPr/>
          </p:nvSpPr>
          <p:spPr>
            <a:xfrm flipH="1">
              <a:off x="5516280" y="5257800"/>
              <a:ext cx="662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63880" y="3581280"/>
              <a:ext cx="719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782880" y="4572000"/>
              <a:ext cx="852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640400" y="5029200"/>
              <a:ext cx="9093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90880" y="1890720"/>
              <a:ext cx="0" cy="1684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4840" y="3586320"/>
              <a:ext cx="0" cy="9601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48320" y="4614840"/>
              <a:ext cx="0" cy="370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73040" y="3303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51000" y="41799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12760" y="47131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51200" y="5246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93520" y="24462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17480" y="3875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73920" y="463716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40640" y="50180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67320" y="5048280"/>
              <a:ext cx="0" cy="209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436840" y="1598760"/>
            <a:ext cx="5274720" cy="4242240"/>
            <a:chOff x="2436840" y="1598760"/>
            <a:chExt cx="5274720" cy="4242240"/>
          </a:xfrm>
        </p:grpSpPr>
        <p:sp>
          <p:nvSpPr>
            <p:cNvPr id="628" name=""/>
            <p:cNvSpPr/>
            <p:nvPr/>
          </p:nvSpPr>
          <p:spPr>
            <a:xfrm>
              <a:off x="2436840" y="2514600"/>
              <a:ext cx="3205080" cy="3203640"/>
            </a:xfrm>
            <a:custGeom>
              <a:avLst/>
              <a:gdLst/>
              <a:ahLst/>
              <a:rect l="l" t="t" r="r" b="b"/>
              <a:pathLst>
                <a:path w="2019" h="2018">
                  <a:moveTo>
                    <a:pt x="0" y="0"/>
                  </a:moveTo>
                  <a:lnTo>
                    <a:pt x="68" y="196"/>
                  </a:lnTo>
                  <a:lnTo>
                    <a:pt x="142" y="386"/>
                  </a:lnTo>
                  <a:lnTo>
                    <a:pt x="216" y="577"/>
                  </a:lnTo>
                  <a:lnTo>
                    <a:pt x="296" y="749"/>
                  </a:lnTo>
                  <a:lnTo>
                    <a:pt x="381" y="917"/>
                  </a:lnTo>
                  <a:lnTo>
                    <a:pt x="472" y="1072"/>
                  </a:lnTo>
                  <a:lnTo>
                    <a:pt x="568" y="1222"/>
                  </a:lnTo>
                  <a:lnTo>
                    <a:pt x="625" y="1291"/>
                  </a:lnTo>
                  <a:lnTo>
                    <a:pt x="688" y="1360"/>
                  </a:lnTo>
                  <a:lnTo>
                    <a:pt x="756" y="1424"/>
                  </a:lnTo>
                  <a:lnTo>
                    <a:pt x="830" y="1481"/>
                  </a:lnTo>
                  <a:lnTo>
                    <a:pt x="989" y="1596"/>
                  </a:lnTo>
                  <a:lnTo>
                    <a:pt x="1160" y="1694"/>
                  </a:lnTo>
                  <a:lnTo>
                    <a:pt x="1330" y="1781"/>
                  </a:lnTo>
                  <a:lnTo>
                    <a:pt x="1501" y="1856"/>
                  </a:lnTo>
                  <a:lnTo>
                    <a:pt x="1671" y="1919"/>
                  </a:lnTo>
                  <a:lnTo>
                    <a:pt x="1842" y="1971"/>
                  </a:lnTo>
                  <a:lnTo>
                    <a:pt x="2018" y="2017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72240" y="5440320"/>
              <a:ext cx="85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33920" y="1600200"/>
              <a:ext cx="3051000" cy="3279600"/>
            </a:xfrm>
            <a:custGeom>
              <a:avLst/>
              <a:gdLst/>
              <a:ahLst/>
              <a:rect l="l" t="t" r="r" b="b"/>
              <a:pathLst>
                <a:path w="1922" h="2066">
                  <a:moveTo>
                    <a:pt x="0" y="0"/>
                  </a:moveTo>
                  <a:lnTo>
                    <a:pt x="68" y="202"/>
                  </a:lnTo>
                  <a:lnTo>
                    <a:pt x="130" y="398"/>
                  </a:lnTo>
                  <a:lnTo>
                    <a:pt x="205" y="590"/>
                  </a:lnTo>
                  <a:lnTo>
                    <a:pt x="280" y="767"/>
                  </a:lnTo>
                  <a:lnTo>
                    <a:pt x="362" y="939"/>
                  </a:lnTo>
                  <a:lnTo>
                    <a:pt x="451" y="1101"/>
                  </a:lnTo>
                  <a:lnTo>
                    <a:pt x="547" y="1254"/>
                  </a:lnTo>
                  <a:lnTo>
                    <a:pt x="656" y="1391"/>
                  </a:lnTo>
                  <a:lnTo>
                    <a:pt x="793" y="1519"/>
                  </a:lnTo>
                  <a:lnTo>
                    <a:pt x="943" y="1632"/>
                  </a:lnTo>
                  <a:lnTo>
                    <a:pt x="1101" y="1736"/>
                  </a:lnTo>
                  <a:lnTo>
                    <a:pt x="1265" y="1824"/>
                  </a:lnTo>
                  <a:lnTo>
                    <a:pt x="1422" y="1903"/>
                  </a:lnTo>
                  <a:lnTo>
                    <a:pt x="1586" y="1962"/>
                  </a:lnTo>
                  <a:lnTo>
                    <a:pt x="1750" y="2016"/>
                  </a:lnTo>
                  <a:lnTo>
                    <a:pt x="1921" y="2065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21600" y="5018040"/>
              <a:ext cx="85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4760" y="4560840"/>
              <a:ext cx="85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70360" y="1598760"/>
              <a:ext cx="3281040" cy="3662280"/>
            </a:xfrm>
            <a:custGeom>
              <a:avLst/>
              <a:gdLst/>
              <a:ahLst/>
              <a:rect l="l" t="t" r="r" b="b"/>
              <a:pathLst>
                <a:path w="2067" h="2307">
                  <a:moveTo>
                    <a:pt x="0" y="0"/>
                  </a:moveTo>
                  <a:lnTo>
                    <a:pt x="69" y="228"/>
                  </a:lnTo>
                  <a:lnTo>
                    <a:pt x="145" y="445"/>
                  </a:lnTo>
                  <a:lnTo>
                    <a:pt x="220" y="657"/>
                  </a:lnTo>
                  <a:lnTo>
                    <a:pt x="302" y="859"/>
                  </a:lnTo>
                  <a:lnTo>
                    <a:pt x="390" y="1050"/>
                  </a:lnTo>
                  <a:lnTo>
                    <a:pt x="485" y="1230"/>
                  </a:lnTo>
                  <a:lnTo>
                    <a:pt x="586" y="1400"/>
                  </a:lnTo>
                  <a:lnTo>
                    <a:pt x="642" y="1479"/>
                  </a:lnTo>
                  <a:lnTo>
                    <a:pt x="705" y="1553"/>
                  </a:lnTo>
                  <a:lnTo>
                    <a:pt x="775" y="1627"/>
                  </a:lnTo>
                  <a:lnTo>
                    <a:pt x="850" y="1696"/>
                  </a:lnTo>
                  <a:lnTo>
                    <a:pt x="1014" y="1824"/>
                  </a:lnTo>
                  <a:lnTo>
                    <a:pt x="1190" y="1935"/>
                  </a:lnTo>
                  <a:lnTo>
                    <a:pt x="1360" y="2036"/>
                  </a:lnTo>
                  <a:lnTo>
                    <a:pt x="1449" y="2083"/>
                  </a:lnTo>
                  <a:lnTo>
                    <a:pt x="1531" y="2120"/>
                  </a:lnTo>
                  <a:lnTo>
                    <a:pt x="1707" y="2189"/>
                  </a:lnTo>
                  <a:lnTo>
                    <a:pt x="1890" y="2253"/>
                  </a:lnTo>
                  <a:lnTo>
                    <a:pt x="2066" y="2306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6527520" y="5859360"/>
            <a:ext cx="178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al 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22320" y="1347840"/>
            <a:ext cx="1030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 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853560" y="1719360"/>
            <a:ext cx="806148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2220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uando se incrementa el trabajo de 1 unidad a 5, la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RMST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desciende de 1 a 1/2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2220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2)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RMST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decreciente aparece debido a los rendimientos decrecientes. Eso implica que las isocuantas son convexas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550440" y="34272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a función de producción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20720" indent="-27720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Indica el máximo nivel de producción que puede obtener una empresa con cada combinación específica de factores aplicados al estado de una tecnología dada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Muestra lo que es 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técnicamente viable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 cuando la empresa produce 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eficientemente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Tecnología de producción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RMST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y la productividad marginal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 variación de la producción a causa de una variación del trabajo es: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876400" y="4581360"/>
            <a:ext cx="4110120" cy="1128600"/>
            <a:chOff x="2876400" y="4581360"/>
            <a:chExt cx="4110120" cy="1128600"/>
          </a:xfrm>
        </p:grpSpPr>
        <p:sp>
          <p:nvSpPr>
            <p:cNvPr id="644" name=""/>
            <p:cNvSpPr/>
            <p:nvPr/>
          </p:nvSpPr>
          <p:spPr>
            <a:xfrm>
              <a:off x="2876400" y="4610160"/>
              <a:ext cx="4110120" cy="1066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03640" y="4668840"/>
              <a:ext cx="185544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60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r>
                <a:rPr b="0" i="1" lang="es-ES" sz="6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ES" sz="6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29000" y="4581360"/>
              <a:ext cx="13996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s-ES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6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ES" sz="6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La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RMST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y la productividad marginal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 variación de la producción a causa de una variación de capital es: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874960" y="4572000"/>
            <a:ext cx="4062240" cy="1260360"/>
            <a:chOff x="2874960" y="4572000"/>
            <a:chExt cx="4062240" cy="1260360"/>
          </a:xfrm>
        </p:grpSpPr>
        <p:sp>
          <p:nvSpPr>
            <p:cNvPr id="652" name=""/>
            <p:cNvSpPr/>
            <p:nvPr/>
          </p:nvSpPr>
          <p:spPr>
            <a:xfrm>
              <a:off x="2874960" y="4572000"/>
              <a:ext cx="4062240" cy="12603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43080" y="4622760"/>
              <a:ext cx="2062440" cy="11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62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r>
                <a:rPr b="0" i="1" lang="es-ES" sz="6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ES" sz="6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59960" y="4618080"/>
              <a:ext cx="153252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s-ES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6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ES" sz="6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La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RMST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y la productividad marginal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Si la producción se mantiene constante y se incrementa el trabajo, entonces: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51520" y="458460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84680" y="458460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82440" y="4548240"/>
            <a:ext cx="2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37120" y="528948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808160" y="528948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39880" y="528948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219320" y="4457880"/>
            <a:ext cx="7410240" cy="1668240"/>
            <a:chOff x="1219320" y="4457880"/>
            <a:chExt cx="7410240" cy="1668240"/>
          </a:xfrm>
        </p:grpSpPr>
        <p:sp>
          <p:nvSpPr>
            <p:cNvPr id="666" name=""/>
            <p:cNvSpPr/>
            <p:nvPr/>
          </p:nvSpPr>
          <p:spPr>
            <a:xfrm>
              <a:off x="1219320" y="4457880"/>
              <a:ext cx="7410240" cy="16682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873200" y="45464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13120" y="4584600"/>
              <a:ext cx="120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95640" y="4584600"/>
              <a:ext cx="2469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r>
                <a:rPr b="0" i="1" lang="es-ES" sz="3800" spc="-1" strike="noStrike" baseline="-25000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) (</a:t>
              </a:r>
              <a:r>
                <a:rPr b="0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88720" y="451008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099920" y="5289480"/>
              <a:ext cx="132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RMST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91600" y="525132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65560" y="5289480"/>
              <a:ext cx="29012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r>
                <a:rPr b="0" i="1" lang="es-ES" sz="3800" spc="-1" strike="noStrike" baseline="-25000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) / (</a:t>
              </a: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r>
                <a:rPr b="0" i="1" lang="es-ES" sz="3800" spc="-1" strike="noStrike" baseline="-25000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43320" y="523404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47880" y="523404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95720" y="4584600"/>
              <a:ext cx="237492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PM</a:t>
              </a:r>
              <a:r>
                <a:rPr b="0" i="1" lang="es-ES" sz="3800" spc="-1" strike="noStrike" baseline="-25000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) (</a:t>
              </a:r>
              <a:r>
                <a:rPr b="0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91400" y="5210280"/>
              <a:ext cx="1939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K/ </a:t>
              </a:r>
              <a:r>
                <a:rPr b="0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3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s-ES" sz="3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50440" y="304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s isocuantas cuando los factores son sustitutivos perfecto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71840" y="1725480"/>
            <a:ext cx="0" cy="399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90920" y="5702400"/>
            <a:ext cx="400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277760" y="5475240"/>
            <a:ext cx="110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 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54400" y="1587600"/>
            <a:ext cx="1030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 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963880" y="1741320"/>
            <a:ext cx="4007160" cy="4013640"/>
            <a:chOff x="2963880" y="1741320"/>
            <a:chExt cx="4007160" cy="4013640"/>
          </a:xfrm>
        </p:grpSpPr>
        <p:sp>
          <p:nvSpPr>
            <p:cNvPr id="687" name=""/>
            <p:cNvSpPr/>
            <p:nvPr/>
          </p:nvSpPr>
          <p:spPr>
            <a:xfrm>
              <a:off x="2963880" y="4259160"/>
              <a:ext cx="1100160" cy="11001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63880" y="3116160"/>
              <a:ext cx="2319480" cy="231948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63880" y="2049480"/>
              <a:ext cx="3386160" cy="338616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98520" y="5249880"/>
              <a:ext cx="518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66880" y="5249880"/>
              <a:ext cx="518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453000" y="5249880"/>
              <a:ext cx="518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133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12920" y="17413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37160" y="3265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095880" y="5181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61400" y="47894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1142640" y="2247840"/>
            <a:ext cx="8001000" cy="36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uando los factores son perfectamente sustituibl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RMST es constante en todos los puntos de una isocuanta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43080" y="1427040"/>
            <a:ext cx="39160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itutivos per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1142640" y="2247840"/>
            <a:ext cx="8001000" cy="36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uando los factores son perfectamente sustituibl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1212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2)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lang="es-ES" sz="3100" spc="-1" strike="noStrike">
                <a:solidFill>
                  <a:srgbClr val="376546"/>
                </a:solidFill>
                <a:latin typeface="Arial"/>
              </a:rPr>
              <a:t>Es posible obtener el mismo nivel de producción por medio de una combinación equilibrada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A, B, o C)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040040" indent="-207720">
              <a:spcBef>
                <a:spcPts val="2449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Por ejemplo: la cabina de peaje y los    instrumentos musicales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3080" y="1427040"/>
            <a:ext cx="39160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itutivos per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50440" y="34272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función de producción de proporciones fija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30480" y="5513400"/>
            <a:ext cx="1007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577880" y="1606680"/>
            <a:ext cx="9435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0000" y="1897200"/>
            <a:ext cx="0" cy="39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29080" y="5892840"/>
            <a:ext cx="400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107800" y="1525320"/>
            <a:ext cx="5395320" cy="4766400"/>
            <a:chOff x="2107800" y="1525320"/>
            <a:chExt cx="5395320" cy="4766400"/>
          </a:xfrm>
        </p:grpSpPr>
        <p:sp>
          <p:nvSpPr>
            <p:cNvPr id="717" name=""/>
            <p:cNvSpPr/>
            <p:nvPr/>
          </p:nvSpPr>
          <p:spPr>
            <a:xfrm>
              <a:off x="3536640" y="585612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5324400" y="1525320"/>
              <a:ext cx="0" cy="163332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543560" y="2401920"/>
              <a:ext cx="0" cy="151920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733920" y="3153960"/>
              <a:ext cx="0" cy="16527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01960" y="4800600"/>
              <a:ext cx="16527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14680" y="4800600"/>
              <a:ext cx="998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33920" y="4805280"/>
              <a:ext cx="0" cy="1074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57600" y="4705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07800" y="4618080"/>
              <a:ext cx="448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02240" y="3962520"/>
              <a:ext cx="151920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83080" y="3200400"/>
              <a:ext cx="163368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76600" y="3886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5780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98280" y="456084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03160" y="370368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41240" y="303696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22400" y="47894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55880" y="4027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89400" y="32464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647800" y="2286000"/>
              <a:ext cx="3581640" cy="3581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1142640" y="2228400"/>
            <a:ext cx="800100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uando los factores son proporciones fija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2904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Es imposible sustituir un factor por otro. Cada nivel de producción requiere una determinada cantidad de cada factor (por ejemplo: el trabajo y el martillo neumático)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28760" y="1398600"/>
            <a:ext cx="77990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ión de producción de proporciones f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1143000" y="2228400"/>
            <a:ext cx="760104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uando los factores son proporciones fijas: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7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2)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lang="es-ES" sz="3100" spc="-1" strike="noStrike">
                <a:solidFill>
                  <a:srgbClr val="376546"/>
                </a:solidFill>
                <a:latin typeface="Arial"/>
              </a:rPr>
              <a:t>Para aumentar la producción se requiere más trabajo y capital (es decir, moverse de </a:t>
            </a:r>
            <a:r>
              <a:rPr b="0" i="1" lang="es-ES" sz="3100" spc="-1" strike="noStrike">
                <a:solidFill>
                  <a:srgbClr val="376546"/>
                </a:solidFill>
                <a:latin typeface="Arial"/>
              </a:rPr>
              <a:t>A </a:t>
            </a:r>
            <a:r>
              <a:rPr b="0" lang="es-ES" sz="3100" spc="-1" strike="noStrike">
                <a:solidFill>
                  <a:srgbClr val="376546"/>
                </a:solidFill>
                <a:latin typeface="Arial"/>
              </a:rPr>
              <a:t>a </a:t>
            </a:r>
            <a:r>
              <a:rPr b="0" i="1" lang="es-ES" sz="3100" spc="-1" strike="noStrike">
                <a:solidFill>
                  <a:srgbClr val="376546"/>
                </a:solidFill>
                <a:latin typeface="Arial"/>
              </a:rPr>
              <a:t>B </a:t>
            </a:r>
            <a:r>
              <a:rPr b="0" lang="es-ES" sz="3100" spc="-1" strike="noStrike">
                <a:solidFill>
                  <a:srgbClr val="376546"/>
                </a:solidFill>
                <a:latin typeface="Arial"/>
              </a:rPr>
              <a:t>y</a:t>
            </a:r>
            <a:r>
              <a:rPr b="0" i="1" lang="es-ES" sz="31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lang="es-ES" sz="3100" spc="-1" strike="noStrike">
                <a:solidFill>
                  <a:srgbClr val="376546"/>
                </a:solidFill>
                <a:latin typeface="Arial"/>
              </a:rPr>
              <a:t>a </a:t>
            </a:r>
            <a:r>
              <a:rPr b="0" i="1" lang="es-ES" sz="3100" spc="-1" strike="noStrike">
                <a:solidFill>
                  <a:srgbClr val="376546"/>
                </a:solidFill>
                <a:latin typeface="Arial"/>
              </a:rPr>
              <a:t>C, </a:t>
            </a:r>
            <a:r>
              <a:rPr b="0" lang="es-ES" sz="3100" spc="-1" strike="noStrike">
                <a:solidFill>
                  <a:srgbClr val="376546"/>
                </a:solidFill>
                <a:latin typeface="Arial"/>
              </a:rPr>
              <a:t>lo que es técnicamente eficaz).</a:t>
            </a:r>
            <a:endParaRPr b="0" lang="en-US" sz="31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a producción con dos factores variable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8760" y="1398600"/>
            <a:ext cx="77990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ión de producción de proporciones f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Una función de producción de trigo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os productores agrícolas tienen que elegir entre un proceso más intensivo en capital o una técnica de producción más intensiva en trabajo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0800" y="1576440"/>
            <a:ext cx="823284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función de producción para dos factor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Q = F(K,L)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       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Q =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producción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, K =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capital,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= trabajo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Aplicado a una tecnología dada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Tecnología de producción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50440" y="34272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Isocuanta que describe la producción de trigo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381400" y="1801800"/>
            <a:ext cx="0" cy="39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00480" y="5778360"/>
            <a:ext cx="400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30120" y="5608800"/>
            <a:ext cx="1681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oras al añ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3840" y="1587600"/>
            <a:ext cx="118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ora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añ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12240" y="584028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60200" y="584028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807800" y="584028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55040" y="584028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1400" y="466236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931400" y="3468600"/>
            <a:ext cx="46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8760" y="227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778760" y="1677960"/>
            <a:ext cx="6880680" cy="4125960"/>
            <a:chOff x="1778760" y="1677960"/>
            <a:chExt cx="6880680" cy="4125960"/>
          </a:xfrm>
        </p:grpSpPr>
        <p:sp>
          <p:nvSpPr>
            <p:cNvPr id="764" name=""/>
            <p:cNvSpPr/>
            <p:nvPr/>
          </p:nvSpPr>
          <p:spPr>
            <a:xfrm>
              <a:off x="1778760" y="2808360"/>
              <a:ext cx="606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05520" y="3510000"/>
              <a:ext cx="0" cy="2293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18040" y="3429000"/>
              <a:ext cx="990360" cy="79200"/>
            </a:xfrm>
            <a:custGeom>
              <a:avLst/>
              <a:gdLst/>
              <a:ahLst/>
              <a:rect l="l" t="t" r="r" b="b"/>
              <a:pathLst>
                <a:path w="624" h="50">
                  <a:moveTo>
                    <a:pt x="0" y="0"/>
                  </a:moveTo>
                  <a:lnTo>
                    <a:pt x="5" y="10"/>
                  </a:lnTo>
                  <a:lnTo>
                    <a:pt x="16" y="17"/>
                  </a:lnTo>
                  <a:lnTo>
                    <a:pt x="31" y="24"/>
                  </a:lnTo>
                  <a:lnTo>
                    <a:pt x="52" y="24"/>
                  </a:lnTo>
                  <a:lnTo>
                    <a:pt x="258" y="24"/>
                  </a:lnTo>
                  <a:lnTo>
                    <a:pt x="278" y="28"/>
                  </a:lnTo>
                  <a:lnTo>
                    <a:pt x="294" y="31"/>
                  </a:lnTo>
                  <a:lnTo>
                    <a:pt x="304" y="38"/>
                  </a:lnTo>
                  <a:lnTo>
                    <a:pt x="309" y="49"/>
                  </a:lnTo>
                  <a:lnTo>
                    <a:pt x="314" y="38"/>
                  </a:lnTo>
                  <a:lnTo>
                    <a:pt x="324" y="31"/>
                  </a:lnTo>
                  <a:lnTo>
                    <a:pt x="340" y="28"/>
                  </a:lnTo>
                  <a:lnTo>
                    <a:pt x="360" y="24"/>
                  </a:lnTo>
                  <a:lnTo>
                    <a:pt x="572" y="24"/>
                  </a:lnTo>
                  <a:lnTo>
                    <a:pt x="592" y="24"/>
                  </a:lnTo>
                  <a:lnTo>
                    <a:pt x="608" y="17"/>
                  </a:lnTo>
                  <a:lnTo>
                    <a:pt x="618" y="10"/>
                  </a:lnTo>
                  <a:lnTo>
                    <a:pt x="6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962520" y="3048120"/>
              <a:ext cx="79200" cy="307800"/>
            </a:xfrm>
            <a:custGeom>
              <a:avLst/>
              <a:gdLst/>
              <a:ahLst/>
              <a:rect l="l" t="t" r="r" b="b"/>
              <a:pathLst>
                <a:path w="50" h="194">
                  <a:moveTo>
                    <a:pt x="49" y="0"/>
                  </a:moveTo>
                  <a:lnTo>
                    <a:pt x="33" y="4"/>
                  </a:lnTo>
                  <a:lnTo>
                    <a:pt x="29" y="10"/>
                  </a:lnTo>
                  <a:lnTo>
                    <a:pt x="25" y="17"/>
                  </a:lnTo>
                  <a:lnTo>
                    <a:pt x="25" y="81"/>
                  </a:lnTo>
                  <a:lnTo>
                    <a:pt x="25" y="88"/>
                  </a:lnTo>
                  <a:lnTo>
                    <a:pt x="16" y="92"/>
                  </a:lnTo>
                  <a:lnTo>
                    <a:pt x="0" y="95"/>
                  </a:lnTo>
                  <a:lnTo>
                    <a:pt x="16" y="98"/>
                  </a:lnTo>
                  <a:lnTo>
                    <a:pt x="25" y="105"/>
                  </a:lnTo>
                  <a:lnTo>
                    <a:pt x="25" y="112"/>
                  </a:lnTo>
                  <a:lnTo>
                    <a:pt x="25" y="176"/>
                  </a:lnTo>
                  <a:lnTo>
                    <a:pt x="29" y="183"/>
                  </a:lnTo>
                  <a:lnTo>
                    <a:pt x="33" y="190"/>
                  </a:lnTo>
                  <a:lnTo>
                    <a:pt x="49" y="1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124080" y="1751040"/>
              <a:ext cx="3279960" cy="1757160"/>
            </a:xfrm>
            <a:custGeom>
              <a:avLst/>
              <a:gdLst/>
              <a:ahLst/>
              <a:rect l="l" t="t" r="r" b="b"/>
              <a:pathLst>
                <a:path w="2066" h="1107">
                  <a:moveTo>
                    <a:pt x="0" y="0"/>
                  </a:moveTo>
                  <a:lnTo>
                    <a:pt x="7" y="14"/>
                  </a:lnTo>
                  <a:lnTo>
                    <a:pt x="19" y="35"/>
                  </a:lnTo>
                  <a:lnTo>
                    <a:pt x="39" y="81"/>
                  </a:lnTo>
                  <a:lnTo>
                    <a:pt x="71" y="134"/>
                  </a:lnTo>
                  <a:lnTo>
                    <a:pt x="103" y="198"/>
                  </a:lnTo>
                  <a:lnTo>
                    <a:pt x="174" y="325"/>
                  </a:lnTo>
                  <a:lnTo>
                    <a:pt x="213" y="385"/>
                  </a:lnTo>
                  <a:lnTo>
                    <a:pt x="252" y="438"/>
                  </a:lnTo>
                  <a:lnTo>
                    <a:pt x="329" y="540"/>
                  </a:lnTo>
                  <a:lnTo>
                    <a:pt x="413" y="643"/>
                  </a:lnTo>
                  <a:lnTo>
                    <a:pt x="510" y="735"/>
                  </a:lnTo>
                  <a:lnTo>
                    <a:pt x="568" y="777"/>
                  </a:lnTo>
                  <a:lnTo>
                    <a:pt x="626" y="816"/>
                  </a:lnTo>
                  <a:lnTo>
                    <a:pt x="691" y="852"/>
                  </a:lnTo>
                  <a:lnTo>
                    <a:pt x="755" y="880"/>
                  </a:lnTo>
                  <a:lnTo>
                    <a:pt x="910" y="929"/>
                  </a:lnTo>
                  <a:lnTo>
                    <a:pt x="1071" y="972"/>
                  </a:lnTo>
                  <a:lnTo>
                    <a:pt x="1245" y="1011"/>
                  </a:lnTo>
                  <a:lnTo>
                    <a:pt x="1439" y="1042"/>
                  </a:lnTo>
                  <a:lnTo>
                    <a:pt x="1639" y="1067"/>
                  </a:lnTo>
                  <a:lnTo>
                    <a:pt x="1852" y="1088"/>
                  </a:lnTo>
                  <a:lnTo>
                    <a:pt x="2065" y="1106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31400" y="313848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38480" y="2971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67000" y="3048120"/>
              <a:ext cx="1531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67000" y="3352680"/>
              <a:ext cx="2598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14800" y="3129120"/>
              <a:ext cx="0" cy="2674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91840" y="3508200"/>
              <a:ext cx="2399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ción = 13.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shel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al a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087440" y="25448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017680" y="2884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8" name=""/>
                <p:cNvSpPr txBox="1"/>
                <p:nvPr/>
              </p:nvSpPr>
              <p:spPr>
                <a:xfrm>
                  <a:off x="2819520" y="3105000"/>
                  <a:ext cx="120636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K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-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4191120" y="3562200"/>
                  <a:ext cx="11206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L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26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"/>
            <p:cNvSpPr/>
            <p:nvPr/>
          </p:nvSpPr>
          <p:spPr>
            <a:xfrm>
              <a:off x="5777280" y="1677960"/>
              <a:ext cx="288216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 punto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es más intens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 capital, y el punto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ás intensivo en trabaj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1142640" y="1494000"/>
            <a:ext cx="8001000" cy="35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Produciendo en el punto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A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162080" indent="-228600">
              <a:spcBef>
                <a:spcPts val="2449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L = 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500 horas y 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K = 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00 horas-máquina.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title"/>
          </p:nvPr>
        </p:nvSpPr>
        <p:spPr>
          <a:xfrm>
            <a:off x="550440" y="34272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Isocuanta que describe la producción de trigo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Produciendo en el punto B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162080" indent="-228600">
              <a:spcBef>
                <a:spcPts val="1188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uando L aumenta a 760 y K desciende a 90, la RMST &lt; 1: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697160" y="466740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78240" y="4667400"/>
            <a:ext cx="116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66520" y="466740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61600" y="4667400"/>
            <a:ext cx="10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1924200" y="4457880"/>
            <a:ext cx="6343560" cy="895320"/>
            <a:chOff x="1924200" y="4457880"/>
            <a:chExt cx="6343560" cy="895320"/>
          </a:xfrm>
        </p:grpSpPr>
        <p:sp>
          <p:nvSpPr>
            <p:cNvPr id="793" name=""/>
            <p:cNvSpPr/>
            <p:nvPr/>
          </p:nvSpPr>
          <p:spPr>
            <a:xfrm>
              <a:off x="1924200" y="4457880"/>
              <a:ext cx="6343560" cy="8953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140360" y="4614840"/>
              <a:ext cx="444240" cy="64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410240" y="4667400"/>
              <a:ext cx="73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3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10520" y="4667400"/>
              <a:ext cx="1448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300" spc="-1" strike="noStrike">
                  <a:solidFill>
                    <a:srgbClr val="000000"/>
                  </a:solidFill>
                  <a:latin typeface="Times New Roman"/>
                </a:rPr>
                <a:t>(10/260)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1920" y="461952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53280" y="4619520"/>
              <a:ext cx="13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38200" y="461952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95960" y="4836960"/>
              <a:ext cx="489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3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76760" y="4513320"/>
              <a:ext cx="593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33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345840" y="461952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54720" y="4560840"/>
              <a:ext cx="1407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68560" y="4667400"/>
              <a:ext cx="1123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300" spc="-1" strike="noStrike">
                  <a:solidFill>
                    <a:srgbClr val="000000"/>
                  </a:solidFill>
                  <a:latin typeface="Times New Roman"/>
                </a:rPr>
                <a:t>RMST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PlaceHolder 2"/>
          <p:cNvSpPr>
            <a:spLocks noGrp="1"/>
          </p:cNvSpPr>
          <p:nvPr>
            <p:ph type="title"/>
          </p:nvPr>
        </p:nvSpPr>
        <p:spPr>
          <a:xfrm>
            <a:off x="550440" y="34272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Isocuanta que describe la producción de trigo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 la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RMST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&lt; 1, el coste de trabajo debe ser inferior al del capital para que el gerente sustituya el trabajo por el capital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 el trabajo fuese caro, el gerente usaría más capital (por ejemplo: Estados Unidos)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550440" y="34272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Isocuanta que describe la producción de trigo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5)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i el trabajo fuese menos caro, el gerente emplearía a más trabajadores. (por ejemplo: India)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550440" y="34272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Isocuanta que describe la producción de trigo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os rendimientos de escala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6640" y="1687680"/>
            <a:ext cx="857736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Relación de la escala (volumen) de una empresa y la producción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1896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ndimientos crecientes de escala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: cuando una duplicación de los factores aumenta más del doble la producción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062720" indent="-212400">
              <a:spcBef>
                <a:spcPts val="964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546"/>
                </a:solidFill>
                <a:latin typeface="Arial"/>
              </a:rPr>
              <a:t>Mayor producción asociada a costes bajos (automóviles).</a:t>
            </a:r>
            <a:endParaRPr b="0" lang="en-US" sz="2200" spc="-1" strike="noStrike">
              <a:solidFill>
                <a:srgbClr val="376546"/>
              </a:solidFill>
              <a:latin typeface="Arial"/>
            </a:endParaRPr>
          </a:p>
          <a:p>
            <a:pPr lvl="2" marL="1062720" indent="-212400">
              <a:spcBef>
                <a:spcPts val="964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546"/>
                </a:solidFill>
                <a:latin typeface="Arial"/>
              </a:rPr>
              <a:t>Una empresa es más eficiente que otras (suministro eléctrico).</a:t>
            </a:r>
            <a:endParaRPr b="0" lang="en-US" sz="2200" spc="-1" strike="noStrike">
              <a:solidFill>
                <a:srgbClr val="376546"/>
              </a:solidFill>
              <a:latin typeface="Arial"/>
            </a:endParaRPr>
          </a:p>
          <a:p>
            <a:pPr lvl="2" marL="1062720" indent="-212400">
              <a:spcBef>
                <a:spcPts val="964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76546"/>
                </a:solidFill>
                <a:latin typeface="Arial"/>
              </a:rPr>
              <a:t>Las isocuantas están cada vez más cerca unas de otras.</a:t>
            </a:r>
            <a:endParaRPr b="0" lang="en-US" sz="2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62320" y="1954080"/>
            <a:ext cx="0" cy="399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62320" y="5950080"/>
            <a:ext cx="400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426000" y="578016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(ho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018800" y="1530360"/>
            <a:ext cx="119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ora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qui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781360" y="2800440"/>
            <a:ext cx="3462840" cy="2862360"/>
            <a:chOff x="2781360" y="2800440"/>
            <a:chExt cx="3462840" cy="2862360"/>
          </a:xfrm>
        </p:grpSpPr>
        <p:sp>
          <p:nvSpPr>
            <p:cNvPr id="824" name=""/>
            <p:cNvSpPr/>
            <p:nvPr/>
          </p:nvSpPr>
          <p:spPr>
            <a:xfrm>
              <a:off x="2781360" y="3809880"/>
              <a:ext cx="1847880" cy="1638360"/>
            </a:xfrm>
            <a:custGeom>
              <a:avLst/>
              <a:gdLst/>
              <a:ahLst/>
              <a:rect l="l" t="t" r="r" b="b"/>
              <a:pathLst>
                <a:path w="1164" h="1032">
                  <a:moveTo>
                    <a:pt x="0" y="0"/>
                  </a:moveTo>
                  <a:cubicBezTo>
                    <a:pt x="16" y="76"/>
                    <a:pt x="37" y="331"/>
                    <a:pt x="95" y="459"/>
                  </a:cubicBezTo>
                  <a:cubicBezTo>
                    <a:pt x="153" y="587"/>
                    <a:pt x="242" y="685"/>
                    <a:pt x="348" y="768"/>
                  </a:cubicBezTo>
                  <a:cubicBezTo>
                    <a:pt x="454" y="851"/>
                    <a:pt x="595" y="912"/>
                    <a:pt x="731" y="956"/>
                  </a:cubicBezTo>
                  <a:cubicBezTo>
                    <a:pt x="867" y="1000"/>
                    <a:pt x="1074" y="1016"/>
                    <a:pt x="1164" y="1032"/>
                  </a:cubicBez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01520" y="52689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41320" y="47703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79440" y="427500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467160" y="3257640"/>
              <a:ext cx="1847880" cy="1638360"/>
            </a:xfrm>
            <a:custGeom>
              <a:avLst/>
              <a:gdLst/>
              <a:ahLst/>
              <a:rect l="l" t="t" r="r" b="b"/>
              <a:pathLst>
                <a:path w="1164" h="1032">
                  <a:moveTo>
                    <a:pt x="0" y="0"/>
                  </a:moveTo>
                  <a:cubicBezTo>
                    <a:pt x="16" y="76"/>
                    <a:pt x="37" y="331"/>
                    <a:pt x="95" y="459"/>
                  </a:cubicBezTo>
                  <a:cubicBezTo>
                    <a:pt x="153" y="587"/>
                    <a:pt x="242" y="685"/>
                    <a:pt x="348" y="768"/>
                  </a:cubicBezTo>
                  <a:cubicBezTo>
                    <a:pt x="454" y="851"/>
                    <a:pt x="595" y="912"/>
                    <a:pt x="731" y="956"/>
                  </a:cubicBezTo>
                  <a:cubicBezTo>
                    <a:pt x="867" y="1000"/>
                    <a:pt x="1074" y="1016"/>
                    <a:pt x="1164" y="1032"/>
                  </a:cubicBez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43440" y="2800440"/>
              <a:ext cx="1847880" cy="1638360"/>
            </a:xfrm>
            <a:custGeom>
              <a:avLst/>
              <a:gdLst/>
              <a:ahLst/>
              <a:rect l="l" t="t" r="r" b="b"/>
              <a:pathLst>
                <a:path w="1164" h="1032">
                  <a:moveTo>
                    <a:pt x="0" y="0"/>
                  </a:moveTo>
                  <a:cubicBezTo>
                    <a:pt x="16" y="76"/>
                    <a:pt x="37" y="331"/>
                    <a:pt x="95" y="459"/>
                  </a:cubicBezTo>
                  <a:cubicBezTo>
                    <a:pt x="153" y="587"/>
                    <a:pt x="242" y="685"/>
                    <a:pt x="348" y="768"/>
                  </a:cubicBezTo>
                  <a:cubicBezTo>
                    <a:pt x="454" y="851"/>
                    <a:pt x="595" y="912"/>
                    <a:pt x="731" y="956"/>
                  </a:cubicBezTo>
                  <a:cubicBezTo>
                    <a:pt x="867" y="1000"/>
                    <a:pt x="1074" y="1016"/>
                    <a:pt x="1164" y="1032"/>
                  </a:cubicBez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2045880" y="1316160"/>
            <a:ext cx="5753520" cy="4994280"/>
            <a:chOff x="2045880" y="1316160"/>
            <a:chExt cx="5753520" cy="4994280"/>
          </a:xfrm>
        </p:grpSpPr>
        <p:sp>
          <p:nvSpPr>
            <p:cNvPr id="831" name=""/>
            <p:cNvSpPr/>
            <p:nvPr/>
          </p:nvSpPr>
          <p:spPr>
            <a:xfrm>
              <a:off x="2610000" y="1316160"/>
              <a:ext cx="5189400" cy="6987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ndimientos crecient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s isocuantas están cada vez más cer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2045880" y="2087640"/>
              <a:ext cx="4388760" cy="4222800"/>
              <a:chOff x="2045880" y="2087640"/>
              <a:chExt cx="4388760" cy="422280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3276720" y="5108400"/>
                <a:ext cx="0" cy="79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119040" y="5916600"/>
                <a:ext cx="32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211280" y="591660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045880" y="4816440"/>
                <a:ext cx="32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045880" y="3659040"/>
                <a:ext cx="32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03120" y="5916600"/>
                <a:ext cx="32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367000" y="3886200"/>
                <a:ext cx="191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4419720" y="3927240"/>
                <a:ext cx="0" cy="1957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68880" y="2087640"/>
                <a:ext cx="36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2400480" y="2323800"/>
                <a:ext cx="3600360" cy="360036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24320" y="3828960"/>
                <a:ext cx="171360" cy="171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67000" y="5010120"/>
                <a:ext cx="77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219480" y="4933800"/>
                <a:ext cx="171360" cy="171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os rendimientos de escala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856800" y="1414440"/>
            <a:ext cx="828684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Relación de la escala (volumen) de una empresa y la producción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016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ndimientos constantes de escala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: cuando una duplicación de los factores provoca una duplicación de la producción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005840" indent="-200880"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 escala no afecta a la productividad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Puede que una planta se reproduzca para producir el doble de producción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2" marL="1005840" indent="-200880">
              <a:lnSpc>
                <a:spcPct val="70000"/>
              </a:lnSpc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s isocuantas son equidistantes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os rendimientos de escala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62320" y="1954080"/>
            <a:ext cx="0" cy="399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62320" y="5950080"/>
            <a:ext cx="400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229440" y="3564000"/>
            <a:ext cx="2666880" cy="1539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80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dimientos const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 isocuantas guardan la misma dista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781360" y="1467000"/>
            <a:ext cx="4701240" cy="4195800"/>
            <a:chOff x="2781360" y="1467000"/>
            <a:chExt cx="4701240" cy="4195800"/>
          </a:xfrm>
        </p:grpSpPr>
        <p:sp>
          <p:nvSpPr>
            <p:cNvPr id="857" name=""/>
            <p:cNvSpPr/>
            <p:nvPr/>
          </p:nvSpPr>
          <p:spPr>
            <a:xfrm>
              <a:off x="2781360" y="3809880"/>
              <a:ext cx="1847880" cy="1638360"/>
            </a:xfrm>
            <a:custGeom>
              <a:avLst/>
              <a:gdLst/>
              <a:ahLst/>
              <a:rect l="l" t="t" r="r" b="b"/>
              <a:pathLst>
                <a:path w="1164" h="1032">
                  <a:moveTo>
                    <a:pt x="0" y="0"/>
                  </a:moveTo>
                  <a:cubicBezTo>
                    <a:pt x="16" y="76"/>
                    <a:pt x="37" y="331"/>
                    <a:pt x="95" y="459"/>
                  </a:cubicBezTo>
                  <a:cubicBezTo>
                    <a:pt x="153" y="587"/>
                    <a:pt x="242" y="685"/>
                    <a:pt x="348" y="768"/>
                  </a:cubicBezTo>
                  <a:cubicBezTo>
                    <a:pt x="454" y="851"/>
                    <a:pt x="595" y="912"/>
                    <a:pt x="731" y="956"/>
                  </a:cubicBezTo>
                  <a:cubicBezTo>
                    <a:pt x="867" y="1000"/>
                    <a:pt x="1074" y="1016"/>
                    <a:pt x="1164" y="1032"/>
                  </a:cubicBez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01520" y="526896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17600" y="41990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17840" y="292248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24360" y="2743200"/>
              <a:ext cx="1847880" cy="1638360"/>
            </a:xfrm>
            <a:custGeom>
              <a:avLst/>
              <a:gdLst/>
              <a:ahLst/>
              <a:rect l="l" t="t" r="r" b="b"/>
              <a:pathLst>
                <a:path w="1164" h="1032">
                  <a:moveTo>
                    <a:pt x="0" y="0"/>
                  </a:moveTo>
                  <a:cubicBezTo>
                    <a:pt x="16" y="76"/>
                    <a:pt x="37" y="331"/>
                    <a:pt x="95" y="459"/>
                  </a:cubicBezTo>
                  <a:cubicBezTo>
                    <a:pt x="153" y="587"/>
                    <a:pt x="242" y="685"/>
                    <a:pt x="348" y="768"/>
                  </a:cubicBezTo>
                  <a:cubicBezTo>
                    <a:pt x="454" y="851"/>
                    <a:pt x="595" y="912"/>
                    <a:pt x="731" y="956"/>
                  </a:cubicBezTo>
                  <a:cubicBezTo>
                    <a:pt x="867" y="1000"/>
                    <a:pt x="1074" y="1016"/>
                    <a:pt x="1164" y="1032"/>
                  </a:cubicBez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05520" y="1467000"/>
              <a:ext cx="1847880" cy="1638000"/>
            </a:xfrm>
            <a:custGeom>
              <a:avLst/>
              <a:gdLst/>
              <a:ahLst/>
              <a:rect l="l" t="t" r="r" b="b"/>
              <a:pathLst>
                <a:path w="1164" h="1032">
                  <a:moveTo>
                    <a:pt x="0" y="0"/>
                  </a:moveTo>
                  <a:cubicBezTo>
                    <a:pt x="16" y="76"/>
                    <a:pt x="37" y="331"/>
                    <a:pt x="95" y="459"/>
                  </a:cubicBezTo>
                  <a:cubicBezTo>
                    <a:pt x="153" y="587"/>
                    <a:pt x="242" y="685"/>
                    <a:pt x="348" y="768"/>
                  </a:cubicBezTo>
                  <a:cubicBezTo>
                    <a:pt x="454" y="851"/>
                    <a:pt x="595" y="912"/>
                    <a:pt x="731" y="956"/>
                  </a:cubicBezTo>
                  <a:cubicBezTo>
                    <a:pt x="867" y="1000"/>
                    <a:pt x="1074" y="1016"/>
                    <a:pt x="1164" y="1032"/>
                  </a:cubicBez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45880" y="2087640"/>
            <a:ext cx="4388760" cy="4222800"/>
            <a:chOff x="2045880" y="2087640"/>
            <a:chExt cx="4388760" cy="4222800"/>
          </a:xfrm>
        </p:grpSpPr>
        <p:sp>
          <p:nvSpPr>
            <p:cNvPr id="864" name=""/>
            <p:cNvSpPr/>
            <p:nvPr/>
          </p:nvSpPr>
          <p:spPr>
            <a:xfrm>
              <a:off x="5455800" y="591660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276720" y="5108400"/>
              <a:ext cx="0" cy="795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19040" y="59166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11280" y="591660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045880" y="477036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45880" y="362412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03120" y="59166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67000" y="3886200"/>
              <a:ext cx="1913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4419720" y="3927240"/>
              <a:ext cx="0" cy="19573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068880" y="20876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2400480" y="2323800"/>
              <a:ext cx="3600360" cy="36003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24320" y="3828960"/>
              <a:ext cx="171360" cy="17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67000" y="5010120"/>
              <a:ext cx="77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19480" y="4933800"/>
              <a:ext cx="171360" cy="17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45880" y="247824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67000" y="2666880"/>
              <a:ext cx="318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5676840" y="2670120"/>
              <a:ext cx="0" cy="3214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81800" y="2590920"/>
              <a:ext cx="171360" cy="171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os rendimientos de escala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426000" y="578016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(ho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018800" y="1530360"/>
            <a:ext cx="119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ora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qui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685440" y="1224000"/>
            <a:ext cx="8458200" cy="49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Relación de la escala (volumen) de una empresa y la producción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3264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ndimientos decrecientes de escala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: cuando una duplicación de los factores provoca un aumento de la producción tal que ésta no llega a duplicarse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2" marL="1108440" indent="-221400"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Disminuye la eficacia con escalas mayores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2" marL="1108440" indent="-221400"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Se reduce la capacidad empresarial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2" marL="1108440" indent="-221400">
              <a:spcBef>
                <a:spcPts val="1225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s isocuantas se alejan aún más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os rendimientos de escala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as isocuantas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 producción de alimentos utiliza dos factores: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2" marL="1143000" indent="-228600">
              <a:spcBef>
                <a:spcPts val="2449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Trabajo (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) y capital (</a:t>
            </a:r>
            <a:r>
              <a:rPr b="0" i="1" lang="en-US" sz="2800" spc="-1" strike="noStrike">
                <a:solidFill>
                  <a:srgbClr val="376546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362320" y="1954080"/>
            <a:ext cx="0" cy="399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362320" y="5950080"/>
            <a:ext cx="400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17920" y="3144960"/>
            <a:ext cx="3576960" cy="698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dimientos decrec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 isocuantas se alej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819520" y="2781360"/>
            <a:ext cx="3424680" cy="2900520"/>
            <a:chOff x="2819520" y="2781360"/>
            <a:chExt cx="3424680" cy="2900520"/>
          </a:xfrm>
        </p:grpSpPr>
        <p:sp>
          <p:nvSpPr>
            <p:cNvPr id="895" name=""/>
            <p:cNvSpPr/>
            <p:nvPr/>
          </p:nvSpPr>
          <p:spPr>
            <a:xfrm>
              <a:off x="2819520" y="3905280"/>
              <a:ext cx="1847880" cy="1638360"/>
            </a:xfrm>
            <a:custGeom>
              <a:avLst/>
              <a:gdLst/>
              <a:ahLst/>
              <a:rect l="l" t="t" r="r" b="b"/>
              <a:pathLst>
                <a:path w="1164" h="1032">
                  <a:moveTo>
                    <a:pt x="0" y="0"/>
                  </a:moveTo>
                  <a:cubicBezTo>
                    <a:pt x="16" y="76"/>
                    <a:pt x="37" y="331"/>
                    <a:pt x="95" y="459"/>
                  </a:cubicBezTo>
                  <a:cubicBezTo>
                    <a:pt x="153" y="587"/>
                    <a:pt x="242" y="685"/>
                    <a:pt x="348" y="768"/>
                  </a:cubicBezTo>
                  <a:cubicBezTo>
                    <a:pt x="454" y="851"/>
                    <a:pt x="595" y="912"/>
                    <a:pt x="731" y="956"/>
                  </a:cubicBezTo>
                  <a:cubicBezTo>
                    <a:pt x="867" y="1000"/>
                    <a:pt x="1074" y="1016"/>
                    <a:pt x="1164" y="1032"/>
                  </a:cubicBez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58760" y="52880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74920" y="497988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79440" y="433224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00400" y="3467160"/>
              <a:ext cx="1847880" cy="1638360"/>
            </a:xfrm>
            <a:custGeom>
              <a:avLst/>
              <a:gdLst/>
              <a:ahLst/>
              <a:rect l="l" t="t" r="r" b="b"/>
              <a:pathLst>
                <a:path w="1164" h="1032">
                  <a:moveTo>
                    <a:pt x="0" y="0"/>
                  </a:moveTo>
                  <a:cubicBezTo>
                    <a:pt x="16" y="76"/>
                    <a:pt x="37" y="331"/>
                    <a:pt x="95" y="459"/>
                  </a:cubicBezTo>
                  <a:cubicBezTo>
                    <a:pt x="153" y="587"/>
                    <a:pt x="242" y="685"/>
                    <a:pt x="348" y="768"/>
                  </a:cubicBezTo>
                  <a:cubicBezTo>
                    <a:pt x="454" y="851"/>
                    <a:pt x="595" y="912"/>
                    <a:pt x="731" y="956"/>
                  </a:cubicBezTo>
                  <a:cubicBezTo>
                    <a:pt x="867" y="1000"/>
                    <a:pt x="1074" y="1016"/>
                    <a:pt x="1164" y="1032"/>
                  </a:cubicBez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43440" y="2781360"/>
              <a:ext cx="1847880" cy="1638360"/>
            </a:xfrm>
            <a:custGeom>
              <a:avLst/>
              <a:gdLst/>
              <a:ahLst/>
              <a:rect l="l" t="t" r="r" b="b"/>
              <a:pathLst>
                <a:path w="1164" h="1032">
                  <a:moveTo>
                    <a:pt x="0" y="0"/>
                  </a:moveTo>
                  <a:cubicBezTo>
                    <a:pt x="16" y="76"/>
                    <a:pt x="37" y="331"/>
                    <a:pt x="95" y="459"/>
                  </a:cubicBezTo>
                  <a:cubicBezTo>
                    <a:pt x="153" y="587"/>
                    <a:pt x="242" y="685"/>
                    <a:pt x="348" y="768"/>
                  </a:cubicBezTo>
                  <a:cubicBezTo>
                    <a:pt x="454" y="851"/>
                    <a:pt x="595" y="912"/>
                    <a:pt x="731" y="956"/>
                  </a:cubicBezTo>
                  <a:cubicBezTo>
                    <a:pt x="867" y="1000"/>
                    <a:pt x="1074" y="1016"/>
                    <a:pt x="1164" y="1032"/>
                  </a:cubicBez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045880" y="2087640"/>
            <a:ext cx="4388760" cy="4222800"/>
            <a:chOff x="2045880" y="2087640"/>
            <a:chExt cx="4388760" cy="4222800"/>
          </a:xfrm>
        </p:grpSpPr>
        <p:sp>
          <p:nvSpPr>
            <p:cNvPr id="902" name=""/>
            <p:cNvSpPr/>
            <p:nvPr/>
          </p:nvSpPr>
          <p:spPr>
            <a:xfrm flipV="1">
              <a:off x="3276720" y="5108400"/>
              <a:ext cx="0" cy="795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19040" y="59166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11280" y="591660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45880" y="481644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45880" y="365904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03120" y="59166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67000" y="3886200"/>
              <a:ext cx="1913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419720" y="3927240"/>
              <a:ext cx="0" cy="19573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68880" y="20876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00480" y="2323800"/>
              <a:ext cx="3600360" cy="36003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24320" y="3828960"/>
              <a:ext cx="171360" cy="17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67000" y="5010120"/>
              <a:ext cx="77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19480" y="4933800"/>
              <a:ext cx="171360" cy="17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os rendimientos de escala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426000" y="578016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(ho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18800" y="1530360"/>
            <a:ext cx="119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ora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áqui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50440" y="304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os rendimientos de escala en la industria de alfombra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a industria de alfombras era relativamente pequeña, pero se ha convertido en una gran industria formada por un gran número de empresas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¿Se puede explicar este crecimiento por la presencia de economías de escala?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550440" y="304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os rendimientos de escala en la industria de alfombra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2244600" y="1449360"/>
            <a:ext cx="41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víos de alfombras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illones de dólares al añ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industria de alfombras de Estados Unidos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0" y="2557080"/>
            <a:ext cx="9144000" cy="32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spcBef>
                <a:spcPts val="1500"/>
              </a:spcBef>
              <a:buNone/>
              <a:tabLst>
                <a:tab algn="l" pos="0"/>
                <a:tab algn="r" pos="4229280"/>
                <a:tab algn="l" pos="4686480"/>
                <a:tab algn="r" pos="8801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. Shaw Industries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 3.202$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6. World Carpets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 475$</a:t>
            </a:r>
            <a:endParaRPr b="0" lang="en-US" sz="2400" spc="-1" strike="noStrike">
              <a:solidFill>
                <a:srgbClr val="376546"/>
              </a:solidFill>
              <a:latin typeface="Arial"/>
            </a:endParaRPr>
          </a:p>
          <a:p>
            <a:pPr marL="288000" indent="0">
              <a:spcBef>
                <a:spcPts val="1500"/>
              </a:spcBef>
              <a:buNone/>
              <a:tabLst>
                <a:tab algn="l" pos="0"/>
                <a:tab algn="r" pos="4229280"/>
                <a:tab algn="l" pos="4686480"/>
                <a:tab algn="r" pos="8801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2. Mohawk Industries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.795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7. Burlington Industries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376546"/>
              </a:solidFill>
              <a:latin typeface="Arial"/>
            </a:endParaRPr>
          </a:p>
          <a:p>
            <a:pPr marL="288000" indent="0">
              <a:spcBef>
                <a:spcPts val="1500"/>
              </a:spcBef>
              <a:buNone/>
              <a:tabLst>
                <a:tab algn="l" pos="0"/>
                <a:tab algn="r" pos="4229280"/>
                <a:tab algn="l" pos="4686480"/>
                <a:tab algn="r" pos="8801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3. Beaulieu of America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.006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8. Collins &amp; Aikman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418</a:t>
            </a:r>
            <a:endParaRPr b="0" lang="en-US" sz="2400" spc="-1" strike="noStrike">
              <a:solidFill>
                <a:srgbClr val="376546"/>
              </a:solidFill>
              <a:latin typeface="Arial"/>
            </a:endParaRPr>
          </a:p>
          <a:p>
            <a:pPr marL="288000" indent="0">
              <a:spcBef>
                <a:spcPts val="1500"/>
              </a:spcBef>
              <a:buNone/>
              <a:tabLst>
                <a:tab algn="l" pos="0"/>
                <a:tab algn="r" pos="4229280"/>
                <a:tab algn="l" pos="4686480"/>
                <a:tab algn="r" pos="8801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4. Interface Flooring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820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9. Masland Industries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380</a:t>
            </a:r>
            <a:endParaRPr b="0" lang="en-US" sz="2400" spc="-1" strike="noStrike">
              <a:solidFill>
                <a:srgbClr val="376546"/>
              </a:solidFill>
              <a:latin typeface="Arial"/>
            </a:endParaRPr>
          </a:p>
          <a:p>
            <a:pPr marL="288000" indent="0">
              <a:spcBef>
                <a:spcPts val="1500"/>
              </a:spcBef>
              <a:buNone/>
              <a:tabLst>
                <a:tab algn="l" pos="0"/>
                <a:tab algn="r" pos="4229280"/>
                <a:tab algn="l" pos="4686480"/>
                <a:tab algn="r" pos="880128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5. Queen Carpet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775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10. Dixied Yarns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280</a:t>
            </a:r>
            <a:endParaRPr b="0" lang="en-US" sz="24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2381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9200" y="104760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9120" y="120636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49200" y="628164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¿Son economías de escala?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ostes (por ciento de los costes):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2" marL="1143000" indent="-228600">
              <a:spcBef>
                <a:spcPts val="2449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apital: 77 por ciento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2" marL="1143000" indent="-228600">
              <a:spcBef>
                <a:spcPts val="2449"/>
              </a:spcBef>
              <a:buClr>
                <a:srgbClr val="663300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Trabajo: 23 por ciento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550440" y="304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os rendimientos de escala en la industria de alfombra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os grandes fabricant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Han aumentado su maquinaria y mano de obra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 duplicación de los factores ha provocado un aumento de producción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s industrias grandes tienen rendimientos crecientes de escala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title"/>
          </p:nvPr>
        </p:nvSpPr>
        <p:spPr>
          <a:xfrm>
            <a:off x="550440" y="304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os rendimientos de escala en la industria de alfombra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Los pequeños fabricant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13160" indent="-27432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os pequeños aumentos de la escala afectan poco o nada a la producción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13160" indent="-27432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os aumentos proporcionales de los factores aumentan la producción proporcionalmente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lvl="1" marL="713160" indent="-27432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Las industrias pequeñas tienen rendimientos constantes de escala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title"/>
          </p:nvPr>
        </p:nvSpPr>
        <p:spPr>
          <a:xfrm>
            <a:off x="550440" y="304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Los rendimientos de escala en la industria de alfombra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Una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función de producción 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describe el nivel máximo de producción que puede obtener una empresa con cada combinación específica de factores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32640" indent="-3326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Una </a:t>
            </a:r>
            <a:r>
              <a:rPr b="0" i="1" lang="en-US" sz="3200" spc="-1" strike="noStrike">
                <a:solidFill>
                  <a:srgbClr val="376546"/>
                </a:solidFill>
                <a:latin typeface="Arial"/>
              </a:rPr>
              <a:t>isocuanta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es una curva que muestra todas las combinaciones de factores que generan un determinado nivel de producción.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376546"/>
                </a:solidFill>
                <a:latin typeface="Arial"/>
              </a:rPr>
              <a:t>El producto medio del trabajo 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mide la productividad del trabajador medio, mientras que </a:t>
            </a:r>
            <a:r>
              <a:rPr b="0" i="1" lang="es-ES" sz="3200" spc="-1" strike="noStrike">
                <a:solidFill>
                  <a:srgbClr val="376546"/>
                </a:solidFill>
                <a:latin typeface="Arial"/>
              </a:rPr>
              <a:t>el producto marginal del trabajo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 mide la producción del último trabajador añadido al proceso de producción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La </a:t>
            </a:r>
            <a:r>
              <a:rPr b="0" i="1" lang="es-ES" sz="3200" spc="-1" strike="noStrike">
                <a:solidFill>
                  <a:srgbClr val="376546"/>
                </a:solidFill>
                <a:latin typeface="Arial"/>
              </a:rPr>
              <a:t>ley de los rendimientos marginales decrecientes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 explica que el producto marginal de un factor variable disminuya a medida que se incrementa la cantidad del factor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09360" y="1287000"/>
            <a:ext cx="8234280" cy="494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3264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1) 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376546"/>
                </a:solidFill>
                <a:latin typeface="Arial"/>
              </a:rPr>
              <a:t>Para cualquier nivel de K, la producción aumenta a medida que se incrementa la cantidad de L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marL="33264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376546"/>
                </a:solidFill>
                <a:latin typeface="Arial"/>
              </a:rPr>
              <a:t>Para cualquier nivel de L, la producción aumenta a medida que se incrementa la cantidad de K.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  <a:p>
            <a:pPr marL="33264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376546"/>
                </a:solidFill>
                <a:latin typeface="Arial"/>
              </a:rPr>
              <a:t>Varias combinaciones de factores </a:t>
            </a:r>
            <a:r>
              <a:rPr b="0" lang="es-ES" sz="28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76546"/>
                </a:solidFill>
                <a:latin typeface="Arial"/>
              </a:rPr>
              <a:t>producen el mismo nivel de producción.</a:t>
            </a: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as isocuantas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Las isocuantas siempre tienen pendiente negativa porque el producto marginal de todos los factores es positiva.</a:t>
            </a:r>
            <a:r>
              <a:rPr b="0" lang="en-US" sz="3200" spc="-1" strike="noStrike">
                <a:solidFill>
                  <a:srgbClr val="3765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El nivel de vida que puede alcanzar un país para sus ciudadanos está estrechamente relacionado con el nivel de productividad del trabajo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76546"/>
                </a:solidFill>
                <a:latin typeface="Arial"/>
              </a:rPr>
              <a:t>En el análisis a largo plazo, tendemos a centrar la atención en la elección de la escala o el volumen de operaciones de la empresa.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3300"/>
                </a:solidFill>
                <a:latin typeface="Arial"/>
              </a:rPr>
              <a:t>Fin del Capítulo 6</a:t>
            </a:r>
            <a:endParaRPr b="1" lang="en-US" sz="6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17480" y="492120"/>
            <a:ext cx="1076400" cy="5556240"/>
          </a:xfrm>
          <a:prstGeom prst="rtTriangle">
            <a:avLst/>
          </a:prstGeom>
          <a:gradFill rotWithShape="0">
            <a:gsLst>
              <a:gs pos="0">
                <a:srgbClr val="1c4e35"/>
              </a:gs>
              <a:gs pos="100000">
                <a:srgbClr val="48845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63400" y="1905120"/>
            <a:ext cx="0" cy="387972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946800" y="2491560"/>
            <a:ext cx="630720" cy="318456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00000" y="5837400"/>
            <a:ext cx="739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400800" cy="990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txBody>
          <a:bodyPr lIns="90360" rIns="90360" tIns="44280" bIns="4428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76546"/>
                </a:solidFill>
                <a:latin typeface="Arial"/>
              </a:rPr>
              <a:t>La producción</a:t>
            </a:r>
            <a:endParaRPr b="0" lang="en-US" sz="60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socuantas:</a:t>
            </a:r>
            <a:endParaRPr b="0" lang="en-US" sz="3200" spc="-1" strike="noStrike">
              <a:solidFill>
                <a:srgbClr val="37654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546"/>
                </a:solidFill>
                <a:latin typeface="Arial"/>
              </a:rPr>
              <a:t>Curva que muestra todas las combinaciones posibles de factores que generan el mismo nivel de producción. </a:t>
            </a:r>
            <a:endParaRPr b="0" lang="en-US" sz="2800" spc="-1" strike="noStrike">
              <a:solidFill>
                <a:srgbClr val="3765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Las isocuantas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1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Departamento de Sistemas</cp:lastModifiedBy>
  <dcterms:modified xsi:type="dcterms:W3CDTF">2001-07-16T07:02:55Z</dcterms:modified>
  <cp:revision>259</cp:revision>
  <dc:subject/>
  <dc:title>Chapter 1</dc:title>
</cp:coreProperties>
</file>