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E3E-B42E-4B87-A157-1E200FFCA9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19B1-8D2E-44C8-90E7-9A660B2502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2C4-EF0B-4EB9-9BA7-401599B9B2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ACC-D9F0-4DA2-8DD9-9FA1C74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9C1-B6B4-4D6D-9CEB-8E04CD2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DED-98D9-4354-AD6C-774B67C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14A-9CFC-4FF1-BF23-C15202D0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55A6-7EDE-4CFA-A0AE-5A3DF886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5465-ACE8-43F3-968D-65178730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625-B6CD-4801-876B-0FD0121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8971-B0FE-40AE-9C20-31E21EB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85A-8A9B-47EC-8308-6EF4426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F3BF-87C2-467A-AEFF-19859F8A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8F97-4882-4F90-BD04-BA0E4E8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49C-23F9-4E07-AEB7-6674FFE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7F31-BFF6-4970-81FC-129914F5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9CBC-80B9-4D94-8A0C-7541DE8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651-CD30-4165-8AF9-F511266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0DDD-79FC-4435-AC67-ECF58D13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E8A-298D-4241-809B-19C24472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A6FF2-50FC-479C-91E3-A66B5256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C5BF-0C1A-4286-98D0-B457063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842F4-82BA-44C5-861C-1A8F5045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A7BD9-C2F5-4840-B888-8F2EB179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74C8E-36B9-40D7-B8CA-49BEFD28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EA6-CC80-4D70-BC63-08C130B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0B7CE-CB78-4C1E-B3F9-1571AD07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FF1EB-4D6A-4C0F-AE20-BF375CC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A8287-9817-4033-A49A-2F749E8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61F4C-7CBD-424A-A991-B7E7C83C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461BA-BDA9-4434-B228-7D84B4D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2CE13-8FB0-4B03-B1BE-0AA7D96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EAD53-E013-41C9-AF50-EEDC0B6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AD88-48F4-452F-B7DE-F14FAB6C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6194-5B24-436B-925C-25594728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B349-8563-47E8-AB3D-81E88F49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9CC-B247-438D-A7F9-935F726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7215-3BFE-4A8B-99E9-E8BFEC3D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46B7-AEDE-488E-90FA-7D98FF3A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6BBD-7812-4C10-A9C0-BA090D9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8426-BDA6-467C-94EA-3E9F0DA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0443-D4F0-4158-A8AC-23A90E7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7AC6-AE55-4E6F-BFC8-33ABEDD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9E8E-7513-49C2-A6E1-818A361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5E3E-F146-4AFD-B315-20928ED0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9489-313F-401B-83C4-A96C220B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3A054-6060-40E3-84DD-C5A86ADB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A15-DBB9-4FA6-87B5-E98CB7F0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5838A-4D80-4622-B767-941184C4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E8FD7-4B8D-4EF2-B451-C549B4D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03763-5EFB-4630-B18B-2DBC2F9B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8C8D7-1E1A-4F74-B9FF-4E6AD32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14C05-2C98-48E4-B077-1B0E8DC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EDACA-C321-4AB3-BDB2-02338CD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BEB71-F8F1-4F57-81D6-946D0CD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69132-833B-4A25-AB3A-A5EBF1F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7A0E3-0881-40BB-A0F9-1360335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34F0B-C6DC-494A-A835-386761B0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898-D42D-4E2E-89B2-2B5CE7E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0A755-9B8F-4447-812F-39BC71A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1720D-C2BA-43C2-A673-D1486425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E14A3-F59E-4F13-86CC-AF0D3F3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BB216-9CB8-4C24-BBC7-0BC6058A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6E139-7123-4869-9E3D-F045B1B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F2440-606E-4B22-B90D-77EAFA2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A63E4-1DAA-49C6-8E9C-5CD76E2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D097E-F364-43F4-9E01-C2301F5B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83F82-7414-4633-BF13-71153F4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58C99-625D-4628-907B-ED40E8F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368-2020-4B34-9FED-F050D5D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0DD60-7475-4203-91D1-3104198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06B91-B776-4D41-B2D9-2BF17F2D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49DB3-19CD-4CA1-A669-FF200968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7D2BB-82E3-44D2-B29E-69B076C5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39B29-85A0-4FF0-A6ED-37630C8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AD6FE-DE99-4991-B056-48031E2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AFF5F-C888-4D79-9959-B1A9687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7C5C6-4BFB-46D1-B3AA-8D652795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F1466-C591-4467-B170-3939BA3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7DCB7-8893-489E-8091-78F6827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579-4504-429B-B2A2-16904E3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EEE7A-D110-4C3A-938B-838EC15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A50DC-DBAB-4016-8098-E1A5C0C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13399-7EFB-4E10-9C01-F9A72B7B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AAEFE-7DB6-4EBF-8465-908C8BDA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87E9D-4A38-4349-97A3-47A75F66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6A5-1372-4CD9-A1A8-2E645A1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19A8-E6C2-4DF9-BDA1-9A917BCDF20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981-3B75-46CA-885B-9EA52E29DD2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0CB2-1C65-475F-80F6-97110D308EB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8A9-FEBF-4803-AB09-04EDA6C9A8E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66A-30AA-4B6A-93E0-4583420FD58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F8E4-DC7D-4737-962A-B2FBFBD3D33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3DD-709C-4EA3-BBE3-A2C3515BB7CF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D24D-B3B0-49D4-A166-58ED4BFC295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BA06-58AF-477F-B9C1-52673F49503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1813-82D2-46B3-B4FE-8CE3C8A58EB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1F9-3FD2-42E3-9FD0-0B43829A20A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C26E-9C1C-4615-B894-4FB167CC282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24C-BA5C-4D61-A7DE-D0A6D018EBA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48F2-079A-47D6-9B49-AFE52317B3D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scomprime los archivos y copia la carpeta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-scip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en el escritorio o en otro directorio a tu elec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ntro de esta carpeta haz clic con el botón secundari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y elige la opción “Extraer Aquí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pite el paso anterior co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99E-B02D-4418-8BC5-E907299AD63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191-48E4-44DE-94C4-2F583E8B5E6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285920" y="1257480"/>
            <a:ext cx="6715080" cy="53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2: GENERAR ARCHIVO .ZP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n WordPad, Block de Notas, o cualquier editor de texto simple, escribe el código correspondiente al problema a resolv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este ejemplo usaremos el código contenid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32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1BC-579A-416B-BEAB-A25C14F1958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500120" y="3400560"/>
            <a:ext cx="61707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3: COMPIL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1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E3D-62F0-4260-B98B-ADD5E4320CA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3568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Abre la aplicación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, aparecerá una venta “tipo DO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read 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728640" y="3214800"/>
            <a:ext cx="7558200" cy="2500200"/>
          </a:xfrm>
          <a:prstGeom prst="rect">
            <a:avLst/>
          </a:prstGeom>
          <a:ln w="0">
            <a:noFill/>
          </a:ln>
        </p:spPr>
      </p:pic>
      <p:sp>
        <p:nvSpPr>
          <p:cNvPr id="374" name="10 Rectángulo redondeado"/>
          <p:cNvSpPr/>
          <p:nvPr/>
        </p:nvSpPr>
        <p:spPr>
          <a:xfrm>
            <a:off x="1214280" y="4357800"/>
            <a:ext cx="17146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Marcador de contenido"/>
          <p:cNvSpPr/>
          <p:nvPr/>
        </p:nvSpPr>
        <p:spPr>
          <a:xfrm>
            <a:off x="357120" y="564372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compila el problema y muestra la cantidad de variables y restricciones que po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86400" cy="47307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optimize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F6C-045D-4E33-AED0-9ADD71EB446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5 Rectángulo redondeado"/>
          <p:cNvSpPr/>
          <p:nvPr/>
        </p:nvSpPr>
        <p:spPr>
          <a:xfrm>
            <a:off x="1500120" y="2071800"/>
            <a:ext cx="7858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3286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ver el resultado 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display so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EED-C9DF-4FD9-A047-4BD1B3D93BD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 Rectángulo redondeado"/>
          <p:cNvSpPr/>
          <p:nvPr/>
        </p:nvSpPr>
        <p:spPr>
          <a:xfrm>
            <a:off x="1428840" y="3286080"/>
            <a:ext cx="1071360" cy="214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 Marcador de contenido"/>
          <p:cNvSpPr/>
          <p:nvPr/>
        </p:nvSpPr>
        <p:spPr>
          <a:xfrm>
            <a:off x="557280" y="5429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variables que no aparecen tienen valor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ÓDI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5720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l detalle del código lo veremos en clase auxilia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ientras tanto puedes consultar el manual “</a:t>
            </a:r>
            <a:r>
              <a:rPr b="0" lang="es-CL" sz="2800" spc="-1" strike="noStrike">
                <a:solidFill>
                  <a:srgbClr val="4f81bd"/>
                </a:solidFill>
                <a:latin typeface="Century Schoolbook"/>
              </a:rPr>
              <a:t>zimpl.pdf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adjunto con los archivos de la tar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4B8E-4A27-421C-9112-7F94B25D77C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0080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1" name="6 Rectángulo"/>
          <p:cNvSpPr/>
          <p:nvPr/>
        </p:nvSpPr>
        <p:spPr>
          <a:xfrm>
            <a:off x="500040" y="5500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¡Aprovecha el tiempo para modelar los problem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1:43Z</dcterms:created>
  <dc:creator>ndevia</dc:creator>
  <dc:description/>
  <dc:language>en-US</dc:language>
  <cp:lastModifiedBy>Nelson</cp:lastModifiedBy>
  <dcterms:modified xsi:type="dcterms:W3CDTF">2009-03-22T21:35:38Z</dcterms:modified>
  <cp:revision>56</cp:revision>
  <dc:subject/>
  <dc:title>Tutorial para el uso de las herramientas ZIMPL y SCIP</dc:title>
</cp:coreProperties>
</file>