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66B9-38CC-4BAF-845B-2FD68F3E741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A270-DF73-48C2-A5D1-8CD0E5E76FA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FCF0-379E-44BF-AD91-78317172767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0081-859D-4298-A5E6-522833D5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D9E8-9C54-48EA-BF6E-FDC4EB40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874A-4CEF-4BFD-BBE0-8D6420777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ED5A-9509-4D07-991B-54AA64FA7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E9FA-90BE-4455-BCBA-12890AC3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0141-6A3D-4C73-8F62-A9061F58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D6BA-1EC4-4CD2-829B-29629174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DEDA-F6E4-4F54-BF95-CA74FD81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CEB8-A217-4AD2-B230-91B930ED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6C0D-3645-46F5-BEC6-CE66AC2A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740E-3C19-486E-B60F-8A4D420F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C852-3529-4202-ABD3-B3F477C7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985F-AD85-4067-85A3-15367C15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8867-21AB-4513-8983-304E2C84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5718-0BFC-4A26-BB18-103B6B8A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320A-A009-4611-BFAA-563523322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B79C-50FE-48B4-B7D6-0350C794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4D1106-E70D-4BAE-A5E7-90036197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D271EC-118B-4C24-9463-062BB1C7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82E9B6-5EBD-4AA7-B7DF-C430706E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853F8C-CA14-4B7D-938E-FD611F69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FD6CE3-4160-4CA5-88A9-DE0CCD13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3160-2710-4241-AA61-D080D916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C7F2CC-F9F0-4257-BF99-FC8AE1E5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23FA66-8641-4439-B73F-DB6B6CB4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9BE2AD-79D2-4816-B37E-8E9496EF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153F7D-4FEC-4A7E-8A7C-531EED75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94336F-5440-4217-8999-1863449E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3AF54C-84C2-4F3D-98FB-6B429A0B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D3FCB2-FE9C-407F-9204-49802CC2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1A809-F5CF-44B1-B76E-586156C4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42F02-762E-4F7D-B994-E118E856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9E2E0-4666-4BDA-9383-47ED977E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E13E-B2E0-41DB-8763-D3EB3397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F6BF3-ED57-4310-9197-20AD1861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9F805-05E2-48E9-8E9F-2AFDC941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D80AC-B1A4-41B2-B700-35ED6902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9064B-C814-4A43-A2F3-895269B7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BA55B-8CA6-44E8-9EA9-301D84AA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80FFC-EEA5-43E5-B15C-942998C0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C002F-C364-41F3-A388-D2A88F52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0499E-BFE1-49BC-9DEF-244291FA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D3B4C-84C6-4D99-A2F3-88F4F790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EB4068-3D0E-4D82-886C-2AB3A7BF3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282A-181C-46EB-9445-BFB9BAA6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B07B58-783F-4FAB-A9DD-FA7D9202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66CAB5-5558-495C-A6D7-2A533FEA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5B9D9F-C727-4E12-A922-C523DCBF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6BCCDB-56E6-4FA9-A14C-9C7B5795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663B47-FE83-4AA3-A69E-4BD0E217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EA3429-6D2E-4C7F-A085-EAE8CA56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7EB0DA-81EB-4CB9-B13C-B5A17024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2BD959-7CFD-42A4-8874-806B9428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12A413-F223-4154-851B-5C877C9D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D08675-A5B2-40B8-8288-122BAB9C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549E-14F3-461C-BABE-5EFB8A65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E70224-C939-4F03-B249-4A161391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924859-2C6D-4010-AB39-09B2E0429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A1A94D-0150-43B8-AED0-5C567B90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B41396-8C29-440A-80BC-F8BA0BF8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08E5C9-4B39-4AAD-BE72-7C8B8D3F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520613-0A4B-4A89-9547-18570CC7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2F2B31-B8E8-4396-B793-2292C053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68DBEC-CC4B-46CA-9875-668AA903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8AEFCF-1E9A-4957-A792-79E620C1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FC753C-03CA-4D54-AB81-273AA793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A1D8-A223-4506-828F-4A925B87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582325-877A-46AB-8881-7DA3F06F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B97573-2993-4966-9B5C-7D6FE384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81CC67-FFC1-49BB-BDFD-0AF0293D0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5F7815-3023-4197-BEC6-6E9AF39C9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44CB51-217D-4235-BE64-96355ECF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53E153-A378-4BB3-BB48-8F29FAB8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00A843-110A-4AD1-91F1-0BE5EC9B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123AAB-5554-4BEE-8D7A-8B0C364C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18D613-260B-49EC-AC77-42A323B3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023F58-E7C8-48A2-B7CD-66DB8BB6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6270-D170-4DEE-9B0B-850BB760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8240C8-FD91-40A6-B75F-002D2772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258DA5-B116-4176-962B-B25BCA02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9FB2FC-3AB6-4F26-95EC-0D98BB4E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967D69-514A-4E87-92B8-7F4F848DC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09D71F-6CC3-431B-8A66-26DFF542C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D05C-3335-4043-8156-01033251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4DE6-700B-4EE8-B311-BE4111BE1071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79BE-233D-43E0-B1C0-6EBE14A3887D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9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3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1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2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DD0C-EED2-41E5-9141-BE6E203BCB2A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39C3-E61F-4C86-B93B-51DA730DA40B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955B-6AD6-4AF1-A3C0-743F826B5AE3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D6AD-0E05-4547-A3FC-E9AB6881D49A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1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2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78C5-58C9-497B-A892-8BBD9F5F553D}" type="datetime">
              <a:rPr b="0" lang="es-ES" sz="1200" spc="-1" strike="noStrike">
                <a:solidFill>
                  <a:srgbClr val="fff39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7367-47DB-4E30-877C-D2492707D6A3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053E-DA1C-485D-8958-CA98394308CE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F387-A109-409E-8BE0-293F2975D623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6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7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70A8-7618-4C4B-9B4C-13C828D2EC65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BD82-A010-4864-B693-5E60B1BCFD3A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6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20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3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95A3-1D65-4956-841B-CBE84E2C4870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CD7C-F653-4260-965B-CFBC8A603D91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00080" y="17146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TUTORIAL PARA EL USO DE LAS HERRAMIENTAS ZIMPL Y SCIP</a:t>
            </a:r>
            <a:br>
              <a:rPr sz="3000"/>
            </a:br>
            <a:r>
              <a:rPr b="1" lang="es-CL" sz="2400" spc="-1" strike="noStrike">
                <a:solidFill>
                  <a:srgbClr val="575f6d"/>
                </a:solidFill>
                <a:latin typeface="Century Schoolbook"/>
              </a:rPr>
              <a:t>(VERSIÓN PRELIMINAR)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457360" y="3714480"/>
            <a:ext cx="640080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IN3701 – Optimizació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Semestre Otoño 2009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Profesores: 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Daniel Espinoza G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Gonzalo Romero Y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Auxiliares: 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Nelson Devia C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Jocelyn González R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70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ASO 1: BAJAR ARCHIV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855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Descomprime los archivos y copia la carpeta “</a:t>
            </a:r>
            <a:r>
              <a:rPr b="0" lang="es-CL" sz="2800" spc="-1" strike="noStrike">
                <a:solidFill>
                  <a:srgbClr val="0070c0"/>
                </a:solidFill>
                <a:latin typeface="Century Schoolbook"/>
              </a:rPr>
              <a:t>zimpl-scip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 en el escritorio o en otro directorio a tu elecció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Dentro de esta carpeta haz clic con el botón secundario en el archivo “</a:t>
            </a:r>
            <a:r>
              <a:rPr b="0" lang="es-CL" sz="2800" spc="-1" strike="noStrike">
                <a:solidFill>
                  <a:srgbClr val="0070c0"/>
                </a:solidFill>
                <a:latin typeface="Century Schoolbook"/>
              </a:rPr>
              <a:t>scip-1.1.0.mingw32_nt-5.1.x86.gnu.opt.spx.rar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 y elige la opción “Extraer Aquí”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Repite el paso anterior con el archivo “</a:t>
            </a:r>
            <a:r>
              <a:rPr b="0" lang="es-CL" sz="2800" spc="-1" strike="noStrike">
                <a:solidFill>
                  <a:srgbClr val="0070c0"/>
                </a:solidFill>
                <a:latin typeface="Century Schoolbook"/>
              </a:rPr>
              <a:t>zimpl.rar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7CB8-A456-496F-A377-BDBACA2CCF7D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70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ASO 1: BAJAR ARCHIV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3BA7-75C9-4828-8E4A-29426A03CAC1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" descr=""/>
          <p:cNvPicPr/>
          <p:nvPr/>
        </p:nvPicPr>
        <p:blipFill>
          <a:blip r:embed="rId1"/>
          <a:stretch/>
        </p:blipFill>
        <p:spPr>
          <a:xfrm>
            <a:off x="1285920" y="1257480"/>
            <a:ext cx="6715080" cy="531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70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ASO 2: GENERAR ARCHIVO .ZPL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35684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En WordPad, Block de Notas, o cualquier editor de texto simple, escribe el código correspondiente al problema a resolver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Para este ejemplo usaremos el código contenido en el archivo “</a:t>
            </a:r>
            <a:r>
              <a:rPr b="0" lang="es-CL" sz="2800" spc="-1" strike="noStrike">
                <a:solidFill>
                  <a:srgbClr val="0070c0"/>
                </a:solidFill>
                <a:latin typeface="Century Schoolbook"/>
              </a:rPr>
              <a:t>cashflow.zpl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32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43C6-DA0B-4347-B67B-E06BB6558C9E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1500120" y="3400560"/>
            <a:ext cx="6170760" cy="331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70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ASO 3: COMPILA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11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010A-D7AB-4123-AAB9-510D777AC1E7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56760" y="1356840"/>
            <a:ext cx="82868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Abre la aplicación “</a:t>
            </a:r>
            <a:r>
              <a:rPr b="0" lang="es-CL" sz="2800" spc="-1" strike="noStrike">
                <a:solidFill>
                  <a:srgbClr val="0070c0"/>
                </a:solidFill>
                <a:latin typeface="Century Schoolbook"/>
              </a:rPr>
              <a:t>scip-1.1.0.mingw32_nt-5.1.x86.gnu.opt.spx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, aparecerá una venta “tipo DOS”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Escribe “</a:t>
            </a:r>
            <a:r>
              <a:rPr b="0" lang="es-CL" sz="2800" spc="-1" strike="noStrike">
                <a:solidFill>
                  <a:srgbClr val="ff0000"/>
                </a:solidFill>
                <a:latin typeface="Century Schoolbook"/>
              </a:rPr>
              <a:t>read cashflow.zpl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8" descr=""/>
          <p:cNvPicPr/>
          <p:nvPr/>
        </p:nvPicPr>
        <p:blipFill>
          <a:blip r:embed="rId1"/>
          <a:stretch/>
        </p:blipFill>
        <p:spPr>
          <a:xfrm>
            <a:off x="728640" y="3214800"/>
            <a:ext cx="7558200" cy="2500200"/>
          </a:xfrm>
          <a:prstGeom prst="rect">
            <a:avLst/>
          </a:prstGeom>
          <a:ln w="0">
            <a:noFill/>
          </a:ln>
        </p:spPr>
      </p:pic>
      <p:sp>
        <p:nvSpPr>
          <p:cNvPr id="374" name="10 Rectángulo redondeado"/>
          <p:cNvSpPr/>
          <p:nvPr/>
        </p:nvSpPr>
        <p:spPr>
          <a:xfrm>
            <a:off x="1214280" y="4357800"/>
            <a:ext cx="1714680" cy="2854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4 Marcador de contenido"/>
          <p:cNvSpPr/>
          <p:nvPr/>
        </p:nvSpPr>
        <p:spPr>
          <a:xfrm>
            <a:off x="357120" y="5643720"/>
            <a:ext cx="8001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o compila el problema y muestra la cantidad de variables y restricciones que pos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5" descr=""/>
          <p:cNvPicPr/>
          <p:nvPr/>
        </p:nvPicPr>
        <p:blipFill>
          <a:blip r:embed="rId1"/>
          <a:stretch/>
        </p:blipFill>
        <p:spPr>
          <a:xfrm>
            <a:off x="928800" y="1785960"/>
            <a:ext cx="7286400" cy="473076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70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ASO 4: RESOLVER Y OBTENER LA SOLU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21428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Escribe “</a:t>
            </a:r>
            <a:r>
              <a:rPr b="0" lang="es-CL" sz="2800" spc="-1" strike="noStrike">
                <a:solidFill>
                  <a:srgbClr val="ff0000"/>
                </a:solidFill>
                <a:latin typeface="Century Schoolbook"/>
              </a:rPr>
              <a:t>optimize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E222-F03E-4268-B43E-98C2D109EDEA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5 Rectángulo redondeado"/>
          <p:cNvSpPr/>
          <p:nvPr/>
        </p:nvSpPr>
        <p:spPr>
          <a:xfrm>
            <a:off x="1500120" y="2071800"/>
            <a:ext cx="785880" cy="2854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928800" y="1857240"/>
            <a:ext cx="7215120" cy="328644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70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ASO 4: RESOLVER Y OBTENER LA SOLU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21428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Para ver el resultado escribe “</a:t>
            </a:r>
            <a:r>
              <a:rPr b="0" lang="es-CL" sz="2800" spc="-1" strike="noStrike">
                <a:solidFill>
                  <a:srgbClr val="ff0000"/>
                </a:solidFill>
                <a:latin typeface="Century Schoolbook"/>
              </a:rPr>
              <a:t>display sol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81BD-A47D-4368-B158-3815C5CB0455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5 Rectángulo redondeado"/>
          <p:cNvSpPr/>
          <p:nvPr/>
        </p:nvSpPr>
        <p:spPr>
          <a:xfrm>
            <a:off x="1428840" y="3286080"/>
            <a:ext cx="1071360" cy="21420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2 Marcador de contenido"/>
          <p:cNvSpPr/>
          <p:nvPr/>
        </p:nvSpPr>
        <p:spPr>
          <a:xfrm>
            <a:off x="557280" y="5429160"/>
            <a:ext cx="8229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variables que no aparecen tienen valor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70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CÓDIG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357200"/>
            <a:ext cx="8329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El detalle del código lo veremos en clase auxiliar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Mientras tanto puedes consultar el manual “</a:t>
            </a:r>
            <a:r>
              <a:rPr b="0" lang="es-CL" sz="2800" spc="-1" strike="noStrike">
                <a:solidFill>
                  <a:srgbClr val="4f81bd"/>
                </a:solidFill>
                <a:latin typeface="Century Schoolbook"/>
              </a:rPr>
              <a:t>zimpl.pdf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” adjunto con los archivos de la tarea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7941-CC63-49B2-9697-1CB0F079FEC6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1857240" y="2928960"/>
            <a:ext cx="5500800" cy="2405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1" name="6 Rectángulo"/>
          <p:cNvSpPr/>
          <p:nvPr/>
        </p:nvSpPr>
        <p:spPr>
          <a:xfrm>
            <a:off x="500040" y="5500800"/>
            <a:ext cx="757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¡Aprovecha el tiempo para modelar los problema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00080" y="17146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TUTORIAL PARA EL USO DE LAS HERRAMIENTAS ZIMPL Y SCIP</a:t>
            </a:r>
            <a:br>
              <a:rPr sz="3000"/>
            </a:br>
            <a:r>
              <a:rPr b="1" lang="es-CL" sz="2400" spc="-1" strike="noStrike">
                <a:solidFill>
                  <a:srgbClr val="575f6d"/>
                </a:solidFill>
                <a:latin typeface="Century Schoolbook"/>
              </a:rPr>
              <a:t>(VERSIÓN PRELIMINAR)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2457360" y="3714480"/>
            <a:ext cx="640080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IN3701 – Optimizació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Semestre Otoño 2009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Profesores: 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Daniel Espinoza G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Gonzalo Romero Y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Auxiliares: 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Nelson Devia C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2200" spc="-1" strike="noStrike">
                <a:solidFill>
                  <a:srgbClr val="575f6d"/>
                </a:solidFill>
                <a:latin typeface="Century Schoolbook"/>
              </a:rPr>
              <a:t>Jocelyn González R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5:11:43Z</dcterms:created>
  <dc:creator>ndevia</dc:creator>
  <dc:description/>
  <dc:language>en-US</dc:language>
  <cp:lastModifiedBy>Nelson</cp:lastModifiedBy>
  <dcterms:modified xsi:type="dcterms:W3CDTF">2009-03-22T21:35:38Z</dcterms:modified>
  <cp:revision>56</cp:revision>
  <dc:subject/>
  <dc:title>Tutorial para el uso de las herramientas ZIMPL y SCIP</dc:title>
</cp:coreProperties>
</file>