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1A26-A572-437E-9362-B6B12AD4380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AE1E-2CA5-4727-96F6-5F32E628C23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93C0-EA8E-4385-B8CE-23D3221B5CF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2D83-5013-4ACA-9BBE-796B8DCB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BAD-ED6A-45CA-85D3-7E79A21B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8BBA-3FED-4E2A-A54A-906CE1D3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517-1755-464B-B73A-CAED09E0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95CE-FFBE-4D17-84D7-602E1783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169C-9314-4215-AD81-631BEBFF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8631-E11D-49FF-A9CF-7700A0BE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AE18-B660-4A18-9A6D-EA816ED1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60F9-2E12-4B7F-B8E3-C129665F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1BC7-ACC7-4B2A-96B1-0C8340B8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DDEC-8BDF-4EE2-B9ED-E6482759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36B3-590F-4A21-9441-7F7F0F60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9B7D-0500-4F13-9482-CD74E1C9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3348-C550-4411-BCD2-709D3C43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23D7-0DD8-4C5F-8556-DC172C18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8E2A-DB3E-4116-9567-071B8716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ED72-4188-4B66-BB50-50D84FC2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5A5CA-F786-4A4D-A4F7-D678FCC7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B1159-0737-41CC-8548-B71DE80D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1A5225-8588-4229-AAA5-725FC49E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DDB7B-368E-4AAD-92DF-48D2FA41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7A6B2A-6321-4716-90F3-5EC4E7C9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541-D186-4721-A9D2-6B56203C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DC111-4039-4C09-AE99-AAB22EC7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E126A-F9D4-497C-9A83-B3377E30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80C41-BF0D-4AC5-B5D9-B3D02CDD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F41FF-4403-4B63-95C8-18185EFD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650D2F-A4E0-4A0A-B9CA-D6F470FE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4EC2A-D225-4099-A3E1-3655BD53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32261-46CD-4C59-8CDA-93DED67B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9A59E-A4A8-49E2-BECE-EE8603B3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DA190-817D-4268-BC36-EAB490E3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A2D28-707F-4C7F-9EB0-850E8CDB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47C-87D3-4555-8FB0-ABB20122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BD01C-0BCC-4740-8C17-A58148E9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EB90F-C7A3-41C0-8FC0-9928D763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C59A7-38E1-4A55-B15D-A428F56E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5EB44-1CE2-4BDF-BEC0-863E50DD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5F818-82E7-476F-A8E7-F8B3130E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9CA31-43CF-4F61-9C7E-11A02D2F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051B8-A992-44EB-879B-2B9CBF77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DA8B1-CB27-40A2-892E-DF8D7F69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320E3-9FDA-4136-8B8E-3889EC8B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B05299-363E-44B0-B246-1653B82D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1C1-F21B-428D-80E5-B312AA97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EDA6DB-8100-4E7B-A909-9B6E0A5B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7C5F6D-86BE-4350-88F5-0833DD5E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03E9B-79D4-4281-8178-0C9AA5DD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9BCAC7-DE54-4B1F-867E-709B65B5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DACF4-44B7-40B8-A9AD-BFEB1556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D1293-B7A8-4496-ADB3-8045559F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5D5FB5-4E1E-45AE-A37A-C8D2DA95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23DA3-4A35-4E91-AB36-FC9E4872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103F6A-C746-4F36-B1EC-73EC5C5D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CB80CF-966F-4B4F-87DE-2447528D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A64-6280-437B-8ECF-9C7715A2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38E3E-7212-48E4-BC31-E8890EFA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9088CD-2531-4AC0-8F52-C0C86269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BE3A1F-3A89-489B-AB36-67F8C3A5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D17389-16A0-4F58-82A9-12F10336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C273A2-0913-4EAB-B28D-79E12AC6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7863DE-A116-4217-BF31-5F9B57E9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96D541-4363-47D9-8D94-FC1D55B5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4A86F6-4A0E-463D-8ED9-F565EEC2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D3C53F-937E-4BE1-8567-B3B09138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A6D1C9-1574-45E0-8BA6-A424267D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E7E-C29E-4FE3-AC1E-414749C3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4EE279-E30E-447B-8CDD-679428E5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1C609D-1B93-459E-B94D-C81D275E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F5CB4C-EEB2-4A66-843F-801E6D9E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4B6C60-059D-4393-B572-FD35E192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2314C9-B831-4BF8-A257-076BBBAA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A93B48-87AD-4BBB-98FE-4AB5387A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F4FC80-534F-4DEE-B3C3-4C8108F6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3D591B-0796-4429-A032-45B12C37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BA8897-E2DE-413B-80C8-FF7D9D5A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4042CE-EB05-4DA5-891E-39FCA960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4D2-2930-4067-841C-EF4C35A9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A24216-B299-42FE-B8B5-2EF4D04B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8C44F0-049E-472E-8978-5766CF61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DDE8AE-5E32-459F-9D06-FD8FEF7F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F41FA4-95BB-47B0-8ABE-8A49A627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16B88D-E0E4-4921-B62D-63A45A8B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40E-54AA-45A4-947C-3EAD39C5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8C96-A425-451F-9010-C229755CE63D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2836-425C-4803-8DB2-23EDB996047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7495-15AA-4F38-88A1-FE43835CDF46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2B67-54AA-4E3A-830A-47970A79970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39F0-7674-4FD4-A62C-4588036ED54B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C2B3-A1C8-427A-898B-40D82BACDBB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4A43-3850-4E91-B18A-A255BAB16213}" type="datetime"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B389-EB43-42EF-B6F2-96DE338F808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9F42-2AFC-410A-BFF6-ABBC33166DD4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8FFC-EAD8-40AA-9D3A-BCB3B3170D1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C353-1C6C-4384-AF0D-F2C5EB8EB156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3B65-1E94-4E86-8094-4CE0247F449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8690-F4C4-43BD-8CAF-38539367A662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8A39-0E84-45B0-940B-3A32B7654A3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00080" y="17146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UTORIAL PARA EL USO DE LAS HERRAMIENTAS ZIMPL Y SCIP</a:t>
            </a:r>
            <a:br>
              <a:rPr sz="3000"/>
            </a:br>
            <a:r>
              <a:rPr b="1" lang="es-CL" sz="2400" spc="-1" strike="noStrike">
                <a:solidFill>
                  <a:srgbClr val="575f6d"/>
                </a:solidFill>
                <a:latin typeface="Century Schoolbook"/>
              </a:rPr>
              <a:t>(VERSIÓN PRELIMINAR)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457360" y="3714480"/>
            <a:ext cx="64008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IN3701 – Optimizació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Semestre Otoño 2009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Profesores: 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Daniel Espinoza G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Gonzalo Romero Y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Auxiliares: 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Nelson Devia C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Jocelyn González 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1: BAJAR ARCHIV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Descomprime los archivos y copia la carpeta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zimpl-scip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 en el escritorio o en otro directorio a tu elecció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Dentro de esta carpeta haz clic con el botón secundario en el archivo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scip-1.1.0.mingw32_nt-5.1.x86.gnu.opt.spx.rar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 y elige la opción “Extraer Aquí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Repite el paso anterior con el archivo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zimpl.rar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171F-7B36-4665-85B5-BF46582819D8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1: BAJAR ARCHIV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468A-EFF2-4AA9-955A-50D20B54E1D6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1"/>
          <a:stretch/>
        </p:blipFill>
        <p:spPr>
          <a:xfrm>
            <a:off x="1285920" y="1257480"/>
            <a:ext cx="6715080" cy="531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2: GENERAR ARCHIVO .ZP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3568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n WordPad, Block de Notas, o cualquier editor de texto simple, escribe el código correspondiente al problema a resolve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Para este ejemplo usaremos el código contenido en el archivo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cashflow.zpl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32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6F7B-279E-470B-B9CD-7DF36D59FB1B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1500120" y="3400560"/>
            <a:ext cx="6170760" cy="331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3: COMPILA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11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3CA0-6F08-470D-8213-2F3E056EBC0E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56760" y="1356840"/>
            <a:ext cx="82868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Abre la aplicación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scip-1.1.0.mingw32_nt-5.1.x86.gnu.opt.spx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, aparecerá una venta “tipo DOS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scribe “</a:t>
            </a:r>
            <a:r>
              <a:rPr b="0" lang="es-CL" sz="2800" spc="-1" strike="noStrike">
                <a:solidFill>
                  <a:srgbClr val="ff0000"/>
                </a:solidFill>
                <a:latin typeface="Century Schoolbook"/>
              </a:rPr>
              <a:t>read cashflow.zpl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8" descr=""/>
          <p:cNvPicPr/>
          <p:nvPr/>
        </p:nvPicPr>
        <p:blipFill>
          <a:blip r:embed="rId1"/>
          <a:stretch/>
        </p:blipFill>
        <p:spPr>
          <a:xfrm>
            <a:off x="728640" y="3214800"/>
            <a:ext cx="7558200" cy="2500200"/>
          </a:xfrm>
          <a:prstGeom prst="rect">
            <a:avLst/>
          </a:prstGeom>
          <a:ln w="0">
            <a:noFill/>
          </a:ln>
        </p:spPr>
      </p:pic>
      <p:sp>
        <p:nvSpPr>
          <p:cNvPr id="374" name="10 Rectángulo redondeado"/>
          <p:cNvSpPr/>
          <p:nvPr/>
        </p:nvSpPr>
        <p:spPr>
          <a:xfrm>
            <a:off x="1214280" y="4357800"/>
            <a:ext cx="1714680" cy="285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4 Marcador de contenido"/>
          <p:cNvSpPr/>
          <p:nvPr/>
        </p:nvSpPr>
        <p:spPr>
          <a:xfrm>
            <a:off x="357120" y="5643720"/>
            <a:ext cx="8001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o compila el problema y muestra la cantidad de variables y restricciones que po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" descr=""/>
          <p:cNvPicPr/>
          <p:nvPr/>
        </p:nvPicPr>
        <p:blipFill>
          <a:blip r:embed="rId1"/>
          <a:stretch/>
        </p:blipFill>
        <p:spPr>
          <a:xfrm>
            <a:off x="928800" y="1785960"/>
            <a:ext cx="7286400" cy="473076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4: RESOLVER Y OBTENER LA SOLU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42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scribe “</a:t>
            </a:r>
            <a:r>
              <a:rPr b="0" lang="es-CL" sz="2800" spc="-1" strike="noStrike">
                <a:solidFill>
                  <a:srgbClr val="ff0000"/>
                </a:solidFill>
                <a:latin typeface="Century Schoolbook"/>
              </a:rPr>
              <a:t>optimize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0EE9-36CF-4A4E-8917-086C1C2B8B23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5 Rectángulo redondeado"/>
          <p:cNvSpPr/>
          <p:nvPr/>
        </p:nvSpPr>
        <p:spPr>
          <a:xfrm>
            <a:off x="1500120" y="2071800"/>
            <a:ext cx="785880" cy="285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928800" y="1857240"/>
            <a:ext cx="7215120" cy="32864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4: RESOLVER Y OBTENER LA SOLU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42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Para ver el resultado escribe “</a:t>
            </a:r>
            <a:r>
              <a:rPr b="0" lang="es-CL" sz="2800" spc="-1" strike="noStrike">
                <a:solidFill>
                  <a:srgbClr val="ff0000"/>
                </a:solidFill>
                <a:latin typeface="Century Schoolbook"/>
              </a:rPr>
              <a:t>display sol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33A6-D8F2-471A-BB29-E6A4E1B93C67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5 Rectángulo redondeado"/>
          <p:cNvSpPr/>
          <p:nvPr/>
        </p:nvSpPr>
        <p:spPr>
          <a:xfrm>
            <a:off x="1428840" y="3286080"/>
            <a:ext cx="1071360" cy="21420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2 Marcador de contenido"/>
          <p:cNvSpPr/>
          <p:nvPr/>
        </p:nvSpPr>
        <p:spPr>
          <a:xfrm>
            <a:off x="557280" y="542916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variables que no aparecen tienen valor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CÓDIG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357200"/>
            <a:ext cx="8329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l detalle del código lo veremos en clase auxilia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Mientras tanto puedes consultar el manual “</a:t>
            </a:r>
            <a:r>
              <a:rPr b="0" lang="es-CL" sz="2800" spc="-1" strike="noStrike">
                <a:solidFill>
                  <a:srgbClr val="4f81bd"/>
                </a:solidFill>
                <a:latin typeface="Century Schoolbook"/>
              </a:rPr>
              <a:t>zimpl.pdf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 adjunto con los archivos de la tare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4B5E-6E4D-473A-B7A4-B8B2F5A826DA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1857240" y="2928960"/>
            <a:ext cx="5500800" cy="240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1" name="6 Rectángulo"/>
          <p:cNvSpPr/>
          <p:nvPr/>
        </p:nvSpPr>
        <p:spPr>
          <a:xfrm>
            <a:off x="500040" y="550080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¡Aprovecha el tiempo para modelar los problema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0080" y="17146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UTORIAL PARA EL USO DE LAS HERRAMIENTAS ZIMPL Y SCIP</a:t>
            </a:r>
            <a:br>
              <a:rPr sz="3000"/>
            </a:br>
            <a:r>
              <a:rPr b="1" lang="es-CL" sz="2400" spc="-1" strike="noStrike">
                <a:solidFill>
                  <a:srgbClr val="575f6d"/>
                </a:solidFill>
                <a:latin typeface="Century Schoolbook"/>
              </a:rPr>
              <a:t>(VERSIÓN PRELIMINAR)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2457360" y="3714480"/>
            <a:ext cx="64008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IN3701 – Optimizació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Semestre Otoño 2009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Profesores: 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Daniel Espinoza G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Gonzalo Romero Y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Auxiliares: 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Nelson Devia C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Jocelyn González 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5:11:43Z</dcterms:created>
  <dc:creator>ndevia</dc:creator>
  <dc:description/>
  <dc:language>en-US</dc:language>
  <cp:lastModifiedBy>Nelson</cp:lastModifiedBy>
  <dcterms:modified xsi:type="dcterms:W3CDTF">2009-03-22T21:35:38Z</dcterms:modified>
  <cp:revision>56</cp:revision>
  <dc:subject/>
  <dc:title>Tutorial para el uso de las herramientas ZIMPL y SCIP</dc:title>
</cp:coreProperties>
</file>