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BC3-14A0-4C83-A65B-A9C7EA803E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D15A-D8B7-476F-8CEF-A08B594C2B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26F-6626-4DCF-81D7-53513B3EA8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017-0320-4986-84B7-E4B51968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E9D-7147-416C-BE60-66229385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3C4-AC8B-4C80-8C27-BF6C63F3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AF9-54DE-4A07-B9B5-DAC99E89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699F-E292-4C35-9E2B-B412C2B8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CB8A-B93B-48F2-BEEA-12142DE1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0511-C358-4201-8143-B6424949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BBAB-235F-492B-928F-C556FE05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873A-D8BC-421E-BEA7-FB93201A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9D9B-1A38-4BF0-97D0-089A75C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3B95-1BDC-4F00-95A8-524CCDF9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528-3B71-4E5F-8AE2-703C9017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7FC6-BEA2-433C-85DC-5E305EC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CEFF-4242-4BD6-A4B0-BBFB1664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1475-DFCA-4257-B59C-AAB40678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7596-16E7-4A8C-926B-C72B504B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0394-6D94-488E-860D-B0522A85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ABF39-70F7-4CAD-9BDD-AB52EB53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E1D52-171D-4016-B4AA-7D82299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A03EE-7425-40B5-B9FC-D50035DD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25612-0501-4A72-88DB-2966066E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A01F0-0937-44C2-BCAD-09C5FE0B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3E0-1186-4C73-8B1D-6F905BC7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7A88B-47B1-4FC2-AB56-3C62E82C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AADB7-66B9-4BFF-9361-67AEEBF6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F5C66-057B-4D5B-AD4E-CEE5A595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48634-C960-46A8-8968-C093B5C3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99E71-F832-4D18-BE9C-0A43220B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40B6D-143C-43B5-9046-48078450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D9A2B-D0AC-4F9B-A5E3-60243BBD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5404-2309-475E-AB55-338EB9A0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DC5D-2294-4CAE-BC6A-25DA4247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71F07-8B5C-4E1B-97DF-3A21270A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D24-A871-4DE3-8693-BF6CE97A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B32B-AD0F-49CB-9BDA-4A129E14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50D2-CD9C-4803-A495-A94D6C39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0EA17-8173-43CF-8993-EECFD6D9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EFAA-1BAC-4177-AB80-0D2A7E82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E72AA-5BD4-4519-BE2F-A9AA824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BA426-F4A3-475D-B54C-9F163831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0D1C-30B2-4023-AB60-1AA12EBD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C02E-48EC-461F-BCC3-A6AACAFD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376B-6F24-4816-B7DE-0E343DEA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AD32B-661A-41EC-B2EE-DBCB27BF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5D9-7B80-4A51-B294-D0D26086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08AAC-4A11-4881-B835-7623909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0DEDF-7AFB-48D9-A0F4-C93AF0EF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3F3AC-1E55-4671-B863-DCEEE819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5C96A-B0DE-4CD2-94F4-58E58EB4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684DD-7900-4408-BF69-40610F8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760C1-7ED2-4E7E-AC96-0B0CC56C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1729B-B6CF-42F8-80FF-0FBEE776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E915C-ED5F-419C-85C2-45871837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CCB95-AD36-421D-97B5-1DA235D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344AD-3D12-48E7-A738-5A1D29BE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E36-2946-45FB-8E41-4275EB83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19501-3F6D-4537-8FE3-73CD218E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AFEB1-0C57-48F7-8AB2-5B02C141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7D4C5-DF2F-4E4B-B9A0-4AD66DE1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543E6-13FF-4884-A512-78B3F45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552CD-8A16-495D-B73E-7FB87669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FB62C-39E8-418C-B62D-A1E59412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94143-6B11-499E-8BBF-2BA69CB6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22B4E-5B47-49E8-B09D-566F22E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391E2-87DF-4FDB-8873-5013BB1E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7048B-3FBC-4FCB-A452-5C60F01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A31-4B49-4AC0-B87F-4B84B066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4ADED-6596-439C-BD05-EA1E68FD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6247C-307C-42C9-8EDB-93877B10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65B66-3F16-4C7E-AEA7-7304EAE2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9252C-A60B-4F8D-BBA3-90BD3EAD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6EDC7-2694-4BDD-8DFA-6DAEFE62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29472-DDB3-4C82-8B74-640F1C69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ACB89-E027-4F6F-8505-E1233666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3BBFC-2BD8-421A-ADC8-DA98A6D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39838-3120-482C-9668-DE2A247A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4D558-DA05-4CA7-B204-D690E72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E8C-3913-4DB4-BAEC-5334AFC3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36EDA-4996-446E-ACE2-B77F419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D56D3-37E3-4C2D-A8D4-8B6FAA1D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C7326-E42D-4F5B-BE8E-EEDD5FD3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8C0BE-7154-40D6-A6B7-7BA53EDD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CA29C-1BDF-4349-8736-28763460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D32-5D62-4B1F-8BE7-246C3C6C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5566-043E-4AAD-80D4-35194FD2D35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B959-F98A-4D4C-B12C-E14A13AE3E1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6AE-85BE-4585-873A-83524E4F575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37D-60D6-40FF-B981-4544592F782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9C76-62B9-48DA-A600-67EAFB87473C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1423-A5BC-477D-B476-8B34B734A2C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80F7-4B4D-468F-B2F0-4295585347F2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0AF4-09A0-4BE1-A628-7362429C282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D8A7-389F-474A-A359-4A5D7F23B91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A1C9-6CEB-44F6-8BEF-46A8A8EB774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8137-69EC-479D-8FC6-17996D2F8E91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EE66-9750-4159-94A0-DD065CC9186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4E1D-8BB6-4E16-8522-90C29C6208FF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5839-4546-4BCC-84D5-A00C68F8F88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scomprime los archivos y copia la carpeta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-scip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en el escritorio o en otro directorio a tu elecc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ntro de esta carpeta haz clic con el botón secundari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y elige la opción “Extraer Aquí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Repite el paso anterior co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0295-EBDA-464B-B4BE-6B511A6410C3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4CD-5F52-4F68-A8AA-9F7D5356A84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1285920" y="1257480"/>
            <a:ext cx="6715080" cy="53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2: GENERAR ARCHIVO .ZP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356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n WordPad, Block de Notas, o cualquier editor de texto simple, escribe el código correspondiente al problema a resolv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este ejemplo usaremos el código contenid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32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EA3B-81A3-42A8-903F-ADBFD2CD82D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500120" y="3400560"/>
            <a:ext cx="617076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3: COMPIL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11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9620-A3D7-4041-B684-CB3A5C7F51D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56760" y="135684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Abre la aplicación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, aparecerá una venta “tipo DOS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read 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8" descr=""/>
          <p:cNvPicPr/>
          <p:nvPr/>
        </p:nvPicPr>
        <p:blipFill>
          <a:blip r:embed="rId1"/>
          <a:stretch/>
        </p:blipFill>
        <p:spPr>
          <a:xfrm>
            <a:off x="728640" y="3214800"/>
            <a:ext cx="7558200" cy="2500200"/>
          </a:xfrm>
          <a:prstGeom prst="rect">
            <a:avLst/>
          </a:prstGeom>
          <a:ln w="0">
            <a:noFill/>
          </a:ln>
        </p:spPr>
      </p:pic>
      <p:sp>
        <p:nvSpPr>
          <p:cNvPr id="374" name="10 Rectángulo redondeado"/>
          <p:cNvSpPr/>
          <p:nvPr/>
        </p:nvSpPr>
        <p:spPr>
          <a:xfrm>
            <a:off x="1214280" y="4357800"/>
            <a:ext cx="17146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4 Marcador de contenido"/>
          <p:cNvSpPr/>
          <p:nvPr/>
        </p:nvSpPr>
        <p:spPr>
          <a:xfrm>
            <a:off x="357120" y="564372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compila el problema y muestra la cantidad de variables y restricciones que po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286400" cy="47307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optimize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3DBF-5AB4-43E9-8C2C-26D0A4A2EF9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5 Rectángulo redondeado"/>
          <p:cNvSpPr/>
          <p:nvPr/>
        </p:nvSpPr>
        <p:spPr>
          <a:xfrm>
            <a:off x="1500120" y="2071800"/>
            <a:ext cx="7858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7215120" cy="32864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ver el resultado 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display so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EE75-9467-414F-BBAA-EB3E5B083C9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 Rectángulo redondeado"/>
          <p:cNvSpPr/>
          <p:nvPr/>
        </p:nvSpPr>
        <p:spPr>
          <a:xfrm>
            <a:off x="1428840" y="3286080"/>
            <a:ext cx="1071360" cy="2142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2 Marcador de contenido"/>
          <p:cNvSpPr/>
          <p:nvPr/>
        </p:nvSpPr>
        <p:spPr>
          <a:xfrm>
            <a:off x="557280" y="542916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variables que no aparecen tienen valor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ÓDIG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357200"/>
            <a:ext cx="8329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l detalle del código lo veremos en clase auxilia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ientras tanto puedes consultar el manual “</a:t>
            </a:r>
            <a:r>
              <a:rPr b="0" lang="es-CL" sz="2800" spc="-1" strike="noStrike">
                <a:solidFill>
                  <a:srgbClr val="4f81bd"/>
                </a:solidFill>
                <a:latin typeface="Century Schoolbook"/>
              </a:rPr>
              <a:t>zimpl.pdf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adjunto con los archivos de la tare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DF73-8CB6-4353-BAF2-82C3933A82D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857240" y="2928960"/>
            <a:ext cx="5500800" cy="24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1" name="6 Rectángulo"/>
          <p:cNvSpPr/>
          <p:nvPr/>
        </p:nvSpPr>
        <p:spPr>
          <a:xfrm>
            <a:off x="500040" y="550080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¡Aprovecha el tiempo para modelar los problem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1:43Z</dcterms:created>
  <dc:creator>ndevia</dc:creator>
  <dc:description/>
  <dc:language>en-US</dc:language>
  <cp:lastModifiedBy>Nelson</cp:lastModifiedBy>
  <dcterms:modified xsi:type="dcterms:W3CDTF">2009-03-22T21:35:38Z</dcterms:modified>
  <cp:revision>56</cp:revision>
  <dc:subject/>
  <dc:title>Tutorial para el uso de las herramientas ZIMPL y SCIP</dc:title>
</cp:coreProperties>
</file>