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4E20-667C-49E3-BD70-0A69C284F2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38C-82C5-4EC7-8163-2459DB0A92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E3C-1C41-4F95-9500-713E542DC7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BC6-F487-4C1B-BE3A-E78E15FF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567-979C-4F9E-8E99-66ED6C8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352-6E25-4398-A09E-376C5E31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061-0F9E-4DF8-97A7-D243ABEA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D044-59DA-43C3-867C-327CCFC2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261-F631-40DD-A8B3-A93E649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4255-C008-4BD5-9241-458257B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383-1E8F-4914-8C92-0244C7F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7A82-B837-4C97-866F-A2FE979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1F10-90CE-4C82-AC13-22875BF6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3F4E-FFA9-4F6A-A236-4A8A1EC9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5D2-9350-4C3A-8F30-15C67BBB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5D06-4816-4273-A343-1D0840B7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E9F-8B48-49E3-BB1F-9F64012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D52-7F73-4DDA-8BDC-49C1791E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C068-7657-4A5B-869F-AB7C2FF9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C52-60CD-4DE0-A3AA-0433FF0B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75FD6-05D4-4FF5-B6A7-40B5678F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906BA-87B7-469B-8B2C-43D25F3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06089-052F-4F4B-BDA9-32FB290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A23C9-A0F7-4972-9E5B-E56C69A1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CC2CB-1DE9-4413-9F3E-D1E428F3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9AC-7A12-434B-B0A3-2EF093F5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A7946-8CBA-402E-8504-C9D2F4D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BADF2-FA92-440D-9C18-7365E91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C9DA6-F162-4BB2-ABB3-5A8B243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D17C9-9991-4FFC-B910-024C80D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345DD-88CD-4A2C-8612-23350200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A9444-06EF-4A0E-9E8F-02891D05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BB904-EE10-4546-82AA-CB7589E6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3192-3985-4E86-AE59-A3F983D9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E4C8-6127-4761-8FB7-5F64351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F9F6-E189-46BE-8A84-86321D8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3B7-06E7-4891-9683-6F8B0B02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0E13-4E73-4821-AFE1-2C06DB56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FFAD-3D09-4DD7-ADE9-204AE87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DC1B-62C5-4FB4-9A4D-1435167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BD96-34B4-4B04-8CAB-FF62168B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2A3F-3B80-478F-B098-A3C4F82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91F5-D83B-445E-A412-DE9216A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C4A7-325C-46E9-A799-D7EE04B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6AF6-CEBF-4E72-A0DF-AE4DCCD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E60B-4549-4764-90B9-829A6250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76CA9-8961-4138-AB0F-3842F1FF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1BD-E871-4C88-889D-660CF494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1A0AD-EABF-4E4D-BA66-F14AB7E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6DB2F-3286-4F29-BCAF-029A9D32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1E4C1-10FC-4DA6-B9A4-FAA11B7B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BF5E3-F21C-41ED-A871-D0D2D9CC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565E2-D8D9-41EB-8827-11E04848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51CAB-7962-479C-BE4A-6D0213C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539CC-08B4-419E-B860-4EA2F72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C2A49-58F0-4A92-8907-31ED03E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90A4E-2713-4490-9DBE-C286F618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DB0D4-B341-4565-BB86-9522BB48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19F-1654-4EF0-974E-B799DA4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7A28C-2794-48DF-9E28-2E07F64F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1A5E2-5011-40D3-ABF6-A1204BB2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7BCF8-60BC-47B8-B1A5-CC43344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9C212-3F35-4EA1-B56F-B8C1DF8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9FDB2-57CF-4734-9561-90DDB4F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435AA-8873-4028-8575-9FDCA41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CE47F-562A-42EE-A37C-E301A8B1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CC3E3-BBD4-4C00-BB87-589A033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26DE4-8F97-4EA2-9104-0C10BB7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8A73F-8F3C-4908-A3E8-9E85AE9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EDC-A052-47B3-8871-279D82A0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0CAC5-725F-41C6-8960-F5CCE670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B2B39-C61B-4483-9717-349B45C1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AB562-110E-4F08-8641-DAFF672B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AE6EB-E211-458E-850C-1583D1C6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AAD62-5BA6-4109-B93D-3AF8813D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68EA5-AF41-4E9D-B52A-8B4CE7F7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A4761-45C2-42B0-BF8C-D0DE954E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AA39F-7E79-492C-A259-D9402CC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370AD-6F26-4C72-86EE-A6653C9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7B1D0-3C59-4016-AF33-C6B8216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81E-9978-4D88-893A-6C9342D5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4F9D3-1D78-43FB-98C8-3305D935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46629-AFEB-47D5-8463-64A701F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B2525-EADC-42E7-826A-2A810A1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C2686-E804-462A-893C-7D12C078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6578C-8F68-4CF7-ACBF-884BD189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033-2226-4228-A6EE-B80C3DC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270-F930-4A86-A75C-5E0D59736DF8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EC94-5A2C-43D4-B9E4-697C0784D07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2E6-8EC4-4435-9ED0-78450CE3A5A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14C4-B2CD-46EA-A1CA-23EBC07879E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DEEA-9F79-4691-AD6B-234094263382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60F9-4814-4E3E-871F-6C7210C8C62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F01-7F1E-41D1-A8C2-D4EB22DE83BA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BE86-97B6-491C-847F-BB743714C22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BE8-51AE-4CD0-B01A-F6AC09B4A888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121-C0DB-4379-8920-6E91555AABA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F10-2EBB-45DD-BA6C-0208E621B82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63E-26DC-460D-8C88-969A81D3A73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92F-B7EB-47A0-8B34-952EE2CA1F5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8947-DAEE-4E3E-9DC6-ED045E0CCA3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scomprime los archivos y copia la carpeta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-scip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en el escritorio o en otro directorio a tu elec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ntro de esta carpeta haz clic con el botón secundari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y elige la opción “Extraer Aquí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pite el paso anterior co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C7C8-2169-412D-823A-FAA468C4290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3AE-05D6-4C94-BABA-2F4CE8823D9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285920" y="1257480"/>
            <a:ext cx="6715080" cy="53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2: GENERAR ARCHIVO .ZP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n WordPad, Block de Notas, o cualquier editor de texto simple, escribe el código correspondiente al problema a resolv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este ejemplo usaremos el código contenid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32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310B-AF50-49F8-BB8A-A75E8A6C2F7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500120" y="3400560"/>
            <a:ext cx="61707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3: COMPIL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1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3FB-AB78-4D73-899F-5CAE2D208F1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3568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Abre la aplicación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, aparecerá una venta “tipo DO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read 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728640" y="3214800"/>
            <a:ext cx="7558200" cy="2500200"/>
          </a:xfrm>
          <a:prstGeom prst="rect">
            <a:avLst/>
          </a:prstGeom>
          <a:ln w="0">
            <a:noFill/>
          </a:ln>
        </p:spPr>
      </p:pic>
      <p:sp>
        <p:nvSpPr>
          <p:cNvPr id="374" name="10 Rectángulo redondeado"/>
          <p:cNvSpPr/>
          <p:nvPr/>
        </p:nvSpPr>
        <p:spPr>
          <a:xfrm>
            <a:off x="1214280" y="4357800"/>
            <a:ext cx="17146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Marcador de contenido"/>
          <p:cNvSpPr/>
          <p:nvPr/>
        </p:nvSpPr>
        <p:spPr>
          <a:xfrm>
            <a:off x="357120" y="564372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compila el problema y muestra la cantidad de variables y restricciones que po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86400" cy="47307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optimize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309-42C6-415C-9580-28FC3C2B6DA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5 Rectángulo redondeado"/>
          <p:cNvSpPr/>
          <p:nvPr/>
        </p:nvSpPr>
        <p:spPr>
          <a:xfrm>
            <a:off x="1500120" y="2071800"/>
            <a:ext cx="7858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3286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ver el resultado 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display so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C534-B887-40C6-B7E2-F65CD8D59F3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 Rectángulo redondeado"/>
          <p:cNvSpPr/>
          <p:nvPr/>
        </p:nvSpPr>
        <p:spPr>
          <a:xfrm>
            <a:off x="1428840" y="3286080"/>
            <a:ext cx="1071360" cy="214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 Marcador de contenido"/>
          <p:cNvSpPr/>
          <p:nvPr/>
        </p:nvSpPr>
        <p:spPr>
          <a:xfrm>
            <a:off x="557280" y="5429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variables que no aparecen tienen valor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ÓDI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5720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l detalle del código lo veremos en clase auxilia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ientras tanto puedes consultar el manual “</a:t>
            </a:r>
            <a:r>
              <a:rPr b="0" lang="es-CL" sz="2800" spc="-1" strike="noStrike">
                <a:solidFill>
                  <a:srgbClr val="4f81bd"/>
                </a:solidFill>
                <a:latin typeface="Century Schoolbook"/>
              </a:rPr>
              <a:t>zimpl.pdf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adjunto con los archivos de la tar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6C4-6D22-4857-A33C-E23217BB70E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0080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1" name="6 Rectángulo"/>
          <p:cNvSpPr/>
          <p:nvPr/>
        </p:nvSpPr>
        <p:spPr>
          <a:xfrm>
            <a:off x="500040" y="5500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¡Aprovecha el tiempo para modelar los problem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1:43Z</dcterms:created>
  <dc:creator>ndevia</dc:creator>
  <dc:description/>
  <dc:language>en-US</dc:language>
  <cp:lastModifiedBy>Nelson</cp:lastModifiedBy>
  <dcterms:modified xsi:type="dcterms:W3CDTF">2009-03-22T21:35:38Z</dcterms:modified>
  <cp:revision>56</cp:revision>
  <dc:subject/>
  <dc:title>Tutorial para el uso de las herramientas ZIMPL y SCIP</dc:title>
</cp:coreProperties>
</file>