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306-04F6-47EC-9162-C66EAC43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FDC-083B-43C6-974A-D11CF226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CDF-BD3A-4AE8-B1A2-13EF6274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116-D47C-44A2-8E20-3122A4DC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B1A0-B5E0-4AB4-BF21-CE9707CD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AB33-028B-4812-83E6-8B866573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ABF4-1B69-400D-A381-DD0A60C8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4E9E-C9C5-4D72-A151-C130F631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5C4A-23B2-4623-A893-7E32DFFB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95CC-0544-47F6-A7F2-90474166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7CDE-9B65-4A21-A11A-6FCA3621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392-5EB4-4F88-A621-1BBEF87D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CF12-B98C-4443-B080-401BCFD4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1EA8-D790-446E-A6EB-BE01500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ED47-5C83-457F-99AC-49FE1093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255C-24E5-4548-817E-C8B82DBA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B6DA-F7D6-4B10-B67C-CD757CDB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A6F-B000-45D5-AD4D-AE179D31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392-EF8B-4FBD-A43A-BAF3AE8A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A70-A42C-481B-83D8-9A142160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287-3719-4ECA-B80D-CF328D3C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F50-9D59-41FB-BDA8-5EBCAB6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078-68BD-48B1-89DE-239C9617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2E2-9820-4890-9AF0-1051FC74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5EE4-E728-49A8-ADB7-BEB6DE54420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557A-AE7F-4D4D-B26A-80DEDB238DA8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cc"/>
                </a:solidFill>
                <a:latin typeface="Tahoma"/>
              </a:rPr>
              <a:t>MÓDULO 3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2390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TRODUCIRNOS EN EL AMBIENTE DE LA INGENIERÍA INDUS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539640" y="29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¿POR QUÉ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11280" y="4365720"/>
            <a:ext cx="8137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S NECESIDADES: CONOCER CÓMO TRABAJA UN I.C.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UESTAS -&gt; DESEOS PROP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556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CÓM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2036520"/>
            <a:ext cx="85406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mulando un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5092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CUÁLE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11280" y="45529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arma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060720" y="2349360"/>
            <a:ext cx="295272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3133800" y="242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4429080" y="2997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1981080" y="350208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198108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Line 11"/>
          <p:cNvSpPr/>
          <p:nvPr/>
        </p:nvSpPr>
        <p:spPr>
          <a:xfrm>
            <a:off x="442908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14"/>
          <p:cNvSpPr/>
          <p:nvPr/>
        </p:nvSpPr>
        <p:spPr>
          <a:xfrm>
            <a:off x="7021440" y="3502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82872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334980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5869080" y="4005360"/>
            <a:ext cx="2303280" cy="71892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90180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19"/>
          <p:cNvSpPr/>
          <p:nvPr/>
        </p:nvSpPr>
        <p:spPr>
          <a:xfrm>
            <a:off x="3421080" y="4149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20"/>
          <p:cNvSpPr/>
          <p:nvPr/>
        </p:nvSpPr>
        <p:spPr>
          <a:xfrm>
            <a:off x="5942160" y="4149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STRUC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2951280" y="2584440"/>
            <a:ext cx="2952720" cy="64764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024360" y="265572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MPR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5"/>
          <p:cNvSpPr/>
          <p:nvPr/>
        </p:nvSpPr>
        <p:spPr>
          <a:xfrm>
            <a:off x="4284720" y="321300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6"/>
          <p:cNvSpPr/>
          <p:nvPr/>
        </p:nvSpPr>
        <p:spPr>
          <a:xfrm>
            <a:off x="1079640" y="3736800"/>
            <a:ext cx="66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7"/>
          <p:cNvSpPr/>
          <p:nvPr/>
        </p:nvSpPr>
        <p:spPr>
          <a:xfrm>
            <a:off x="324000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8"/>
          <p:cNvSpPr/>
          <p:nvPr/>
        </p:nvSpPr>
        <p:spPr>
          <a:xfrm>
            <a:off x="561672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9"/>
          <p:cNvSpPr/>
          <p:nvPr/>
        </p:nvSpPr>
        <p:spPr>
          <a:xfrm>
            <a:off x="777564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179280" y="4240080"/>
            <a:ext cx="18716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1079640" y="37368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2195640" y="4240080"/>
            <a:ext cx="1981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4535640" y="4240080"/>
            <a:ext cx="1873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6840360" y="4240080"/>
            <a:ext cx="18734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 Box 21"/>
          <p:cNvSpPr/>
          <p:nvPr/>
        </p:nvSpPr>
        <p:spPr>
          <a:xfrm>
            <a:off x="287280" y="431316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 Box 22"/>
          <p:cNvSpPr/>
          <p:nvPr/>
        </p:nvSpPr>
        <p:spPr>
          <a:xfrm>
            <a:off x="2124000" y="4365720"/>
            <a:ext cx="21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OPER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Text Box 23"/>
          <p:cNvSpPr/>
          <p:nvPr/>
        </p:nvSpPr>
        <p:spPr>
          <a:xfrm>
            <a:off x="4535640" y="4456080"/>
            <a:ext cx="19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RRH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24"/>
          <p:cNvSpPr/>
          <p:nvPr/>
        </p:nvSpPr>
        <p:spPr>
          <a:xfrm>
            <a:off x="6840360" y="429264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ÁREA FINAN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AutoShape 30"/>
          <p:cNvSpPr/>
          <p:nvPr/>
        </p:nvSpPr>
        <p:spPr>
          <a:xfrm>
            <a:off x="6012000" y="1413000"/>
            <a:ext cx="2914560" cy="1655640"/>
          </a:xfrm>
          <a:prstGeom prst="cloudCallout">
            <a:avLst>
              <a:gd name="adj1" fmla="val -42375"/>
              <a:gd name="adj2" fmla="val 388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6372360" y="1844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Line 38"/>
          <p:cNvSpPr/>
          <p:nvPr/>
        </p:nvSpPr>
        <p:spPr>
          <a:xfrm flipH="1">
            <a:off x="1619280" y="3500280"/>
            <a:ext cx="266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39"/>
          <p:cNvSpPr/>
          <p:nvPr/>
        </p:nvSpPr>
        <p:spPr>
          <a:xfrm flipV="1">
            <a:off x="1619280" y="292428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40"/>
          <p:cNvSpPr/>
          <p:nvPr/>
        </p:nvSpPr>
        <p:spPr>
          <a:xfrm>
            <a:off x="179280" y="2421000"/>
            <a:ext cx="23767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RENTE GENER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DIRECTORIO (Miércole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059280" y="1773360"/>
            <a:ext cx="2663640" cy="792000"/>
          </a:xfrm>
          <a:prstGeom prst="rect">
            <a:avLst/>
          </a:prstGeom>
          <a:solidFill>
            <a:srgbClr val="6fa9b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Rectangle 10"/>
          <p:cNvSpPr/>
          <p:nvPr/>
        </p:nvSpPr>
        <p:spPr>
          <a:xfrm>
            <a:off x="539640" y="3284640"/>
            <a:ext cx="187164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1332000" y="4581360"/>
            <a:ext cx="1981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3780000" y="5157720"/>
            <a:ext cx="223200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6804000" y="4797360"/>
            <a:ext cx="187344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68360" y="328464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258920" y="4653000"/>
            <a:ext cx="21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OPER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924360" y="5229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RRH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6732720" y="486900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FINAN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23"/>
          <p:cNvSpPr/>
          <p:nvPr/>
        </p:nvSpPr>
        <p:spPr>
          <a:xfrm>
            <a:off x="6372360" y="2997360"/>
            <a:ext cx="2592360" cy="86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RENTE GENE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Text Box 24"/>
          <p:cNvSpPr/>
          <p:nvPr/>
        </p:nvSpPr>
        <p:spPr>
          <a:xfrm>
            <a:off x="3132000" y="18446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ESIDENTE DEL DIREC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Line 25"/>
          <p:cNvSpPr/>
          <p:nvPr/>
        </p:nvSpPr>
        <p:spPr>
          <a:xfrm flipV="1">
            <a:off x="3276720" y="4221000"/>
            <a:ext cx="5745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26"/>
          <p:cNvSpPr/>
          <p:nvPr/>
        </p:nvSpPr>
        <p:spPr>
          <a:xfrm flipH="1" flipV="1">
            <a:off x="4571640" y="4149720"/>
            <a:ext cx="14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Line 27"/>
          <p:cNvSpPr/>
          <p:nvPr/>
        </p:nvSpPr>
        <p:spPr>
          <a:xfrm flipH="1" flipV="1">
            <a:off x="6011640" y="4508280"/>
            <a:ext cx="93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28"/>
          <p:cNvSpPr/>
          <p:nvPr/>
        </p:nvSpPr>
        <p:spPr>
          <a:xfrm flipH="1">
            <a:off x="5435640" y="3429000"/>
            <a:ext cx="100800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29"/>
          <p:cNvSpPr/>
          <p:nvPr/>
        </p:nvSpPr>
        <p:spPr>
          <a:xfrm>
            <a:off x="2411280" y="3645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30"/>
          <p:cNvSpPr/>
          <p:nvPr/>
        </p:nvSpPr>
        <p:spPr>
          <a:xfrm>
            <a:off x="4356000" y="2565360"/>
            <a:ext cx="71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3419640" y="328464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CISIONES GENE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33"/>
          <p:cNvSpPr/>
          <p:nvPr/>
        </p:nvSpPr>
        <p:spPr>
          <a:xfrm>
            <a:off x="3203640" y="3213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34"/>
          <p:cNvSpPr/>
          <p:nvPr/>
        </p:nvSpPr>
        <p:spPr>
          <a:xfrm>
            <a:off x="3203640" y="321300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35"/>
          <p:cNvSpPr/>
          <p:nvPr/>
        </p:nvSpPr>
        <p:spPr>
          <a:xfrm>
            <a:off x="3203640" y="400536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36"/>
          <p:cNvSpPr/>
          <p:nvPr/>
        </p:nvSpPr>
        <p:spPr>
          <a:xfrm>
            <a:off x="5435640" y="3213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¿¿QUÉ PASARÁ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82200" y="1599840"/>
            <a:ext cx="679932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prendizaje de cómo trabajar en equ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bajo en equ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omas de deci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har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fíos periód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safío f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EVALUACIÓ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ifer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ien no trabaja, se refleja en la n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partición de puntos para cad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da directorio decide la repartición de puntos por á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área reparte los puntos por alum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ingún alumno con el mismo punt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4211640" y="630864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JAVIER PUMARINO – IGNACIO SAAVED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3:06:10Z</dcterms:created>
  <dc:creator>Javier Pumarino</dc:creator>
  <dc:description/>
  <dc:language>en-US</dc:language>
  <cp:lastModifiedBy>casa</cp:lastModifiedBy>
  <dcterms:modified xsi:type="dcterms:W3CDTF">2009-05-27T03:11:07Z</dcterms:modified>
  <cp:revision>3</cp:revision>
  <dc:subject/>
  <dc:title>MÓDULO 3</dc:title>
</cp:coreProperties>
</file>