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6C0-03F9-4D73-8642-E5CC7CEB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3CD-0FFE-4A0B-8BEE-D99A74E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0FB-8906-4D42-8409-919C8BBB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910-21A9-4C2E-83F5-235EE12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B4C4-FEE9-4EFA-A8D5-4067B584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BDDF-E9D9-4C6B-BBEF-C7419BA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953-CB31-4831-9BEF-057AD3D8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A024-A69A-4BA4-A938-2934E16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8B56-B2CC-4353-8C61-C692F76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F642-43D0-4F7F-986D-F865667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313A-783F-401A-A69A-E361A0E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DD0-94DD-451F-ABCE-9AEB567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510A-727A-4FF0-B6BA-338619B2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3F8-EF23-49FB-8B64-E68325CC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352-9516-4813-8E04-F7669F87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ED48-3231-40AB-BE83-22AF2409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661B-FD0B-4DA6-92A4-E561439B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DD0-208A-4044-8547-A073674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931-F0C6-497B-B04D-C0146E8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FB2-871E-4635-B6F4-452D044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D29-3D9E-412B-A36E-B95CA3B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BF8-77CE-4BEC-8A5C-466DBF9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C8C-846E-48C4-B6F9-C46C5A1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124-5B93-486D-AE77-8CB43E4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84F6-E777-4582-9A18-0E1C53E6DC2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3E3-D190-4338-9CFC-5300C99C54B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MÓDULO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39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RODUCIRNOS EN EL AMBIENTE DE LA INGENIERÍA INDUS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539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POR QUÉ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11280" y="4365720"/>
            <a:ext cx="8137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NECESIDADES: CONOCER CÓMO TRABAJA UN I.C.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UESTAS -&gt; DESEOS PRO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556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ÓM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036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mulando un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5092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UÁ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11280" y="4552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rm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060720" y="2349360"/>
            <a:ext cx="29527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13380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429080" y="2997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1981080" y="35020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4429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4"/>
          <p:cNvSpPr/>
          <p:nvPr/>
        </p:nvSpPr>
        <p:spPr>
          <a:xfrm>
            <a:off x="702144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82872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334980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86908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9018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42108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942160" y="4149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51280" y="2584440"/>
            <a:ext cx="2952720" cy="64764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24360" y="26557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4284720" y="3213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1079640" y="3736800"/>
            <a:ext cx="66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324000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561672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7775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79280" y="4240080"/>
            <a:ext cx="18716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1079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5640" y="424008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535640" y="4240080"/>
            <a:ext cx="187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6840360" y="424008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287280" y="431316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2124000" y="436572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4535640" y="44560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6840360" y="429264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30"/>
          <p:cNvSpPr/>
          <p:nvPr/>
        </p:nvSpPr>
        <p:spPr>
          <a:xfrm>
            <a:off x="6012000" y="1413000"/>
            <a:ext cx="2914560" cy="1655640"/>
          </a:xfrm>
          <a:prstGeom prst="cloudCallout">
            <a:avLst>
              <a:gd name="adj1" fmla="val -42375"/>
              <a:gd name="adj2" fmla="val 388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372360" y="184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38"/>
          <p:cNvSpPr/>
          <p:nvPr/>
        </p:nvSpPr>
        <p:spPr>
          <a:xfrm flipH="1">
            <a:off x="1619280" y="3500280"/>
            <a:ext cx="26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9"/>
          <p:cNvSpPr/>
          <p:nvPr/>
        </p:nvSpPr>
        <p:spPr>
          <a:xfrm flipV="1">
            <a:off x="1619280" y="29242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40"/>
          <p:cNvSpPr/>
          <p:nvPr/>
        </p:nvSpPr>
        <p:spPr>
          <a:xfrm>
            <a:off x="179280" y="2421000"/>
            <a:ext cx="2376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DIRECTORIO (Miércole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059280" y="1773360"/>
            <a:ext cx="2663640" cy="79200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539640" y="3284640"/>
            <a:ext cx="1871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332000" y="458136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780000" y="5157720"/>
            <a:ext cx="223200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804000" y="479736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328464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258920" y="465300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924360" y="5229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732720" y="48690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372360" y="2997360"/>
            <a:ext cx="2592360" cy="86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3132000" y="1844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DENTE DEL DIREC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V="1">
            <a:off x="3276720" y="4221000"/>
            <a:ext cx="5745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 flipH="1" flipV="1">
            <a:off x="4571640" y="4149720"/>
            <a:ext cx="14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 flipH="1" flipV="1">
            <a:off x="6011640" y="450828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5435640" y="3429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2411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>
            <a:off x="4356000" y="2565360"/>
            <a:ext cx="7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3419640" y="328464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ISIONES GENE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34"/>
          <p:cNvSpPr/>
          <p:nvPr/>
        </p:nvSpPr>
        <p:spPr>
          <a:xfrm>
            <a:off x="3203640" y="321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3203640" y="4005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36"/>
          <p:cNvSpPr/>
          <p:nvPr/>
        </p:nvSpPr>
        <p:spPr>
          <a:xfrm>
            <a:off x="5435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QUÉ PASARÁ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82200" y="1599840"/>
            <a:ext cx="67993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rendizaje de cómo trabajar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omas de dec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VALU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ien no trabaja, se refleja en la 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partición de puntos para cad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da directorio decide la repartición de puntos por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área reparte los puntos por alum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ingún alumno con el mismo punt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3:06:10Z</dcterms:created>
  <dc:creator>Javier Pumarino</dc:creator>
  <dc:description/>
  <dc:language>en-US</dc:language>
  <cp:lastModifiedBy>casa</cp:lastModifiedBy>
  <dcterms:modified xsi:type="dcterms:W3CDTF">2009-05-27T03:11:07Z</dcterms:modified>
  <cp:revision>3</cp:revision>
  <dc:subject/>
  <dc:title>MÓDULO 3</dc:title>
</cp:coreProperties>
</file>