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180-D6A8-44D8-AF54-99018287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9D3-2164-4AC5-BE2B-56BCF765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108-E608-47B4-8371-AC1934FC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86A-DCB1-495C-BD7B-8E36DEB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4CE3-7F9D-4C90-9E72-3C11FC3C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7C3A-5917-4A2D-88AB-8F6F869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0CB7-D985-4B07-A102-9ACB63B9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A83B-CE48-429A-BAA7-05E9ADA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6FED-C601-4466-AD95-D43F661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558-A4F4-4C8F-870B-7CCA506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7AA-A82C-4883-9FF9-FE983E5E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142-7977-4117-A2AD-F96881E6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7971-FEA8-4C4A-9246-1F99BF7E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0070-F254-4EF2-882C-301EBE1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0CF0-C178-4024-AF16-E8AA47D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81C-A9B5-4A80-9C03-CE7566E7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27DA-5B9B-4D1A-9017-08A73200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0A8-2ED6-45D1-90D8-E4DD9F07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EDE-4915-41D8-A500-42CDAFD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7C8-0820-4394-8B2F-855B8FB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CF8-7EEF-44B5-833A-6BA9B09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871-38E5-45AA-AB18-B94BB1F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1DD-6808-4FC4-9CD9-4C2B4C6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41F-C7FA-4AAF-A723-5379398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406-0740-4105-88C6-7037F20A05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C37-1DB7-4E90-99D7-31CE4EA3209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MÓDULO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39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RODUCIRNOS EN EL AMBIENTE DE LA INGENIERÍA INDUS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53964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POR QUÉ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11280" y="4365720"/>
            <a:ext cx="8137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NECESIDADES: CONOCER CÓMO TRABAJA UN I.C.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UESTAS -&gt; DESEOS PROP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556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ÓM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2036520"/>
            <a:ext cx="85406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mulando un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5092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UÁL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11280" y="45529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rm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060720" y="2349360"/>
            <a:ext cx="29527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13380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429080" y="2997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1981080" y="35020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981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4429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4"/>
          <p:cNvSpPr/>
          <p:nvPr/>
        </p:nvSpPr>
        <p:spPr>
          <a:xfrm>
            <a:off x="702144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82872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334980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586908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9018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342108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5942160" y="4149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951280" y="2584440"/>
            <a:ext cx="2952720" cy="64764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24360" y="26557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4284720" y="3213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1079640" y="3736800"/>
            <a:ext cx="66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324000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561672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7775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79280" y="4240080"/>
            <a:ext cx="18716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1079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2195640" y="424008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4535640" y="4240080"/>
            <a:ext cx="187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6840360" y="424008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287280" y="431316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2124000" y="436572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4535640" y="44560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6840360" y="429264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30"/>
          <p:cNvSpPr/>
          <p:nvPr/>
        </p:nvSpPr>
        <p:spPr>
          <a:xfrm>
            <a:off x="6012000" y="1413000"/>
            <a:ext cx="2914560" cy="1655640"/>
          </a:xfrm>
          <a:prstGeom prst="cloudCallout">
            <a:avLst>
              <a:gd name="adj1" fmla="val -42375"/>
              <a:gd name="adj2" fmla="val 388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6372360" y="184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38"/>
          <p:cNvSpPr/>
          <p:nvPr/>
        </p:nvSpPr>
        <p:spPr>
          <a:xfrm flipH="1">
            <a:off x="1619280" y="3500280"/>
            <a:ext cx="26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9"/>
          <p:cNvSpPr/>
          <p:nvPr/>
        </p:nvSpPr>
        <p:spPr>
          <a:xfrm flipV="1">
            <a:off x="1619280" y="29242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40"/>
          <p:cNvSpPr/>
          <p:nvPr/>
        </p:nvSpPr>
        <p:spPr>
          <a:xfrm>
            <a:off x="179280" y="2421000"/>
            <a:ext cx="2376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DIRECTORIO (Miércole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059280" y="1773360"/>
            <a:ext cx="2663640" cy="79200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539640" y="3284640"/>
            <a:ext cx="1871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332000" y="458136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3780000" y="5157720"/>
            <a:ext cx="223200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6804000" y="479736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68360" y="328464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258920" y="465300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924360" y="5229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6732720" y="486900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6372360" y="2997360"/>
            <a:ext cx="2592360" cy="86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3132000" y="1844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DENTE DEL DIREC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25"/>
          <p:cNvSpPr/>
          <p:nvPr/>
        </p:nvSpPr>
        <p:spPr>
          <a:xfrm flipV="1">
            <a:off x="3276720" y="4221000"/>
            <a:ext cx="5745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26"/>
          <p:cNvSpPr/>
          <p:nvPr/>
        </p:nvSpPr>
        <p:spPr>
          <a:xfrm flipH="1" flipV="1">
            <a:off x="4571640" y="4149720"/>
            <a:ext cx="14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27"/>
          <p:cNvSpPr/>
          <p:nvPr/>
        </p:nvSpPr>
        <p:spPr>
          <a:xfrm flipH="1" flipV="1">
            <a:off x="6011640" y="4508280"/>
            <a:ext cx="93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5435640" y="3429000"/>
            <a:ext cx="100800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2411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30"/>
          <p:cNvSpPr/>
          <p:nvPr/>
        </p:nvSpPr>
        <p:spPr>
          <a:xfrm>
            <a:off x="4356000" y="2565360"/>
            <a:ext cx="7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3419640" y="328464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ISIONES GENE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3"/>
          <p:cNvSpPr/>
          <p:nvPr/>
        </p:nvSpPr>
        <p:spPr>
          <a:xfrm>
            <a:off x="3203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34"/>
          <p:cNvSpPr/>
          <p:nvPr/>
        </p:nvSpPr>
        <p:spPr>
          <a:xfrm>
            <a:off x="3203640" y="321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35"/>
          <p:cNvSpPr/>
          <p:nvPr/>
        </p:nvSpPr>
        <p:spPr>
          <a:xfrm>
            <a:off x="3203640" y="4005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36"/>
          <p:cNvSpPr/>
          <p:nvPr/>
        </p:nvSpPr>
        <p:spPr>
          <a:xfrm>
            <a:off x="5435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QUÉ PASARÁ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82200" y="1599840"/>
            <a:ext cx="67993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rendizaje de cómo trabajar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omas de deci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h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VALU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er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ien no trabaja, se refleja en la 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partición de puntos para cad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da directorio decide la repartición de puntos por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área reparte los puntos por alum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ingún alumno con el mismo punt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3:06:10Z</dcterms:created>
  <dc:creator>Javier Pumarino</dc:creator>
  <dc:description/>
  <dc:language>en-US</dc:language>
  <cp:lastModifiedBy>casa</cp:lastModifiedBy>
  <dcterms:modified xsi:type="dcterms:W3CDTF">2009-05-27T03:11:07Z</dcterms:modified>
  <cp:revision>3</cp:revision>
  <dc:subject/>
  <dc:title>MÓDULO 3</dc:title>
</cp:coreProperties>
</file>