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C5EB-DDB7-475A-A670-B7709E8721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D840-1A76-4EA2-A426-00DB3113056C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B301-3494-4DFC-B44A-B7F5D8D82E19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99AD-9A61-4B81-900B-29E1F6CC92C9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9502-DFAE-4407-95C0-0BBC35EBA77B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9984-8D4C-410D-8DDB-0F6B5B38E580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168-C354-4E33-9E95-77FC0050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D84-D36B-4F59-BF0F-489A72E7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59F-D4B2-43D0-BA87-9D9CF97F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AF1-A10F-410C-9437-E11E7267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742-DF53-4785-B3E6-B3752A45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3D4-7D78-47F3-9939-5D453809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528-F28C-4672-BEAD-08DA46B8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8EF-035A-422F-AE7C-DFD57A8C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D58-4716-4C56-82A7-F3713B50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B41-B35D-4D06-9A41-FC1C1632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6E1-4C92-47AA-84D4-01D82240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B1E-0614-47BA-A7A2-51A641B9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31B7-57D4-4CF9-BB37-FA3DA3F8FE46}" type="slidenum">
              <a:rPr b="0" lang="es-C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b5481"/>
                </a:solidFill>
                <a:latin typeface="Bookman Old Style"/>
              </a:rPr>
              <a:t>Trabajo y Equidad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Alejandra Mizal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Centro de Economía Aplicad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Ingeniería Industria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Universidad de Chil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Visión</a:t>
            </a: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 </a:t>
            </a: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que conduce las propuestas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i hay inequidad el Estado debe implementar el principio de igualdad de oportunidad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gualdad de oportunidades no sólo tarea del Estado, debe ser complementada con responsabilidad a nivel individu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Existencia de derechos requiere como contraparte aumento de responsabilidad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ersonas en situación de pobreza poseen derechos básicos, pero también tienen responsabilidad en la superación de la pobrez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La mejor política social es que cada persona tenga un empleo digno que le proporcione un ingreso adecuad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En suma, abandona el asistencialismo y la dependencia y potencia la autoestima y auto-susten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b5481"/>
                </a:solidFill>
                <a:latin typeface="Bookman Old Style"/>
              </a:rPr>
              <a:t>Algunas Propuestas del Consejo: avances y tareas pendiente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3366"/>
                </a:solidFill>
                <a:latin typeface="Bookman Old Style"/>
              </a:rPr>
              <a:t>1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.   Familias de Bajos Ingresos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Empleabilidad e Ingresos de personas en situación de pobreza y vulnerabilida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obreza Dura y Daño Soci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Metas, Umbrales e Institucionalidad Soci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2.   Trabajadoras y Trabajadores: Empleabilidad y Desemple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apacitación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Seguro de Cesantí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termediación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Mujeres y Mercado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omisión de Salario Mínim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5075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b5481"/>
                </a:solidFill>
                <a:latin typeface="Bookman Old Style"/>
              </a:rPr>
              <a:t>Políticas para Quintil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Propuest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Foco: 20% más pobr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Combina 2 mecanismos: Subsidio Ingreso Laboral y 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   Transferencias Monetaria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Instrumentalización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vel subsidio: 30% para w =&lt; 7,5 UF/mes. Luego tasa decrece gradualmente hasta 0 para w = 15 UF/me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Tasa 30%: 20% trabajadores y 10% empresa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Transf Mon. asociada a los hijos (15 años) 0,5 UF/niño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Distrib. recursos representaría c/u aprox. 50% tota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Condicionalidad Transferencia Monetari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ños tienen que ir al colegio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ños tienen que ir a los consultorio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Personas en edad de trabajar tienen que estar capacitándose o estar buscando trabajo activament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Medida de política más importante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Impacto en recursos, impacto en nº de personas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Asistencialismo mantiene gente sobreviviendo en la misma situación. Aquí se le abre otra opción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iple objetivo: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) Aumentar ingreso de personas en situación de   pobreza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i) Incentivo a formalizarse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ii) Incentivo a ingresar al Mercado Laboral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ansferencias con condicionali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ansitorie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Graduali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Equipo técnico que acompañe al programa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Propuesta pro-empleo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Ambos instrumentos tienen sesgo pro-empleo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74680"/>
            <a:ext cx="8686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b5481"/>
                </a:solidFill>
                <a:latin typeface="Bookman Old Style"/>
              </a:rPr>
              <a:t>Políticas para Quintil Menor Ingreso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Bookman Old Style"/>
              </a:rPr>
              <a:t>Subsidio al empleo juvenil</a:t>
            </a:r>
            <a:br>
              <a:rPr sz="4400"/>
            </a:br>
            <a:r>
              <a:rPr b="0" lang="en-US" sz="3200" spc="-1" strike="noStrike">
                <a:solidFill>
                  <a:srgbClr val="2b5481"/>
                </a:solidFill>
                <a:latin typeface="Bookman Old Style"/>
              </a:rPr>
              <a:t> a partir 1° julio 2009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¿Quiénes se benefician con este subsidio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Los trabajadores dependientes que se rigen por el Código del Trabajo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Los trabajadores independientes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Sus respectivos empleadores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30% del W bruto mensual si W&lt; $200 mil, un calculo menor entre $200 y $360 mil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2/3 trabajador, 1/3 empleador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854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¿Qué requisitos debe cumplir el empleador para recibir este subsidio de fomento al empleo juvenil?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er o contratar trabajadores que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gan entre 18 y 24 años de edad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ertenezcan al 40% más pobre de la población, de acuerdo a la Ficha de Protección Social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gan un W bruto mensual &lt; $360.000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empleador estar al día pago de cotizaciones de seguridad social del trabajador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dependientes deben pagar impuesto a la renta de segunda categoría, y estar al día en el pago de sus cotizaciones obligatorias de pensiones y salu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omentario: hay espacio para ampliar el subsidio a un mayor N° de trabajadores (mujeres jefas de hogar?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Políticas para protección frente a desempleo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ndemnizaciones por despido (IAS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rogramas de empleo de emergenci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eguro de cesantía (SC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Riesgos a cubri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erder el empleo de manera involuntari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Desempleo de larga duración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Beneficio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netari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Ayuda búsqueda nuevo empleo:                         intermediación y capaci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b5481"/>
                </a:solidFill>
                <a:latin typeface="Bookman Old Style"/>
              </a:rPr>
              <a:t>Seguro de Cesantía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b5481"/>
                </a:solidFill>
                <a:latin typeface="Bookman Old Style"/>
              </a:rPr>
              <a:t>Sistema Actu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AS: Protección Limitad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Bajo % Trabajadores accede a las IAS (6%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ontrato Plazo Indefinido: 65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Dura más de 1 año: 45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ausal de despido (necesidades de la empresa): 20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Otros efectos de las IAS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vilidad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recimiento de salari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reación de puestos de trabaj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dalidad de contra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Judicialización e incertidumbre del proceso y pag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Seguro de cesantía: si el contrato es indefinido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Cuenta individual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Cotizaciones empleador y trabajador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Acceso a todo evento: 12 meses cont. o discontinu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Fondo Solidario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Cotizaciones del empleador (0.8%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12 m</a:t>
            </a: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eses continuos de cotizaciones y c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co pagos máximo si es despedido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Acceso limitado: sólo motivos similares a IA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ólo un 3% del total de benefici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4996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Bookman Old Style"/>
              </a:rPr>
              <a:t>Propuesta del Consejo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Potenciar la cuenta individual y reducir el peso de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las IA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Mayores cotizaciones patronales (de 1.6%  a 3%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Eximir a los trabajadores de cotizar (hoy 0.6%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Retiro a todo event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Menores IAS (medio mes, tope11 años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b5481"/>
                </a:solidFill>
                <a:latin typeface="Bookman Old Style"/>
              </a:rPr>
              <a:t>Indice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ntecedentes desigualdad en Chil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Visión detrás de las propuestas del Consej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lgunas propuestas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Familias de bajos ingreso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Seguro de cesantía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vances y tareas pendient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56760" y="428760"/>
            <a:ext cx="857268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Bookman Old Style"/>
              </a:rPr>
              <a:t>Efectos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Eleva costos laboral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Pero protege al 100% de los trabajadores y eleva los pagos que recibe la mayoría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Facilita la movilidad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Reduce incertidumbre y costos judiciale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Bookman Old Style"/>
              </a:rPr>
              <a:t>Cambios al Seguro de Cesantía</a:t>
            </a:r>
            <a:br>
              <a:rPr sz="3200"/>
            </a:br>
            <a:r>
              <a:rPr b="0" lang="en-US" sz="2400" spc="-1" strike="noStrike">
                <a:solidFill>
                  <a:srgbClr val="2b5481"/>
                </a:solidFill>
                <a:latin typeface="Bookman Old Style"/>
              </a:rPr>
              <a:t>a partir de mayo 2009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Facilita acceso al Fondo de Cesantía Solidario, en promedio, sólo 2.4% de los beneficiarios accedía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ermite el acceso a este fondo a los trabajadores con contrato a plazo fijo, obra o faen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Amplía número de meses de beneficio del Fondo de Cesantía Solidario en aquellos períodos en que sea más difícil encontrar empleo (5 a 7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Financia programas de reinserción laboral de los trabajadores que reciben prestaciones de baja empleabilidad con cargo al Fondo de Cesantí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Bookman Old Style"/>
              </a:rPr>
              <a:t>Desafíos pendientes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al sistema de capacitació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Aumento cobertura seguro cesantía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IA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institucionalidad labor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Comisión salario mínim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Negociación colectiva y adaptabilidad labor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Diálogo soci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b5481"/>
                </a:solidFill>
                <a:latin typeface="Bookman Old Style"/>
              </a:rPr>
              <a:t>Niveles de Desigualdad en Chile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2" name="Picture 4" descr="graf banco mundial colores"/>
          <p:cNvPicPr/>
          <p:nvPr/>
        </p:nvPicPr>
        <p:blipFill>
          <a:blip r:embed="rId1"/>
          <a:stretch/>
        </p:blipFill>
        <p:spPr>
          <a:xfrm>
            <a:off x="611280" y="2652840"/>
            <a:ext cx="8208720" cy="380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Text Box 7"/>
          <p:cNvSpPr/>
          <p:nvPr/>
        </p:nvSpPr>
        <p:spPr>
          <a:xfrm>
            <a:off x="2195640" y="17208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Bookman Old Style"/>
              </a:rPr>
              <a:t>Ranking mundial de desigualdad (año 2000)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Tahoma"/>
              </a:rPr>
              <a:t>Los niveles de desigualdad varían poco a través del tiemp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6840" y="2901960"/>
            <a:ext cx="895032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50920" y="20811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Índices de desigualdad de acuerdo al Ingreso Autónomo 1990-2006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man Old Style"/>
              </a:rPr>
              <a:t>Tasa de desempleo es más alta en los deciles de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250920" y="2133720"/>
          <a:ext cx="864216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86421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7"/>
          <p:cNvSpPr/>
          <p:nvPr/>
        </p:nvSpPr>
        <p:spPr>
          <a:xfrm>
            <a:off x="950760" y="6021360"/>
            <a:ext cx="13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ahoma"/>
              </a:rPr>
              <a:t>Casen 2006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 Antiqua"/>
              </a:rPr>
              <a:t>Tasa de empleo es baja en los deciles de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man Old Style"/>
              </a:rPr>
              <a:t>Desempleo juvenil es mayor en quintil de menores ingresos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5280" y="1990800"/>
            <a:ext cx="8064360" cy="3882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712440" y="579924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Tahoma"/>
              </a:rPr>
              <a:t>Casen 2006</a:t>
            </a:r>
            <a:endParaRPr b="0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Los ingresos del trabajo aumentan significativamente a partir de 12 años de educación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50920" y="1773360"/>
          <a:ext cx="85690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569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6"/>
          <p:cNvSpPr/>
          <p:nvPr/>
        </p:nvSpPr>
        <p:spPr>
          <a:xfrm>
            <a:off x="900000" y="630864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985680" y="6400800"/>
            <a:ext cx="14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ahoma"/>
              </a:rPr>
              <a:t>Fuente: Mideplan</a:t>
            </a: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Algunas Consideraciones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El mercado es un mecanismo muy eficiente para la asignación de recursos y la generación de empleo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El mercado no resuelve el problema distributivo; tiende a preservar la distribución inicial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La política social cumple el rol redistributivo de reducir la desigualdad de ingresos existente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6:10:02Z</dcterms:created>
  <dc:creator>HP_Propietario</dc:creator>
  <dc:description/>
  <dc:language>en-US</dc:language>
  <cp:lastModifiedBy>Carolina Mendez</cp:lastModifiedBy>
  <dcterms:modified xsi:type="dcterms:W3CDTF">2009-06-14T21:43:30Z</dcterms:modified>
  <cp:revision>47</cp:revision>
  <dc:subject/>
  <dc:title>Políticas para Quintil de Menor Ingreso</dc:title>
</cp:coreProperties>
</file>