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C6F-478D-423C-97BC-806A064B01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B224-C984-493D-984B-611953C19F30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1362-9369-486E-B6FC-CD62FD8D36AD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D867-B5EC-4554-AD19-9A49C8924034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B7A8-ACDB-46B7-9798-67C8D265E87A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7A6A-7E49-4CF1-888F-7CFAFC26ED12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26D-1631-428B-A507-A7BD8511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EC1-05D9-4B2E-9777-0AD6F4DA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7AE-1622-45F2-8DFB-26C7811C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D3A-3EA4-467C-A5B8-6EA51ED2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FAD-A103-41AE-A65B-11B07EA7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4FA-6E94-4017-A599-8946E64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7BF-5C92-4F09-8946-4BE5419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AFB-C5E9-4FC1-8162-9AC36075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07F-1E3F-49AA-ACCE-81B013F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C6C-CF12-4B01-AF67-95E54AD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5D7-9CB1-41BB-84AE-EE1F339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46F-78B8-4788-9B59-46726CC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551A-E6BC-4810-B457-A82215E6FB72}" type="slidenum">
              <a:rPr b="0" lang="es-C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Trabajo y Equidad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Alejandra Mizal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Centro de Economía Aplicad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Ingeniería Industri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Universidad de Chi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Visión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 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que conduce las propuesta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i hay inequidad el Estado debe implementar el principio de igualdad de oportun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gualdad de oportunidades no sólo tarea del Estado, debe ser complementada con responsabilidad a nivel individu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xistencia de derechos requiere como contraparte aumento de responsabil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sonas en situación de pobreza poseen derechos básicos, pero también tienen responsabilidad en la superación de la pobrez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La mejor política social es que cada persona tenga un empleo digno que le proporcione un ingreso adecuad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n suma, abandona el asistencialismo y la dependencia y potencia la autoestima y auto-susten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b5481"/>
                </a:solidFill>
                <a:latin typeface="Bookman Old Style"/>
              </a:rPr>
              <a:t>Algunas Propuestas del Consejo: avances y tareas pendient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1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.   Familias de Bajos Ingresos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bilidad e Ingresos de personas en situación de pobreza y vulnerabilida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obreza Dura y Daño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etas, Umbrales e Institucionalidad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2.   Trabajadoras y Trabajadores: Empleabilidad y Desemple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apacit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termedi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ujeres y Mercado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isión de Salario Mínim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075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ropue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Foco: 20% más pobr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mbina 2 mecanismos: Subsidio Ingreso Laboral y 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   Transferencias Monetari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Instrumentalizació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vel subsidio: 30% para w =&lt; 7,5 UF/mes. Luego tasa decrece gradualmente hasta 0 para w = 15 UF/m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asa 30%: 20% trabajadores y 10% empres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ransf Mon. asociada a los hijos (15 años) 0,5 UF/niñ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Distrib. recursos representaría c/u aprox. 50% tota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ndicionalidad Transferencia Monetari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l colegi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 los consultorio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ersonas en edad de trabajar tienen que estar capacitándose o estar buscando trabajo activam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Medida de política más important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Impacto en recursos, impacto en nº de personas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sistencialismo mantiene gente sobreviviendo en la misma situación. Aquí se le abre otra opció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iple objetivo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) Aumentar ingreso de personas en situación de   pobreza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) Incentivo a formalizarse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i) Incentivo a ingresar al Mercado Labor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ferencias con condicion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itorie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Gradu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Equipo técnico que acompañe al programa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Propuesta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mbos instrumentos tienen sesgo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74680"/>
            <a:ext cx="868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Subsidio al empleo juvenil</a:t>
            </a:r>
            <a:br>
              <a:rPr sz="4400"/>
            </a:br>
            <a:r>
              <a:rPr b="0" lang="en-US" sz="3200" spc="-1" strike="noStrike">
                <a:solidFill>
                  <a:srgbClr val="2b5481"/>
                </a:solidFill>
                <a:latin typeface="Bookman Old Style"/>
              </a:rPr>
              <a:t> a partir 1° julio 2009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¿Quiénes se benefician con este subsidio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dependientes que se rigen por el Código del Trabajo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independientes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us respectivos empleador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30% del W bruto mensual si W&lt; $200 mil, un calculo menor entre $200 y $360 mi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2/3 trabajador, 1/3 empleado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¿Qué requisitos debe cumplir el empleador para recibir este subsidio de fomento al empleo juvenil?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er o contratar trabajadores qu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entre 18 y 24 años de eda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tenezcan al 40% más pobre de la población, de acuerdo a la Ficha de Protección Soci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un W bruto mensual &lt; $360.000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dor estar al día pago de cotizaciones de seguridad social del trabajado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dependientes deben pagar impuesto a la renta de segunda categoría, y estar al día en el pago de sus cotizaciones obligatorias de pensiones y salu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entario: hay espacio para ampliar el subsidio a un mayor N° de trabajadores (mujeres jefas de hogar?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Políticas para protección frente a desempleo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ndemnizaciones por despido (IA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rogramas de empleo de emergenc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eguro de cesantía (SC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Riesgos a cubri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der el empleo de manera involuntar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esempleo de larga duració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Beneficio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net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yuda búsqueda nuevo empleo:                         intermediación y capaci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b5481"/>
                </a:solidFill>
                <a:latin typeface="Bookman Old Style"/>
              </a:rPr>
              <a:t>Seguro de Cesantía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Bookman Old Style"/>
              </a:rPr>
              <a:t>Sistema Actu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AS: Protección Limitad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Bajo % Trabajadores accede a las IAS (6%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ontrato Plazo Indefinido: 6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ura más de 1 año: 4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ausal de despido (necesidades de la empresa): 20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Otros efectos de las IA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vilidad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cimiento de sal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ación de puestos de trabaj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dalidad de contra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Judicialización e incertidumbre del proceso y pag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eguro de cesantía: si el contrato es indefinid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Cuenta individual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empleador y trabajado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Acceso a todo evento: 12 meses cont. o discontinu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ndo Solidari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del empleador (0.8%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12 m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eses continuos de cotizaciones y c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co pagos máximo si es despedido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cceso limitado: sólo motivos similares a IA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ólo un 3% del total de benefici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Propuesta del Consejo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otenciar la cuenta individual y reducir el peso de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las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yores cotizaciones patronales (de 1.6%  a 3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ximir a los trabajadores de cotizar (hoy 0.6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Retiro a todo event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Menores IAS (medio mes, tope11 años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Indic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ntecedentes desigualdad en Chi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Visión detrás de las propuestas del Consej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lgunas propuesta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Familias de bajos ingreso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vances y tareas pendient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6760" y="428760"/>
            <a:ext cx="85726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Efecto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leva costos laboral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ero protege al 100% de los trabajadores y eleva los pagos que recibe la mayoría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acilita la movilida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Reduce incertidumbre y costos judicial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Bookman Old Style"/>
              </a:rPr>
              <a:t>Cambios al Seguro de Cesantía</a:t>
            </a:r>
            <a:br>
              <a:rPr sz="3200"/>
            </a:br>
            <a:r>
              <a:rPr b="0" lang="en-US" sz="2400" spc="-1" strike="noStrike">
                <a:solidFill>
                  <a:srgbClr val="2b5481"/>
                </a:solidFill>
                <a:latin typeface="Bookman Old Style"/>
              </a:rPr>
              <a:t>a partir de mayo 2009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acilita acceso al Fondo de Cesantía Solidario, en promedio, sólo 2.4% de los beneficiarios accedí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mite el acceso a este fondo a los trabajadores con contrato a plazo fijo, obra o faen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Amplía número de meses de beneficio del Fondo de Cesantía Solidario en aquellos períodos en que sea más difícil encontrar empleo (5 a 7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inancia programas de reinserción laboral de los trabajadores que reciben prestaciones de baja empleabilidad con cargo al Fond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Desafíos pendientes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al sistema de capacitació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Aumento cobertura seguro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nstituciona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Comisión salario mínim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Negociación colectiva y adaptabi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Diálogo soci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b5481"/>
                </a:solidFill>
                <a:latin typeface="Bookman Old Style"/>
              </a:rPr>
              <a:t>Niveles de Desigualdad en Chile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2" name="Picture 4" descr="graf banco mundial colores"/>
          <p:cNvPicPr/>
          <p:nvPr/>
        </p:nvPicPr>
        <p:blipFill>
          <a:blip r:embed="rId1"/>
          <a:stretch/>
        </p:blipFill>
        <p:spPr>
          <a:xfrm>
            <a:off x="611280" y="2652840"/>
            <a:ext cx="8208720" cy="38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95640" y="1720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Bookman Old Style"/>
              </a:rPr>
              <a:t>Ranking mundial de desigualdad (año 2000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Tahoma"/>
              </a:rPr>
              <a:t>Los niveles de desigualdad varían poco a través del tiemp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6840" y="2901960"/>
            <a:ext cx="89503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20811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Índices de desigualdad de acuerdo al Ingreso Autónomo 1990-2006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Tasa de desempleo es más alt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133720"/>
          <a:ext cx="8642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642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950760" y="6021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 Antiqua"/>
              </a:rPr>
              <a:t>Tasa de empleo es baj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Desempleo juvenil es mayor en quintil de menores ingresos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990800"/>
            <a:ext cx="8064360" cy="388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12440" y="57992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Los ingresos del trabajo aumentan significativamente a partir de 12 años de educació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50920" y="1773360"/>
          <a:ext cx="856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900000" y="6308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85680" y="64008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ahoma"/>
              </a:rPr>
              <a:t>Fuente: Mideplan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Algunas Consideracione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es un mecanismo muy eficiente para la asignación de recursos y la generación de empleo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no resuelve el problema distributivo; tiende a preservar la distribución inicia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La política social cumple el rol redistributivo de reducir la desigualdad de ingresos existent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10:02Z</dcterms:created>
  <dc:creator>HP_Propietario</dc:creator>
  <dc:description/>
  <dc:language>en-US</dc:language>
  <cp:lastModifiedBy>Carolina Mendez</cp:lastModifiedBy>
  <dcterms:modified xsi:type="dcterms:W3CDTF">2009-06-14T21:43:30Z</dcterms:modified>
  <cp:revision>47</cp:revision>
  <dc:subject/>
  <dc:title>Políticas para Quintil de Menor Ingreso</dc:title>
</cp:coreProperties>
</file>