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8CA2-000E-409E-831A-9B2B39F9AAA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C0EF-211F-4EDB-854C-08C761BF7352}" type="slidenum">
              <a:rPr b="0" lang="es-E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6BF8-1B5A-4FE3-B66B-23FEB53198E1}" type="slidenum">
              <a:rPr b="0" lang="es-E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FAE7-310D-4BA1-8B3B-147B2A9C927D}" type="slidenum">
              <a:rPr b="0" lang="es-E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9BC6-DEB0-41BF-B7A1-D3B9F4AEE9DE}" type="slidenum">
              <a:rPr b="0" lang="es-E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6353-651A-42AC-9258-DA8C9A3390D4}" type="slidenum">
              <a:rPr b="0" lang="es-E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6119-3BF2-4F9E-95E0-7DF4AAB41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E00D-5FEC-48DB-A8ED-F75827FE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ABD5-2F60-4CD1-B68E-139741B47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9C24-3042-468C-930A-BDF5C8258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FD0C-573D-42B0-9B04-7A15A150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BF06-2E67-445F-A59A-4BC82A26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FA20-3E4B-4096-AD4C-4CA191F1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64EE-1DB1-485C-94EB-83E8ABED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9D5E-18C9-4C4C-AC3A-EF4D7463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30AD-06F0-4D33-9F38-707A113A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11FE-57E0-47BE-B91E-B3636C1E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2022-5715-4232-B9DF-2F08E80D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4F4B-9DC4-429B-BA54-E73441DCA3B0}" type="slidenum">
              <a:rPr b="0" lang="es-C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2b5481"/>
                </a:solidFill>
                <a:latin typeface="Bookman Old Style"/>
              </a:rPr>
              <a:t>Trabajo y Equidad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b5481"/>
                </a:solidFill>
                <a:latin typeface="Bookman Old Style"/>
              </a:rPr>
              <a:t>Alejandra Mizala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b5481"/>
                </a:solidFill>
                <a:latin typeface="Bookman Old Style"/>
              </a:rPr>
              <a:t>Centro de Economía Aplicada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b5481"/>
                </a:solidFill>
                <a:latin typeface="Bookman Old Style"/>
              </a:rPr>
              <a:t>Ingeniería Industrial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b5481"/>
                </a:solidFill>
                <a:latin typeface="Bookman Old Style"/>
              </a:rPr>
              <a:t>Universidad de Chile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b5481"/>
                </a:solidFill>
                <a:latin typeface="Bookman Old Style"/>
              </a:rPr>
              <a:t>Visión</a:t>
            </a:r>
            <a:r>
              <a:rPr b="0" lang="es-CL" sz="4000" spc="-1" strike="noStrike">
                <a:solidFill>
                  <a:srgbClr val="2b5481"/>
                </a:solidFill>
                <a:latin typeface="Bookman Old Style"/>
              </a:rPr>
              <a:t> </a:t>
            </a:r>
            <a:r>
              <a:rPr b="0" lang="es-CL" sz="4000" spc="-1" strike="noStrike">
                <a:solidFill>
                  <a:srgbClr val="2b5481"/>
                </a:solidFill>
                <a:latin typeface="Bookman Old Style"/>
              </a:rPr>
              <a:t>que conduce las propuestas</a:t>
            </a:r>
            <a:endParaRPr b="0" lang="en-US" sz="40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893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Si hay inequidad el Estado debe implementar el principio de igualdad de oportunidade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Igualdad de oportunidades no sólo tarea del Estado, debe ser complementada con responsabilidad a nivel individu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Existencia de derechos requiere como contraparte aumento de responsabilidade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Personas en situación de pobreza poseen derechos básicos, pero también tienen responsabilidad en la superación de la pobrez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La mejor política social es que cada persona tenga un empleo digno que le proporcione un ingreso adecuado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En suma, abandona el asistencialismo y la dependencia y potencia la autoestima y auto-sustentació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3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b5481"/>
                </a:solidFill>
                <a:latin typeface="Bookman Old Style"/>
              </a:rPr>
              <a:t>Algunas Propuestas del Consejo: avances y tareas pendientes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016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3366"/>
                </a:solidFill>
                <a:latin typeface="Bookman Old Style"/>
              </a:rPr>
              <a:t>1</a:t>
            </a: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.   Familias de Bajos Ingresos</a:t>
            </a: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Empleabilidad e Ingresos de personas en situación de pobreza y vulnerabilidad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Pobreza Dura y Daño Soci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Metas, Umbrales e Institucionalidad Soci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	</a:t>
            </a: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2.   Trabajadoras y Trabajadores: Empleabilidad y Desempleo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Capacitación Labor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Seguro de Cesantí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Intermediación Labor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Mujeres y Mercado Labor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Comisión de Salario Mínimo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3366"/>
                </a:solidFill>
                <a:latin typeface="Bookman Old Style"/>
              </a:rPr>
              <a:t>	</a:t>
            </a:r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380880"/>
            <a:ext cx="85075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2b5481"/>
                </a:solidFill>
                <a:latin typeface="Bookman Old Style"/>
              </a:rPr>
              <a:t>Políticas para Quintil Menor Ingreso</a:t>
            </a:r>
            <a:endParaRPr b="0" lang="en-US" sz="36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Propuesta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Foco: 20% más pobre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Combina 2 mecanismos: Subsidio Ingreso Laboral y </a:t>
            </a: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   Transferencias Monetarias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Instrumentalización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Nivel subsidio: 30% para w =&lt; 7,5 UF/mes. Luego tasa decrece gradualmente hasta 0 para w = 15 UF/mes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Tasa 30%: 20% trabajadores y 10% empresas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Transf Mon. asociada a los hijos (15 años) 0,5 UF/niño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Distrib. recursos representaría c/u aprox. 50% tota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Condicionalidad Transferencia Monetaria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Niños tienen que ir al colegio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Niños tienen que ir a los consultorios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Personas en edad de trabajar tienen que estar capacitándose o estar buscando trabajo activamente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Medida de política más importante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Impacto en recursos, impacto en nº de personas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Asistencialismo mantiene gente sobreviviendo en la misma situación. Aquí se le abre otra opción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Triple objetivo: 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(i) Aumentar ingreso de personas en situación de   pobreza 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(ii) Incentivo a formalizarse 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(iii) Incentivo a ingresar al Mercado Laboral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Transferencias con condicionalidad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Transitoriedad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Gradualidad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Equipo técnico que acompañe al programa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Propuesta pro-empleo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Ambos instrumentos tienen sesgo pro-empleo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274680"/>
            <a:ext cx="8686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2b5481"/>
                </a:solidFill>
                <a:latin typeface="Bookman Old Style"/>
              </a:rPr>
              <a:t>Políticas para Quintil Menor Ingreso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Bookman Old Style"/>
              </a:rPr>
              <a:t>Subsidio al empleo juvenil</a:t>
            </a:r>
            <a:br>
              <a:rPr sz="4400"/>
            </a:br>
            <a:r>
              <a:rPr b="0" lang="en-US" sz="3200" spc="-1" strike="noStrike">
                <a:solidFill>
                  <a:srgbClr val="2b5481"/>
                </a:solidFill>
                <a:latin typeface="Bookman Old Style"/>
              </a:rPr>
              <a:t> a partir 1° julio 2009</a:t>
            </a: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Bookman Old Style"/>
              </a:rPr>
              <a:t>¿Quiénes se benefician con este subsidio?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Bookman Old Style"/>
              </a:rPr>
              <a:t>Los trabajadores dependientes que se rigen por el Código del Trabajo.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Bookman Old Style"/>
              </a:rPr>
              <a:t>Los trabajadores independientes.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Bookman Old Style"/>
              </a:rPr>
              <a:t>Sus respectivos empleadores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Bookman Old Style"/>
              </a:rPr>
              <a:t>30% del W bruto mensual si W&lt; $200 mil, un calculo menor entre $200 y $360 mil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Bookman Old Style"/>
              </a:rPr>
              <a:t>2/3 trabajador, 1/3 empleador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28548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¿Qué requisitos debe cumplir el empleador para recibir este subsidio de fomento al empleo juvenil?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Tener o contratar trabajadores que: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tengan entre 18 y 24 años de edad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pertenezcan al 40% más pobre de la población, de acuerdo a la Ficha de Protección Social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tengan un W bruto mensual &lt; $360.000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empleador estar al día pago de cotizaciones de seguridad social del trabajador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independientes deben pagar impuesto a la renta de segunda categoría, y estar al día en el pago de sus cotizaciones obligatorias de pensiones y salud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Comentario: hay espacio para ampliar el subsidio a un mayor N° de trabajadores (mujeres jefas de hogar?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Bookman Old Style"/>
              </a:rPr>
              <a:t>Políticas para protección frente a desempleo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Indemnizaciones por despido (IAS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Programas de empleo de emergenci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Seguro de cesantía (SC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Bookman Old Style"/>
              </a:rPr>
              <a:t>Riesgos a cubrir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Perder el empleo de manera involuntari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Desempleo de larga duración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Bookman Old Style"/>
              </a:rPr>
              <a:t>Beneficios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Monetario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Ayuda búsqueda nuevo empleo:                         intermediación y capacitació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b5481"/>
                </a:solidFill>
                <a:latin typeface="Bookman Old Style"/>
              </a:rPr>
              <a:t>Seguro de Cesantía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21844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b5481"/>
                </a:solidFill>
                <a:latin typeface="Bookman Old Style"/>
              </a:rPr>
              <a:t>Sistema Actua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IAS: Protección Limitad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Bajo % Trabajadores accede a las IAS (6%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Contrato Plazo Indefinido: 65%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Dura más de 1 año: 45%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Causal de despido (necesidades de la empresa): 20%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Otros efectos de las IAS: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Movilidad labor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Crecimiento de salario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Creación de puestos de trabajo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Modalidad de contratació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Judicialización e incertidumbre del proceso y pago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Bookman Old Style"/>
              </a:rPr>
              <a:t>Seguro de cesantía: si el contrato es indefinido: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Cuenta individual: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ookman Old Style"/>
              </a:rPr>
              <a:t>Cotizaciones empleador y trabajador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ookman Old Style"/>
              </a:rPr>
              <a:t>Acceso a todo evento: 12 meses cont. o discontinuos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Fondo Solidario: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ookman Old Style"/>
              </a:rPr>
              <a:t>Cotizaciones del empleador (0.8%)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12 m</a:t>
            </a:r>
            <a:r>
              <a:rPr b="0" lang="en-US" sz="2400" spc="-1" strike="noStrike">
                <a:solidFill>
                  <a:srgbClr val="003366"/>
                </a:solidFill>
                <a:latin typeface="Bookman Old Style"/>
              </a:rPr>
              <a:t>eses continuos de cotizaciones y c</a:t>
            </a: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inco pagos máximo si es despedido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Acceso limitado: sólo motivos similares a IAS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Sólo un 3% del total de beneficios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49968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Bookman Old Style"/>
              </a:rPr>
              <a:t>Propuesta del Consejo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Potenciar la cuenta individual y reducir el peso de </a:t>
            </a: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las IAS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Mayores cotizaciones patronales (de 1.6%  a 3%)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Eximir a los trabajadores de cotizar (hoy 0.6%)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Retiro a todo evento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Menores IAS (medio mes, tope11 años)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680" y="357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2b5481"/>
                </a:solidFill>
                <a:latin typeface="Bookman Old Style"/>
              </a:rPr>
              <a:t>Indice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Antecedentes desigualdad en Chile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Visión detrás de las propuestas del Consejo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Algunas propuestas: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Familias de bajos ingresos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Seguro de cesantía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Avances y tareas pendientes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56760" y="428760"/>
            <a:ext cx="857268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Bookman Old Style"/>
              </a:rPr>
              <a:t>Efectos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Eleva costos laborales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Pero protege al 100% de los trabajadores y eleva los pagos que recibe la mayoría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Facilita la movilidad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Reduce incertidumbre y costos judiciales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b5481"/>
                </a:solidFill>
                <a:latin typeface="Bookman Old Style"/>
              </a:rPr>
              <a:t>Cambios al Seguro de Cesantía</a:t>
            </a:r>
            <a:br>
              <a:rPr sz="3200"/>
            </a:br>
            <a:r>
              <a:rPr b="0" lang="en-US" sz="2400" spc="-1" strike="noStrike">
                <a:solidFill>
                  <a:srgbClr val="2b5481"/>
                </a:solidFill>
                <a:latin typeface="Bookman Old Style"/>
              </a:rPr>
              <a:t>a partir de mayo 2009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57140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Facilita acceso al Fondo de Cesantía Solidario, en promedio, sólo 2.4% de los beneficiarios accedía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Permite el acceso a este fondo a los trabajadores con contrato a plazo fijo, obra o faen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Amplía número de meses de beneficio del Fondo de Cesantía Solidario en aquellos períodos en que sea más difícil encontrar empleo (5 a 7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Financia programas de reinserción laboral de los trabajadores que reciben prestaciones de baja empleabilidad con cargo al Fondo de Cesantí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Bookman Old Style"/>
              </a:rPr>
              <a:t>Desafíos pendientes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4997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4568"/>
                </a:solidFill>
                <a:latin typeface="Bookman Old Style"/>
              </a:rPr>
              <a:t>Reforma al sistema de capacitación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4568"/>
                </a:solidFill>
                <a:latin typeface="Bookman Old Style"/>
              </a:rPr>
              <a:t>Aumento cobertura seguro cesantía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4568"/>
                </a:solidFill>
                <a:latin typeface="Bookman Old Style"/>
              </a:rPr>
              <a:t>Reforma IAS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4568"/>
                </a:solidFill>
                <a:latin typeface="Bookman Old Style"/>
              </a:rPr>
              <a:t>Reforma institucionalidad labora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4568"/>
                </a:solidFill>
                <a:latin typeface="Bookman Old Style"/>
              </a:rPr>
              <a:t>Comisión salario mínimo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4568"/>
                </a:solidFill>
                <a:latin typeface="Bookman Old Style"/>
              </a:rPr>
              <a:t>Negociación colectiva y adaptabilidad labora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4568"/>
                </a:solidFill>
                <a:latin typeface="Bookman Old Style"/>
              </a:rPr>
              <a:t>Diálogo socia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b5481"/>
                </a:solidFill>
                <a:latin typeface="Bookman Old Style"/>
              </a:rPr>
              <a:t>Niveles de Desigualdad en Chile</a:t>
            </a:r>
            <a:endParaRPr b="0" lang="en-US" sz="40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52" name="Picture 4" descr="graf banco mundial colores"/>
          <p:cNvPicPr/>
          <p:nvPr/>
        </p:nvPicPr>
        <p:blipFill>
          <a:blip r:embed="rId1"/>
          <a:stretch/>
        </p:blipFill>
        <p:spPr>
          <a:xfrm>
            <a:off x="611280" y="2652840"/>
            <a:ext cx="8208720" cy="3800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3" name="Text Box 7"/>
          <p:cNvSpPr/>
          <p:nvPr/>
        </p:nvSpPr>
        <p:spPr>
          <a:xfrm>
            <a:off x="2195640" y="172080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Bookman Old Style"/>
              </a:rPr>
              <a:t>Ranking mundial de desigualdad (año 2000)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b5481"/>
                </a:solidFill>
                <a:latin typeface="Tahoma"/>
              </a:rPr>
              <a:t>Los niveles de desigualdad varían poco a través del tiempo</a:t>
            </a:r>
            <a:endParaRPr b="0" lang="en-US" sz="36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96840" y="2901960"/>
            <a:ext cx="8950320" cy="25909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250920" y="208116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Índices de desigualdad de acuerdo al Ingreso Autónomo 1990-2006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b5481"/>
                </a:solidFill>
                <a:latin typeface="Bookman Old Style"/>
              </a:rPr>
              <a:t>Tasa de desempleo es más alta en los deciles de menor ingreso</a:t>
            </a:r>
            <a:endParaRPr b="0" lang="en-US" sz="3600" spc="-1" strike="noStrike">
              <a:solidFill>
                <a:srgbClr val="2b5481"/>
              </a:solidFill>
              <a:latin typeface="Tahoma"/>
            </a:endParaRPr>
          </a:p>
        </p:txBody>
      </p:sp>
      <p:graphicFrame>
        <p:nvGraphicFramePr>
          <p:cNvPr id="58" name="Object 4"/>
          <p:cNvGraphicFramePr/>
          <p:nvPr/>
        </p:nvGraphicFramePr>
        <p:xfrm>
          <a:off x="250920" y="2133720"/>
          <a:ext cx="8642160" cy="395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133720"/>
                    <a:ext cx="864216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Text Box 7"/>
          <p:cNvSpPr/>
          <p:nvPr/>
        </p:nvSpPr>
        <p:spPr>
          <a:xfrm>
            <a:off x="950760" y="6021360"/>
            <a:ext cx="13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ahoma"/>
              </a:rPr>
              <a:t>Casen 2006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b5481"/>
                </a:solidFill>
                <a:latin typeface="Book Antiqua"/>
              </a:rPr>
              <a:t>Tasa de empleo es baja en los deciles de menor ingreso</a:t>
            </a:r>
            <a:endParaRPr b="0" lang="en-US" sz="36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71380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b5481"/>
                </a:solidFill>
                <a:latin typeface="Bookman Old Style"/>
              </a:rPr>
              <a:t>Desempleo juvenil es mayor en quintil de menores ingresos</a:t>
            </a:r>
            <a:endParaRPr b="0" lang="en-US" sz="36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5280" y="1990800"/>
            <a:ext cx="8064360" cy="38829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712440" y="5799240"/>
            <a:ext cx="114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66"/>
                </a:solidFill>
                <a:latin typeface="Tahoma"/>
              </a:rPr>
              <a:t>Casen 2006</a:t>
            </a:r>
            <a:endParaRPr b="0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b5481"/>
                </a:solidFill>
                <a:latin typeface="Bookman Old Style"/>
              </a:rPr>
              <a:t>Los ingresos del trabajo aumentan significativamente a partir de 12 años de educación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250920" y="1773360"/>
          <a:ext cx="856908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56908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6"/>
          <p:cNvSpPr/>
          <p:nvPr/>
        </p:nvSpPr>
        <p:spPr>
          <a:xfrm>
            <a:off x="900000" y="6308640"/>
            <a:ext cx="7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985680" y="6400800"/>
            <a:ext cx="142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3366"/>
                </a:solidFill>
                <a:latin typeface="Tahoma"/>
              </a:rPr>
              <a:t>Fuente: Mideplan</a:t>
            </a:r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b5481"/>
                </a:solidFill>
                <a:latin typeface="Bookman Old Style"/>
              </a:rPr>
              <a:t>Algunas Consideraciones</a:t>
            </a:r>
            <a:endParaRPr b="0" lang="en-US" sz="40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Bookman Old Style"/>
              </a:rPr>
              <a:t>El mercado es un mecanismo muy eficiente para la asignación de recursos y la generación de empleo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Bookman Old Style"/>
              </a:rPr>
              <a:t>El mercado no resuelve el problema distributivo; tiende a preservar la distribución inicial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Bookman Old Style"/>
              </a:rPr>
              <a:t>La política social cumple el rol redistributivo de reducir la desigualdad de ingresos existente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3T16:10:02Z</dcterms:created>
  <dc:creator>HP_Propietario</dc:creator>
  <dc:description/>
  <dc:language>en-US</dc:language>
  <cp:lastModifiedBy>Carolina Mendez</cp:lastModifiedBy>
  <dcterms:modified xsi:type="dcterms:W3CDTF">2009-06-14T21:43:30Z</dcterms:modified>
  <cp:revision>47</cp:revision>
  <dc:subject/>
  <dc:title>Políticas para Quintil de Menor Ingreso</dc:title>
</cp:coreProperties>
</file>