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4B9-B44A-49A8-AEA1-54EEC704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D04-8DF8-4FF8-86A7-D5D1CC46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A45-BC0C-4FA8-98B5-9BFDCB5C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A25-D3B8-4562-8D78-985C2F1D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D66-8638-4638-8AE8-474F3C58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CBE-2262-42CF-B63D-EA04F10D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175-1895-4A52-A027-314EAD59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FBF-2802-4726-B10A-FE306AF3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05A-F0AE-4662-A464-46026621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F66-5BB3-4709-AA98-0D4BA79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98F-375C-4946-A5EB-759E8B4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50C-14C7-4053-839A-1C466179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8C42-614A-4BA2-AF8F-66C5598D6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Geología Estructural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GL41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7337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REC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200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00"/>
                </a:solidFill>
                <a:latin typeface="Arial"/>
              </a:rPr>
              <a:t>Rumbo-Buz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50920" y="2492280"/>
            <a:ext cx="3754440" cy="30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Buzamien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Ángulo de inclinación de una recta. Corresponde al ángulo que forman la recta con su rum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 rot="1596000">
            <a:off x="4149720" y="383040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 flipH="1" flipV="1">
            <a:off x="4797360" y="2967120"/>
            <a:ext cx="244800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4078440" y="3903840"/>
            <a:ext cx="460836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5302080" y="33274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 rot="1632000">
            <a:off x="4081680" y="46954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2"/>
          <p:cNvSpPr/>
          <p:nvPr/>
        </p:nvSpPr>
        <p:spPr>
          <a:xfrm>
            <a:off x="6070680" y="3975120"/>
            <a:ext cx="166680" cy="43164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 flipH="1">
            <a:off x="6381720" y="361476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7105320" y="3398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Pla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6600"/>
                </a:solidFill>
                <a:uFillTx/>
                <a:latin typeface="Arial"/>
              </a:rPr>
              <a:t>Geometría Analí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Arial"/>
              </a:rPr>
              <a:t>3 pu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Arial"/>
              </a:rPr>
              <a:t>Punto-pendiente (gradien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Arial"/>
              </a:rPr>
              <a:t>Recta-pu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6600"/>
                </a:solidFill>
                <a:uFillTx/>
                <a:latin typeface="Arial"/>
              </a:rPr>
              <a:t>Ge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Arial"/>
              </a:rPr>
              <a:t>Rumbo-mant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Arial"/>
              </a:rPr>
              <a:t>Dip-DipD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Pla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00"/>
                </a:solidFill>
                <a:latin typeface="Arial"/>
              </a:rPr>
              <a:t>Rumbo-mant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39640" y="2637000"/>
            <a:ext cx="4041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m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ínea que resulta de la intersección del plano geológico con un plano horizontal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Rumbo003-gr"/>
          <p:cNvPicPr/>
          <p:nvPr/>
        </p:nvPicPr>
        <p:blipFill>
          <a:blip r:embed="rId2"/>
          <a:stretch/>
        </p:blipFill>
        <p:spPr>
          <a:xfrm>
            <a:off x="4716360" y="2565360"/>
            <a:ext cx="40417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Pla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00"/>
                </a:solidFill>
                <a:latin typeface="Arial"/>
              </a:rPr>
              <a:t>Rumbo-mant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79280" y="2781360"/>
            <a:ext cx="40309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o 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Ángulo de inclinación de un plano en la dirección de máxima pend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 flipH="1" rot="19956000">
            <a:off x="4500720" y="321300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20430000">
            <a:off x="5003640" y="2925720"/>
            <a:ext cx="2880000" cy="819360"/>
          </a:xfrm>
          <a:prstGeom prst="parallelogram">
            <a:avLst>
              <a:gd name="adj" fmla="val 193630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V="1">
            <a:off x="3922560" y="3285720"/>
            <a:ext cx="396108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V="1">
            <a:off x="6010200" y="2493720"/>
            <a:ext cx="129708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6010200" y="3933720"/>
            <a:ext cx="172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 rot="235800">
            <a:off x="4791600" y="4365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 rot="18642000">
            <a:off x="5598360" y="29818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 rot="20524800">
            <a:off x="3638160" y="45813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 rot="18732000">
            <a:off x="6084720" y="3137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6421320" y="3502080"/>
            <a:ext cx="166680" cy="50328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5148360" y="2925720"/>
            <a:ext cx="11509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4359240" y="2494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00"/>
                </a:solidFill>
                <a:latin typeface="Arial"/>
              </a:rPr>
              <a:t>Rumbo-mant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0"/>
          <p:cNvSpPr/>
          <p:nvPr/>
        </p:nvSpPr>
        <p:spPr>
          <a:xfrm flipH="1" rot="19956000">
            <a:off x="4571640" y="342900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Pla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971640" y="2349360"/>
            <a:ext cx="3682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o aparente: Dirección de inclinación de un plano en cualquier dirección diferente de la de máxima pe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8"/>
          <p:cNvSpPr/>
          <p:nvPr/>
        </p:nvSpPr>
        <p:spPr>
          <a:xfrm rot="20430000">
            <a:off x="5591160" y="3234960"/>
            <a:ext cx="2879640" cy="819000"/>
          </a:xfrm>
          <a:prstGeom prst="parallelogram">
            <a:avLst>
              <a:gd name="adj" fmla="val 193691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 flipV="1">
            <a:off x="4510080" y="359532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V="1">
            <a:off x="6597720" y="2803320"/>
            <a:ext cx="129708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6597720" y="424332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 rot="235800">
            <a:off x="5378760" y="467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 rot="18642000">
            <a:off x="6185520" y="3291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 rot="20524800">
            <a:off x="4225680" y="48909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 rot="18732000">
            <a:off x="6671880" y="344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V="1">
            <a:off x="6599160" y="4172040"/>
            <a:ext cx="1728720" cy="71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7"/>
          <p:cNvSpPr/>
          <p:nvPr/>
        </p:nvSpPr>
        <p:spPr>
          <a:xfrm flipV="1">
            <a:off x="6599160" y="3379320"/>
            <a:ext cx="1079640" cy="86364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8"/>
          <p:cNvSpPr/>
          <p:nvPr/>
        </p:nvSpPr>
        <p:spPr>
          <a:xfrm>
            <a:off x="7223040" y="3738600"/>
            <a:ext cx="168480" cy="43344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9"/>
          <p:cNvSpPr/>
          <p:nvPr/>
        </p:nvSpPr>
        <p:spPr>
          <a:xfrm flipV="1">
            <a:off x="7175520" y="2443320"/>
            <a:ext cx="107964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2286000" y="642960"/>
            <a:ext cx="4572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Pla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00"/>
                </a:solidFill>
                <a:latin typeface="Arial"/>
              </a:rPr>
              <a:t>Dip-Dip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395280" y="2349360"/>
            <a:ext cx="382752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p = mant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rección de máxima pendiente de un plano. Proyección al plano horizontal de la L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 flipH="1" rot="19956000">
            <a:off x="4571640" y="342900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9"/>
          <p:cNvSpPr/>
          <p:nvPr/>
        </p:nvSpPr>
        <p:spPr>
          <a:xfrm rot="20430000">
            <a:off x="5086440" y="3169800"/>
            <a:ext cx="2879640" cy="819360"/>
          </a:xfrm>
          <a:prstGeom prst="parallelogram">
            <a:avLst>
              <a:gd name="adj" fmla="val 193606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V="1">
            <a:off x="4005360" y="353016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V="1">
            <a:off x="6093000" y="2738160"/>
            <a:ext cx="12967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6093000" y="4178160"/>
            <a:ext cx="172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 rot="235800">
            <a:off x="4874040" y="46101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 rot="18642000">
            <a:off x="5680800" y="3226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 rot="20524800">
            <a:off x="3720600" y="4826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 rot="18732000">
            <a:off x="6167160" y="3381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 rot="295200">
            <a:off x="6311160" y="42498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59908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Pla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24000" y="2205000"/>
            <a:ext cx="375444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s el ángulo que forma una recta con el rumbo de un plano que la conti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 rot="1596000">
            <a:off x="4221000" y="36889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 flipH="1" rot="20039400">
            <a:off x="4869360" y="2881080"/>
            <a:ext cx="2016000" cy="1728720"/>
          </a:xfrm>
          <a:prstGeom prst="parallelogram">
            <a:avLst>
              <a:gd name="adj" fmla="val 29155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 rot="2741400">
            <a:off x="6256080" y="3010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 flipV="1">
            <a:off x="4870440" y="3746520"/>
            <a:ext cx="3024360" cy="144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 rot="1632000">
            <a:off x="4154400" y="45381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 rot="19949400">
            <a:off x="7536960" y="3673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H="1" flipV="1">
            <a:off x="4151160" y="3673440"/>
            <a:ext cx="2951280" cy="432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 rot="504000">
            <a:off x="4355280" y="34513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4"/>
          <p:cNvSpPr/>
          <p:nvPr/>
        </p:nvSpPr>
        <p:spPr>
          <a:xfrm>
            <a:off x="6311880" y="4033800"/>
            <a:ext cx="71280" cy="43200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 flipH="1">
            <a:off x="6526080" y="3457440"/>
            <a:ext cx="865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7249320" y="3097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Mapas Geológic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00"/>
                </a:solidFill>
                <a:latin typeface="Arial"/>
              </a:rPr>
              <a:t>Representación en planta de unidades ge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00"/>
                </a:solidFill>
                <a:latin typeface="Arial"/>
              </a:rPr>
              <a:t>Topografía (*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00"/>
                </a:solidFill>
                <a:latin typeface="Arial"/>
              </a:rPr>
              <a:t>Lit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00"/>
                </a:solidFill>
                <a:latin typeface="Arial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ofia Rebolled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rebolle@ce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esar Arriagada cearriag@ce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atías Peña mapena@ing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Hernán Bobadilla hbobadil@ce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Gabriel Orozco oorozco@ing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rolina Valenzuela carovale@ing.uchile.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odrigo Alcaíno ralcaino@ing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Y también U-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6" descr="surface"/>
          <p:cNvPicPr/>
          <p:nvPr/>
        </p:nvPicPr>
        <p:blipFill>
          <a:blip r:embed="rId2"/>
          <a:stretch/>
        </p:blipFill>
        <p:spPr>
          <a:xfrm>
            <a:off x="539640" y="1628640"/>
            <a:ext cx="8209080" cy="4503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Mapas Geológic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Top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surface+contour"/>
          <p:cNvPicPr/>
          <p:nvPr/>
        </p:nvPicPr>
        <p:blipFill>
          <a:blip r:embed="rId2"/>
          <a:stretch/>
        </p:blipFill>
        <p:spPr>
          <a:xfrm>
            <a:off x="539640" y="1628640"/>
            <a:ext cx="8209080" cy="45072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Mapas Geológic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Top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surface+contour+proy"/>
          <p:cNvPicPr/>
          <p:nvPr/>
        </p:nvPicPr>
        <p:blipFill>
          <a:blip r:embed="rId2"/>
          <a:stretch/>
        </p:blipFill>
        <p:spPr>
          <a:xfrm>
            <a:off x="539640" y="1628640"/>
            <a:ext cx="8209080" cy="45021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Mapas Geológic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Top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Mapas Geológic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Estructuras geológicas y sus represen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Mapas Geológic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9900"/>
                </a:solidFill>
                <a:latin typeface="Arial"/>
              </a:rPr>
              <a:t>Lit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9900"/>
                </a:solidFill>
                <a:latin typeface="Arial"/>
              </a:rPr>
              <a:t>Representación geométrica de unidades de roca. Por ahora supondremos que estos cuerpos tienen formas planares, o bien, que sus fornteras estan caracterizadas por un plano. (**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Regla de las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Capinc02"/>
          <p:cNvPicPr/>
          <p:nvPr/>
        </p:nvPicPr>
        <p:blipFill>
          <a:blip r:embed="rId2"/>
          <a:stretch/>
        </p:blipFill>
        <p:spPr>
          <a:xfrm>
            <a:off x="1187280" y="2205000"/>
            <a:ext cx="3961080" cy="3592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apinck2"/>
          <p:cNvPicPr/>
          <p:nvPr/>
        </p:nvPicPr>
        <p:blipFill>
          <a:blip r:embed="rId3"/>
          <a:stretch/>
        </p:blipFill>
        <p:spPr>
          <a:xfrm>
            <a:off x="5435640" y="2205000"/>
            <a:ext cx="2908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Regla de las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6" descr="Capinc01"/>
          <p:cNvPicPr/>
          <p:nvPr/>
        </p:nvPicPr>
        <p:blipFill>
          <a:blip r:embed="rId2"/>
          <a:stretch/>
        </p:blipFill>
        <p:spPr>
          <a:xfrm>
            <a:off x="1042920" y="2276640"/>
            <a:ext cx="3960720" cy="3593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apinck1"/>
          <p:cNvPicPr/>
          <p:nvPr/>
        </p:nvPicPr>
        <p:blipFill>
          <a:blip r:embed="rId3"/>
          <a:stretch/>
        </p:blipFill>
        <p:spPr>
          <a:xfrm>
            <a:off x="5292720" y="2276640"/>
            <a:ext cx="3017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Regla de las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6" descr="Capinck5"/>
          <p:cNvPicPr/>
          <p:nvPr/>
        </p:nvPicPr>
        <p:blipFill>
          <a:blip r:embed="rId2"/>
          <a:stretch/>
        </p:blipFill>
        <p:spPr>
          <a:xfrm>
            <a:off x="5148360" y="2565360"/>
            <a:ext cx="2894040" cy="345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apinc05"/>
          <p:cNvPicPr/>
          <p:nvPr/>
        </p:nvPicPr>
        <p:blipFill>
          <a:blip r:embed="rId3"/>
          <a:stretch/>
        </p:blipFill>
        <p:spPr>
          <a:xfrm>
            <a:off x="1042920" y="2565360"/>
            <a:ext cx="38181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Regla de las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8" descr="Capinck4"/>
          <p:cNvPicPr/>
          <p:nvPr/>
        </p:nvPicPr>
        <p:blipFill>
          <a:blip r:embed="rId2"/>
          <a:stretch/>
        </p:blipFill>
        <p:spPr>
          <a:xfrm>
            <a:off x="5292720" y="2708280"/>
            <a:ext cx="2394000" cy="2860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Capinc04"/>
          <p:cNvPicPr/>
          <p:nvPr/>
        </p:nvPicPr>
        <p:blipFill>
          <a:blip r:embed="rId3"/>
          <a:stretch/>
        </p:blipFill>
        <p:spPr>
          <a:xfrm>
            <a:off x="1908000" y="2708280"/>
            <a:ext cx="3192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Regla de las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6" descr="Capinc03"/>
          <p:cNvPicPr/>
          <p:nvPr/>
        </p:nvPicPr>
        <p:blipFill>
          <a:blip r:embed="rId2"/>
          <a:stretch/>
        </p:blipFill>
        <p:spPr>
          <a:xfrm>
            <a:off x="971640" y="2276640"/>
            <a:ext cx="3889440" cy="352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apinck3"/>
          <p:cNvPicPr/>
          <p:nvPr/>
        </p:nvPicPr>
        <p:blipFill>
          <a:blip r:embed="rId3"/>
          <a:stretch/>
        </p:blipFill>
        <p:spPr>
          <a:xfrm>
            <a:off x="5148360" y="2276640"/>
            <a:ext cx="2954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sideraciones administra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medio Laboratorio ≥ 4 para apro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medio Laboratorio = 50% nota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stencia obligatoria ( = 100%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Mapas Geológic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200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Arial"/>
              </a:rPr>
              <a:t>Método de los 2 pun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403280" y="54936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6836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622440" y="1400040"/>
            <a:ext cx="8064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9"/>
          <p:cNvSpPr/>
          <p:nvPr/>
        </p:nvSpPr>
        <p:spPr>
          <a:xfrm>
            <a:off x="1270080" y="3440160"/>
            <a:ext cx="4392360" cy="2855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0"/>
          <p:cNvSpPr/>
          <p:nvPr/>
        </p:nvSpPr>
        <p:spPr>
          <a:xfrm>
            <a:off x="1846440" y="2011320"/>
            <a:ext cx="4128840" cy="356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1"/>
          <p:cNvSpPr/>
          <p:nvPr/>
        </p:nvSpPr>
        <p:spPr>
          <a:xfrm>
            <a:off x="1487520" y="2911320"/>
            <a:ext cx="4967280" cy="3168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2"/>
          <p:cNvSpPr/>
          <p:nvPr/>
        </p:nvSpPr>
        <p:spPr>
          <a:xfrm>
            <a:off x="2206800" y="1832040"/>
            <a:ext cx="4967280" cy="3168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3"/>
          <p:cNvSpPr/>
          <p:nvPr/>
        </p:nvSpPr>
        <p:spPr>
          <a:xfrm>
            <a:off x="2050920" y="1844640"/>
            <a:ext cx="4764240" cy="37670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4"/>
          <p:cNvSpPr/>
          <p:nvPr/>
        </p:nvSpPr>
        <p:spPr>
          <a:xfrm flipH="1">
            <a:off x="5303520" y="4280040"/>
            <a:ext cx="718920" cy="1079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769320" y="3200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6"/>
          <p:cNvSpPr/>
          <p:nvPr/>
        </p:nvSpPr>
        <p:spPr>
          <a:xfrm>
            <a:off x="1561320" y="2624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7"/>
          <p:cNvSpPr/>
          <p:nvPr/>
        </p:nvSpPr>
        <p:spPr>
          <a:xfrm>
            <a:off x="5878440" y="44956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8"/>
          <p:cNvSpPr/>
          <p:nvPr/>
        </p:nvSpPr>
        <p:spPr>
          <a:xfrm flipV="1">
            <a:off x="6095880" y="442440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5305680" y="4567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 flipH="1">
            <a:off x="6382440" y="2911320"/>
            <a:ext cx="1798920" cy="9352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1"/>
          <p:cNvSpPr/>
          <p:nvPr/>
        </p:nvSpPr>
        <p:spPr>
          <a:xfrm>
            <a:off x="7248960" y="3848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2"/>
          <p:cNvSpPr/>
          <p:nvPr/>
        </p:nvSpPr>
        <p:spPr>
          <a:xfrm>
            <a:off x="8165520" y="3147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3"/>
          <p:cNvSpPr/>
          <p:nvPr/>
        </p:nvSpPr>
        <p:spPr>
          <a:xfrm>
            <a:off x="7176600" y="4856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4"/>
          <p:cNvSpPr/>
          <p:nvPr/>
        </p:nvSpPr>
        <p:spPr>
          <a:xfrm>
            <a:off x="6455880" y="5935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5"/>
          <p:cNvSpPr/>
          <p:nvPr/>
        </p:nvSpPr>
        <p:spPr>
          <a:xfrm flipH="1">
            <a:off x="6814800" y="312732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6"/>
          <p:cNvSpPr/>
          <p:nvPr/>
        </p:nvSpPr>
        <p:spPr>
          <a:xfrm>
            <a:off x="6817320" y="269568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47"/>
          <p:cNvSpPr/>
          <p:nvPr/>
        </p:nvSpPr>
        <p:spPr>
          <a:xfrm>
            <a:off x="6959520" y="3559320"/>
            <a:ext cx="82800" cy="28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Mapas Geológic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Arial"/>
              </a:rPr>
              <a:t>Método de los 3 pun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6836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2627280" y="2133360"/>
            <a:ext cx="3529080" cy="3382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979640" y="4365720"/>
            <a:ext cx="3529080" cy="71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0"/>
          <p:cNvSpPr/>
          <p:nvPr/>
        </p:nvSpPr>
        <p:spPr>
          <a:xfrm>
            <a:off x="971640" y="3645000"/>
            <a:ext cx="5400720" cy="2220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1258920" y="2228760"/>
            <a:ext cx="5184720" cy="255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2"/>
          <p:cNvSpPr/>
          <p:nvPr/>
        </p:nvSpPr>
        <p:spPr>
          <a:xfrm>
            <a:off x="971640" y="2913120"/>
            <a:ext cx="5472000" cy="23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3"/>
          <p:cNvSpPr/>
          <p:nvPr/>
        </p:nvSpPr>
        <p:spPr>
          <a:xfrm>
            <a:off x="971640" y="3165480"/>
            <a:ext cx="5545080" cy="14400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644364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44364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44364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7"/>
          <p:cNvSpPr/>
          <p:nvPr/>
        </p:nvSpPr>
        <p:spPr>
          <a:xfrm>
            <a:off x="378000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6156360" y="1844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9"/>
          <p:cNvSpPr/>
          <p:nvPr/>
        </p:nvSpPr>
        <p:spPr>
          <a:xfrm>
            <a:off x="6804000" y="2708280"/>
            <a:ext cx="1871640" cy="72072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74516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6227640" y="292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7742880" y="2276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7956720" y="2708280"/>
            <a:ext cx="215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4"/>
          <p:cNvSpPr/>
          <p:nvPr/>
        </p:nvSpPr>
        <p:spPr>
          <a:xfrm>
            <a:off x="7885080" y="3141720"/>
            <a:ext cx="824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5"/>
          <p:cNvSpPr/>
          <p:nvPr/>
        </p:nvSpPr>
        <p:spPr>
          <a:xfrm flipH="1" flipV="1">
            <a:off x="4716000" y="3500280"/>
            <a:ext cx="792360" cy="865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471816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 flipV="1">
            <a:off x="478800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 flipH="1" flipV="1">
            <a:off x="4788000" y="342900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Brújul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478800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ircul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apoya el espejo contra el plano a medi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centra el nivel e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estima la dirección de la inclinación y se toma la medida mas cerca de esta dire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usa el clinóme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7" descr="Brunto08"/>
          <p:cNvPicPr/>
          <p:nvPr/>
        </p:nvPicPr>
        <p:blipFill>
          <a:blip r:embed="rId2"/>
          <a:stretch/>
        </p:blipFill>
        <p:spPr>
          <a:xfrm>
            <a:off x="611280" y="1557360"/>
            <a:ext cx="3343320" cy="2019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8" descr="Brunto07"/>
          <p:cNvPicPr/>
          <p:nvPr/>
        </p:nvPicPr>
        <p:blipFill>
          <a:blip r:embed="rId3"/>
          <a:stretch/>
        </p:blipFill>
        <p:spPr>
          <a:xfrm>
            <a:off x="611280" y="3645000"/>
            <a:ext cx="27208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348000" y="981000"/>
            <a:ext cx="5616720" cy="510084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Tipo Ameri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El costado de la brújula se coloca en dirección del rum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Se centra la burbuja de nivel esf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Se mide el rumbo indistintamente hacia el E u W el lado de la aguja mas cercano al norte. Ej: N30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Luego se  pone la brújula perpendicular al rumbo, y se usa el clinómetro.      Se centra el nivel tubular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Se mide el clinómetro y se estima la dirección de mayor inclinación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Brunto05"/>
          <p:cNvPicPr/>
          <p:nvPr/>
        </p:nvPicPr>
        <p:blipFill>
          <a:blip r:embed="rId2"/>
          <a:stretch/>
        </p:blipFill>
        <p:spPr>
          <a:xfrm>
            <a:off x="611280" y="1484280"/>
            <a:ext cx="2028600" cy="1562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Brunto06"/>
          <p:cNvPicPr/>
          <p:nvPr/>
        </p:nvPicPr>
        <p:blipFill>
          <a:blip r:embed="rId3"/>
          <a:stretch/>
        </p:blipFill>
        <p:spPr>
          <a:xfrm>
            <a:off x="611280" y="3068640"/>
            <a:ext cx="2028600" cy="1562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brujulaclinom01n"/>
          <p:cNvPicPr/>
          <p:nvPr/>
        </p:nvPicPr>
        <p:blipFill>
          <a:blip r:embed="rId4"/>
          <a:stretch/>
        </p:blipFill>
        <p:spPr>
          <a:xfrm>
            <a:off x="0" y="4724280"/>
            <a:ext cx="2857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Activ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2268360" y="2924280"/>
            <a:ext cx="828072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idas a terre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ernes 24 Abril (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lfalf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otro más (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rdiller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susceptibles a modific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ALU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bajo en laboratorio (entrega al final de la hora, o al comienzo de la siguiente ses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ormes de salidas a ter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troles 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600" spc="-1" strike="noStrike">
                <a:solidFill>
                  <a:srgbClr val="ff6600"/>
                </a:solidFill>
                <a:latin typeface="Arial"/>
              </a:rPr>
              <a:t>SESIÓN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GENERALIDA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Arial"/>
              </a:rPr>
              <a:t>Caracterización geológica de rectas y planos en el espa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Arial"/>
              </a:rPr>
              <a:t>Mapas geo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REC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6600"/>
                </a:solidFill>
                <a:uFillTx/>
                <a:latin typeface="Arial"/>
              </a:rPr>
              <a:t>Geometría An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6600"/>
                </a:solidFill>
                <a:latin typeface="Arial"/>
              </a:rPr>
              <a:t>2 pu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6600"/>
                </a:solidFill>
                <a:latin typeface="Arial"/>
              </a:rPr>
              <a:t>Punto-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6600"/>
                </a:solidFill>
                <a:uFillTx/>
                <a:latin typeface="Arial"/>
              </a:rPr>
              <a:t>Ge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6600"/>
                </a:solidFill>
                <a:latin typeface="Arial"/>
              </a:rPr>
              <a:t>Rumbo-Buz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6600"/>
                </a:solidFill>
                <a:latin typeface="Arial"/>
              </a:rPr>
              <a:t>Dip-DipD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6600"/>
                </a:solidFill>
                <a:latin typeface="Arial"/>
              </a:rPr>
              <a:t>REC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2000" cy="4525920"/>
          </a:xfrm>
          <a:prstGeom prst="rect">
            <a:avLst/>
          </a:prstGeom>
          <a:solidFill>
            <a:srgbClr val="99cc00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00"/>
                </a:solidFill>
                <a:latin typeface="Arial"/>
              </a:rPr>
              <a:t>Rumbo-Buz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395280" y="2637000"/>
            <a:ext cx="3745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umb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ción ortogonal de una recta sobre un plano horizo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 rot="1596000">
            <a:off x="4281480" y="366048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 flipV="1">
            <a:off x="4930560" y="2781360"/>
            <a:ext cx="244764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4211640" y="3718080"/>
            <a:ext cx="460836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435640" y="31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 rot="1632000">
            <a:off x="4214880" y="4509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 rot="882600">
            <a:off x="7593840" y="4659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03:51:45Z</dcterms:created>
  <dc:creator>Gabriel</dc:creator>
  <dc:description/>
  <dc:language>en-US</dc:language>
  <cp:lastModifiedBy>Usuario</cp:lastModifiedBy>
  <dcterms:modified xsi:type="dcterms:W3CDTF">2009-03-20T19:37:46Z</dcterms:modified>
  <cp:revision>20</cp:revision>
  <dc:subject/>
  <dc:title>Geología Estructural GL41B</dc:title>
</cp:coreProperties>
</file>