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A95-B340-42B5-9F81-783D5A7C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391-96A4-4568-BFE5-E7F8E5BE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DF2-33D8-421B-A59F-08EFA685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CF3-D74B-4025-8767-B76239D1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EEE7-521F-49CD-B9BE-E7A72715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890A-5604-4404-826C-B1B83EDA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5D70-6F05-4985-8FDC-F343FA92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CBDF-5971-4A34-9AA5-D62F0258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1350-5A1C-49F5-9811-A6AE57DD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2B42-B6DB-4E95-B159-2E82F00E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0F5-36E9-406C-9D97-699EB94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406-6FD7-497C-BA17-B5AA32FC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3A3B-D821-4447-8DFE-5C2395DC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333E-9D16-4E28-90F5-DC8B80B6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2D2B-F8F9-4831-A604-D68E1A05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6C39-C23B-44D3-BB9E-581E23B4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3066-0006-42B5-85C0-B3FB0D72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FE3-EC1F-4298-82FD-3C1E4AED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CF9-7818-4F8B-9634-DF11938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A0D-868F-426C-B3F4-C32FC7F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737-C36B-463E-BEC6-6D8988DD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2E31-6628-4288-9002-7D00541D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BD7-3647-499E-B5F6-0E1B8AD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13C-2655-4C3B-98E3-31FBA457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1973-8027-4853-8FFC-EB1CFF78A3D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6FF9-5DB5-43E2-BF23-FD52D4E638C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ología Estru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1812960"/>
            <a:ext cx="86040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geología estructural y la tectónica son dos ramas de la geología íntimamente relacionad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bas se ocupan de manera similar de estudiar la evolución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práctica de la geología estructural y de la tectónica requiere familiaridad con el método científico y con  una variedad de técnicas de recopilación de datos y  de análisis.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404640"/>
            <a:ext cx="876312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scala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escala del mundo entero   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gional o Provinci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: pobremente definida generalmente una provincia fisiográfica, un cinturón montañoso 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croscópic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más grande que el área que se puede ver estando parado en un lugar ( ej. un cuadrángulo) 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k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1280" y="533520"/>
            <a:ext cx="8460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esoscópica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: rasgos observables en un lugar del terreno 10</a:t>
            </a:r>
            <a:r>
              <a:rPr b="0" lang="es-ES_tradnl" sz="3400" spc="-1" strike="noStrike" baseline="30000">
                <a:solidFill>
                  <a:srgbClr val="006633"/>
                </a:solidFill>
                <a:latin typeface="Garamond"/>
              </a:rPr>
              <a:t>-5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-10</a:t>
            </a:r>
            <a:r>
              <a:rPr b="0" lang="es-ES_tradnl" sz="3400" spc="-1" strike="noStrike" baseline="30000">
                <a:solidFill>
                  <a:srgbClr val="006633"/>
                </a:solidFill>
                <a:latin typeface="Garamond"/>
              </a:rPr>
              <a:t>-1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km. (1 cm a 100 m)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Microscópica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: visible con microscopio </a:t>
            </a:r>
            <a:br>
              <a:rPr sz="3400"/>
            </a:b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                          10</a:t>
            </a:r>
            <a:r>
              <a:rPr b="0" lang="es-ES_tradnl" sz="3400" spc="-1" strike="noStrike" baseline="30000">
                <a:solidFill>
                  <a:srgbClr val="006633"/>
                </a:solidFill>
                <a:latin typeface="Garamond"/>
              </a:rPr>
              <a:t>-8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-10</a:t>
            </a:r>
            <a:r>
              <a:rPr b="0" lang="es-ES_tradnl" sz="3400" spc="-1" strike="noStrike" baseline="30000">
                <a:solidFill>
                  <a:srgbClr val="006633"/>
                </a:solidFill>
                <a:latin typeface="Garamond"/>
              </a:rPr>
              <a:t>-6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km</a:t>
            </a:r>
            <a:br>
              <a:rPr sz="3400"/>
            </a:br>
            <a:br>
              <a:rPr sz="3400"/>
            </a:br>
            <a:r>
              <a:rPr b="1" lang="es-ES_tradnl" sz="3400" spc="-1" strike="noStrike">
                <a:solidFill>
                  <a:srgbClr val="006633"/>
                </a:solidFill>
                <a:latin typeface="Garamond"/>
              </a:rPr>
              <a:t>Submicroscópica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: visible con microscopio                  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electrónico  &lt; 10</a:t>
            </a:r>
            <a:r>
              <a:rPr b="0" lang="es-ES_tradnl" sz="3400" spc="-1" strike="noStrike" baseline="30000">
                <a:solidFill>
                  <a:srgbClr val="006633"/>
                </a:solidFill>
                <a:latin typeface="Garamond"/>
              </a:rPr>
              <a:t>-8</a:t>
            </a: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km.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388944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617400"/>
            <a:ext cx="684072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33640" y="1200240"/>
            <a:ext cx="687672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32000" y="781200"/>
            <a:ext cx="6480000" cy="52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861840"/>
            <a:ext cx="8064360" cy="50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384120"/>
            <a:ext cx="7705800" cy="592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32000" y="6308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 Lís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59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533520"/>
            <a:ext cx="821844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ierra es un planeta dinámico. Muchas de las rocas que afloran en superficie,  revelan una historia de continua activida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geología estructural y la tectónica se preocupan de la reconstrucción de los fenómenos que han dado forma  a las capas superi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fenómenos pueden involucrar movimiento de cuerpo rígido, que implica un desplazamiento sin cambio de forma ni de tamaño, el cual no deja huellas en la roca o DEFORMACIÓN la cual involucra un cambio de tamaño o de forma de la roca. Esta última deja un registro en la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5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00000" y="741240"/>
            <a:ext cx="7704360" cy="51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8508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673200"/>
            <a:ext cx="813600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671400"/>
            <a:ext cx="7993080" cy="52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457200"/>
            <a:ext cx="801216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La geología estructural se preocupa del estudio de la deformación de rocas a una escala que varía de submicroscópica a reg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ctónica es principalmente el estudio de la deformación a escala que varía de regional a global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18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Todas las ramas de la geología aportan datos importantes a la geología estructural (ej.):</a:t>
            </a:r>
            <a:br>
              <a:rPr sz="3800"/>
            </a:b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Petrología y geoquímica</a:t>
            </a: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     </a:t>
            </a:r>
            <a:br>
              <a:rPr sz="3200"/>
            </a:b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 T°, P, y edades de deformación y metamorfismo</a:t>
            </a:r>
            <a:br>
              <a:rPr sz="3200"/>
            </a:b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Sedimentología y paleontología</a:t>
            </a: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           importantes para reconstruir patrones y edades de eventos tectónicos</a:t>
            </a:r>
            <a:br>
              <a:rPr sz="3200"/>
            </a:b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-</a:t>
            </a:r>
            <a:r>
              <a:rPr b="1" lang="es-ES_tradnl" sz="3200" spc="-1" strike="noStrike">
                <a:solidFill>
                  <a:srgbClr val="006633"/>
                </a:solidFill>
                <a:latin typeface="Garamond"/>
              </a:rPr>
              <a:t>Geofísica   y paleomagnetismo</a:t>
            </a:r>
            <a:r>
              <a:rPr b="0" lang="es-ES_tradnl" sz="3200" spc="-1" strike="noStrike">
                <a:solidFill>
                  <a:srgbClr val="006633"/>
                </a:solidFill>
                <a:latin typeface="Garamond"/>
              </a:rPr>
              <a:t>                movimiento de placa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étodo para el estud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bservación  de estructuras o rasgos deformad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ucra la descripción de la geometría y orientación de estructuras individuales y su relación con otras estructuras. Medición y caracteriz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perimen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 muchas veces se intenta reproducir en laboratorio rasgos observados en rocas deformadas. Sirven para interpre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298440"/>
            <a:ext cx="828036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Teóricos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os conceptuales de formación de estructuras y la posterior validación de ellos han permitido avanzar en el conocimiento de la geología estructural.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Geométricos: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interpretaciones 3D de la distribución y orientación de las estructuras en la tierra.  Están basados en mapeos, datos geofísicos  y otras como sondajes, etc. Estos modelos se presentan en mapas y perfil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3b812f"/>
                </a:solidFill>
                <a:latin typeface="Garamond"/>
              </a:rPr>
              <a:t>Cinemáticos</a:t>
            </a:r>
            <a:r>
              <a:rPr b="0" lang="es-ES_tradnl" sz="3800" spc="-1" strike="noStrike">
                <a:solidFill>
                  <a:srgbClr val="3b812f"/>
                </a:solidFill>
                <a:latin typeface="Garamond"/>
              </a:rPr>
              <a:t>   muestran todo el proceso que sufrió una roca desde un estado no deformado a su estado final, deformado.Un buen ejemplo es el de los movimientos de placas. </a:t>
            </a: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04640"/>
            <a:ext cx="8380440" cy="68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ortancia de la esca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os los campos de la geología estructural dependen de los datos observados en las  rocas deformadas de la corteza.  Los estudios comienzan con un estudio a escala del afloramiento : escala de pocos milímetros a unos me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geólogos en general, y los geólogos estructurales en particular, requieren trabajar con escalas. La escala de cualquier estudio depende del objetivo de ese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ofia</cp:lastModifiedBy>
  <cp:lastPrinted>1999-03-10T22:01:50Z</cp:lastPrinted>
  <dcterms:modified xsi:type="dcterms:W3CDTF">2009-03-09T12:42:04Z</dcterms:modified>
  <cp:revision>31</cp:revision>
  <dc:subject/>
  <dc:title>Geología Estructural</dc:title>
</cp:coreProperties>
</file>